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0D8-34B3-4282-B124-935D9FC1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E3D-B61F-4094-9853-70A3262A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F15-C318-4A20-86FD-4276219A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92A-8346-4440-8F2D-80321D9F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89F8-61E4-4C1A-8D20-8FDAEDC4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7197-FA6D-41AC-BE74-ECB04001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9232-69AD-4BC6-9C67-43A37388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2D25-519D-42E4-B5E0-E7204C15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E389-E5CC-443C-929A-36BB983E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D6A1-B4F3-46DB-99CC-AB327EB3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09AA-3748-4F42-B073-820284E6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C78-B721-40B3-9300-725CDBE6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B11D-02F4-4A2C-BFC5-5EC029CD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7E1D-7293-43A7-9FCA-80D2A03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AA69-2DC3-4ED1-92A0-0EBB8A8C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B47B-4894-4322-9F24-BFA6EED3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5A40-91B8-42FB-B772-7BCFFF66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BEE0-0435-46A8-899F-FBE34173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560C3-B146-4CFB-88CA-5D26BD3C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B3B1-79FC-4BC1-992B-2C4F3401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2CCA-6463-4380-AC6B-E8BDD02D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41BA-9076-48D6-85FD-29C98C3E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316-3D57-46B8-ADD4-F2D259AA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009B-2C9F-444A-9692-F7B5E519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AC24-8B64-426C-8582-7F3AE7CD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3BE0-8C5D-496C-80D6-D29B3C8A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63DD7-C1C6-4A93-9362-6F4C060F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F069-CF55-484E-9DB2-97238E73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97F4A-9201-4ECF-8B4D-632024CF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49D9-A60D-4F54-824D-359CFE08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A9CB-32B2-48C4-B539-FB9B9C17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1036D-3CD7-47F0-AB1A-A1424C04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EEFA3-FD93-4837-855E-049D1CEA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64E-7967-4167-B0C7-F7EDACF0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308C-01D3-470D-B643-9D9BD364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08F6F-46D9-495F-882D-F2FB4E7B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53E0-84EE-4FD9-9EB7-6682D1CC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E55E-A22C-47CB-A6B4-7B77FD77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E8FE-599B-4079-BD28-10359667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8FF2-0CD4-4EFD-9391-2C77C7C4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90D4-C53A-45DE-B0BD-BF66BF15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A3B8-6D1D-4D2F-9F4A-7F8D6EFE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AA149-B04A-44DD-A802-47A3E9CC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91C54-2162-4C9A-A664-809E87D0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788-C289-4C2F-9DE6-99F3FFD1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CDFB-E275-473C-B76A-7EA7532D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51A5F-2860-48A3-8434-342DC194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ADE5A-F6BA-4E2B-BE1C-914C0980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EF382-BA1E-4B27-A1F4-EED281A0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07B69-168B-48B1-8364-DF0D4660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3E8D6-1176-4A6C-8E67-5A7E06C6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50E4F-4D18-4DE7-B7E8-74F30BFE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644E8-D6E3-4B52-A5D6-692444FB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EEC0E-2612-4EB9-86E1-E58225AC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B6C52-09F8-4B89-8E17-6E3C86FD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D90-4DB6-4EF7-BC7D-1548F065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F319B-A3CF-40C1-BA53-548863F0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49B-6B2B-4467-A372-6F875C40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518-461E-4A79-B59E-99DF18E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891-155A-4A69-982E-8ECCAC88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AEAF-B661-4C03-BBC9-C5D0CFC0E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26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1027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1028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1029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1030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1031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1032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BE2F-A92E-4275-8540-BF4F747FDD1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3AF5-3BBB-48C9-BA58-D622DD6C06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AB90-C58F-4572-9B9A-4BC5F69A5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0934-52FD-4D44-9EC4-4E990E486F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1032"/>
          <p:cNvSpPr txBox="1"/>
          <p:nvPr/>
        </p:nvSpPr>
        <p:spPr>
          <a:xfrm>
            <a:off x="1812960" y="2500200"/>
            <a:ext cx="530208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微软雅黑"/>
              </a:rPr>
              <a:t>10.1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微软雅黑"/>
              </a:rPr>
              <a:t>统计调查课件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微软雅黑"/>
              </a:rPr>
              <a:t>PPT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微软雅黑"/>
              </a:rPr>
              <a:t>模板下载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微软雅黑"/>
              <a:ea typeface="微软雅黑"/>
            </a:endParaRPr>
          </a:p>
        </p:txBody>
      </p:sp>
      <p:sp>
        <p:nvSpPr>
          <p:cNvPr id="21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706320" y="3227760"/>
            <a:ext cx="817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考察</a:t>
            </a:r>
            <a:r>
              <a:rPr b="1" lang="zh-CN" sz="4800" spc="-1" strike="noStrike">
                <a:solidFill>
                  <a:srgbClr val="3333ff"/>
                </a:solidFill>
                <a:latin typeface="华文楷体"/>
                <a:ea typeface="华文楷体"/>
              </a:rPr>
              <a:t>全体对象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调查</a:t>
            </a:r>
            <a:r>
              <a:rPr b="1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全面调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2050920" y="1216080"/>
            <a:ext cx="47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在问题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中全班同学是要考察的全体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2362320" y="76320"/>
            <a:ext cx="3581280" cy="581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、明确调查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362320" y="1095480"/>
            <a:ext cx="3657600" cy="581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、确定调查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362320" y="2114640"/>
            <a:ext cx="3581280" cy="581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、选择调查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362320" y="6192720"/>
            <a:ext cx="3581280" cy="581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7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、得出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3962520" y="6858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96252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3962520" y="2743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3962520" y="4800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2362320" y="3133800"/>
            <a:ext cx="4572000" cy="581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、展开调查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收集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2362320" y="4152960"/>
            <a:ext cx="3581280" cy="581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、整理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2362320" y="5172120"/>
            <a:ext cx="3581280" cy="581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6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、描述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13320" y="-437040"/>
            <a:ext cx="667800" cy="4532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全面调查的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4"/>
          <p:cNvSpPr/>
          <p:nvPr/>
        </p:nvSpPr>
        <p:spPr>
          <a:xfrm>
            <a:off x="3962520" y="37339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5"/>
          <p:cNvSpPr/>
          <p:nvPr/>
        </p:nvSpPr>
        <p:spPr>
          <a:xfrm>
            <a:off x="3962520" y="5791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2000" y="49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我会做了：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5.1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四川汶川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8.0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级地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4"/>
          <p:cNvSpPr txBox="1"/>
          <p:nvPr/>
        </p:nvSpPr>
        <p:spPr>
          <a:xfrm>
            <a:off x="457200" y="2070000"/>
            <a:ext cx="8229600" cy="26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灾有大爱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xin_27205051711262182982622"/>
          <p:cNvPicPr/>
          <p:nvPr/>
        </p:nvPicPr>
        <p:blipFill>
          <a:blip r:embed="rId1"/>
          <a:stretch/>
        </p:blipFill>
        <p:spPr>
          <a:xfrm>
            <a:off x="525600" y="652320"/>
            <a:ext cx="8223120" cy="52628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5"/>
          <p:cNvSpPr/>
          <p:nvPr/>
        </p:nvSpPr>
        <p:spPr>
          <a:xfrm>
            <a:off x="4247640" y="580464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路边一片几乎被完全震毁的村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033BC2BC"/>
          <p:cNvPicPr/>
          <p:nvPr/>
        </p:nvPicPr>
        <p:blipFill>
          <a:blip r:embed="rId1"/>
          <a:stretch/>
        </p:blipFill>
        <p:spPr>
          <a:xfrm>
            <a:off x="611280" y="506520"/>
            <a:ext cx="7991280" cy="53067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2832480" y="59950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逃难的女孩，被压的汽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xinsrc_56205051408111092440322"/>
          <p:cNvPicPr/>
          <p:nvPr/>
        </p:nvPicPr>
        <p:blipFill>
          <a:blip r:embed="rId1"/>
          <a:stretch/>
        </p:blipFill>
        <p:spPr>
          <a:xfrm>
            <a:off x="468360" y="620640"/>
            <a:ext cx="7848720" cy="52261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3224160" y="590616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幸中的幸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xinsrc_122050513210703115330165"/>
          <p:cNvPicPr/>
          <p:nvPr/>
        </p:nvPicPr>
        <p:blipFill>
          <a:blip r:embed="rId1"/>
          <a:stretch/>
        </p:blipFill>
        <p:spPr>
          <a:xfrm>
            <a:off x="557280" y="349200"/>
            <a:ext cx="7866000" cy="55850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3404880" y="59824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祈盼的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xinsrc_56205051408115623249023"/>
          <p:cNvPicPr/>
          <p:nvPr/>
        </p:nvPicPr>
        <p:blipFill>
          <a:blip r:embed="rId1"/>
          <a:stretch/>
        </p:blipFill>
        <p:spPr>
          <a:xfrm>
            <a:off x="900000" y="476280"/>
            <a:ext cx="7201080" cy="54021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2771640" y="587628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救护中的医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xin_442050520071110903941"/>
          <p:cNvPicPr/>
          <p:nvPr/>
        </p:nvPicPr>
        <p:blipFill>
          <a:blip r:embed="rId1"/>
          <a:stretch/>
        </p:blipFill>
        <p:spPr>
          <a:xfrm>
            <a:off x="533520" y="1409760"/>
            <a:ext cx="3671640" cy="54482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033BCC61"/>
          <p:cNvPicPr/>
          <p:nvPr/>
        </p:nvPicPr>
        <p:blipFill>
          <a:blip r:embed="rId2"/>
          <a:stretch/>
        </p:blipFill>
        <p:spPr>
          <a:xfrm>
            <a:off x="4343400" y="0"/>
            <a:ext cx="3909960" cy="56008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4876920" y="58672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急救！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xin_112050516205542111033164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1850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2556000" y="5733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争分夺秒的子弟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2195640" y="1144440"/>
            <a:ext cx="47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62120" y="236376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如果要了解全班同学对新闻、体育、动画、娱乐、戏曲五类电视节目的喜爱情况，你会怎么做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xin_21205051908506092502324"/>
          <p:cNvPicPr/>
          <p:nvPr/>
        </p:nvPicPr>
        <p:blipFill>
          <a:blip r:embed="rId1"/>
          <a:stretch/>
        </p:blipFill>
        <p:spPr>
          <a:xfrm>
            <a:off x="755640" y="404640"/>
            <a:ext cx="7416720" cy="53103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2484360" y="580500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行动中的志愿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xin_0120505180951640266058"/>
          <p:cNvPicPr/>
          <p:nvPr/>
        </p:nvPicPr>
        <p:blipFill>
          <a:blip r:embed="rId1"/>
          <a:stretch/>
        </p:blipFill>
        <p:spPr>
          <a:xfrm>
            <a:off x="630360" y="22212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3429000" y="57913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累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xin_44205051907557651528612"/>
          <p:cNvPicPr/>
          <p:nvPr/>
        </p:nvPicPr>
        <p:blipFill>
          <a:blip r:embed="rId1"/>
          <a:stretch/>
        </p:blipFill>
        <p:spPr>
          <a:xfrm>
            <a:off x="755640" y="333360"/>
            <a:ext cx="7489800" cy="5459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2505240" y="583812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救中的灾民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1487520" y="1908360"/>
            <a:ext cx="600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据民政部报告：截至５月</a:t>
            </a:r>
            <a:r>
              <a:rPr b="1" lang="en-US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日</a:t>
            </a:r>
            <a:r>
              <a:rPr b="1" lang="en-US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16</a:t>
            </a:r>
            <a:r>
              <a:rPr b="1" lang="zh-CN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时</a:t>
            </a:r>
            <a:r>
              <a:rPr b="1" lang="en-US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41</a:t>
            </a:r>
            <a:r>
              <a:rPr b="1" lang="zh-CN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分，四川汶川８</a:t>
            </a:r>
            <a:r>
              <a:rPr b="1" lang="en-US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.0</a:t>
            </a:r>
            <a:r>
              <a:rPr b="1" lang="zh-CN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级地震已造成四川、甘肃、陕西、重庆、云南、湖北、河南、贵州、湖南等９省（市）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2664</a:t>
            </a:r>
            <a:r>
              <a:rPr b="1" lang="zh-CN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人遇难，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58816</a:t>
            </a:r>
            <a:r>
              <a:rPr b="1" lang="zh-CN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人受伤。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3775</a:t>
            </a:r>
            <a:r>
              <a:rPr b="1" lang="zh-CN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人失踪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770040" y="24415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在这场自然灾害中，最让我班感动的是哪一类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25360" y="4454640"/>
            <a:ext cx="152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灾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386080" y="4505400"/>
            <a:ext cx="85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医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3813480" y="4449600"/>
            <a:ext cx="8506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记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649760" y="4433760"/>
            <a:ext cx="1521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子弟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6006960" y="4433760"/>
            <a:ext cx="1521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志愿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9"/>
          <p:cNvSpPr txBox="1"/>
          <p:nvPr/>
        </p:nvSpPr>
        <p:spPr>
          <a:xfrm>
            <a:off x="1608120" y="528480"/>
            <a:ext cx="525636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灾有大爱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78000" y="479520"/>
            <a:ext cx="79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一、数据的收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78000" y="1716120"/>
            <a:ext cx="844524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调 查 问 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在上面举出的五类人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最让我感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的一类人是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楷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（单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楷体"/>
              </a:rPr>
              <a:t>A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灾民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楷体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医生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楷体"/>
              </a:rPr>
              <a:t>C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记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楷体"/>
              </a:rPr>
              <a:t>D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子弟兵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楷体"/>
              </a:rPr>
              <a:t>E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志愿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0" y="2476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二、数据的整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958680" y="1712880"/>
          <a:ext cx="7504200" cy="4898880"/>
        </p:xfrm>
        <a:graphic>
          <a:graphicData uri="http://schemas.openxmlformats.org/drawingml/2006/table">
            <a:tbl>
              <a:tblPr/>
              <a:tblGrid>
                <a:gridCol w="1876320"/>
                <a:gridCol w="1876680"/>
                <a:gridCol w="1874520"/>
                <a:gridCol w="1876680"/>
              </a:tblGrid>
              <a:tr h="68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类 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划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百分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Ａ灾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Ｂ医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Ｃ记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Ｄ子弟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Ｅ志愿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85"/>
          <p:cNvSpPr/>
          <p:nvPr/>
        </p:nvSpPr>
        <p:spPr>
          <a:xfrm>
            <a:off x="1585800" y="106200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最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我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感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的一类人人数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58840" y="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楷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三、 数据的描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61600" y="5673600"/>
            <a:ext cx="5645520" cy="14400"/>
            <a:chOff x="1461600" y="5673600"/>
            <a:chExt cx="5645520" cy="14400"/>
          </a:xfrm>
        </p:grpSpPr>
        <p:sp>
          <p:nvSpPr>
            <p:cNvPr id="360" name="Line 3"/>
            <p:cNvSpPr/>
            <p:nvPr/>
          </p:nvSpPr>
          <p:spPr>
            <a:xfrm flipV="1">
              <a:off x="1461960" y="5673600"/>
              <a:ext cx="5645160" cy="1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 rot="10800000">
              <a:off x="1461600" y="5673240"/>
              <a:ext cx="5645160" cy="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576080" y="1285920"/>
            <a:ext cx="360" cy="4549680"/>
            <a:chOff x="1576080" y="1285920"/>
            <a:chExt cx="360" cy="4549680"/>
          </a:xfrm>
        </p:grpSpPr>
        <p:sp>
          <p:nvSpPr>
            <p:cNvPr id="363" name="Line 4"/>
            <p:cNvSpPr/>
            <p:nvPr/>
          </p:nvSpPr>
          <p:spPr>
            <a:xfrm flipV="1">
              <a:off x="1576440" y="1285920"/>
              <a:ext cx="0" cy="4549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 rot="10800000">
              <a:off x="1576080" y="1285920"/>
              <a:ext cx="360" cy="454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5"/>
          <p:cNvSpPr/>
          <p:nvPr/>
        </p:nvSpPr>
        <p:spPr>
          <a:xfrm>
            <a:off x="7809120" y="1506600"/>
            <a:ext cx="8506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条形统计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1150920"/>
            <a:ext cx="10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7183440" y="5494320"/>
            <a:ext cx="19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069920" y="1773360"/>
            <a:ext cx="52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619280" y="4933800"/>
            <a:ext cx="4914720" cy="360"/>
            <a:chOff x="1619280" y="4933800"/>
            <a:chExt cx="4914720" cy="360"/>
          </a:xfrm>
        </p:grpSpPr>
        <p:sp>
          <p:nvSpPr>
            <p:cNvPr id="370" name="Line 9"/>
            <p:cNvSpPr/>
            <p:nvPr/>
          </p:nvSpPr>
          <p:spPr>
            <a:xfrm>
              <a:off x="1619280" y="4933800"/>
              <a:ext cx="4914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1619280" y="4933800"/>
              <a:ext cx="491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562040" y="4172040"/>
            <a:ext cx="4971960" cy="360"/>
            <a:chOff x="1562040" y="4172040"/>
            <a:chExt cx="4971960" cy="360"/>
          </a:xfrm>
        </p:grpSpPr>
        <p:sp>
          <p:nvSpPr>
            <p:cNvPr id="373" name="Line 10"/>
            <p:cNvSpPr/>
            <p:nvPr/>
          </p:nvSpPr>
          <p:spPr>
            <a:xfrm>
              <a:off x="1562040" y="4172040"/>
              <a:ext cx="4971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1562040" y="4172040"/>
              <a:ext cx="4971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581120" y="3448080"/>
            <a:ext cx="5010120" cy="19080"/>
            <a:chOff x="1581120" y="3448080"/>
            <a:chExt cx="5010120" cy="19080"/>
          </a:xfrm>
        </p:grpSpPr>
        <p:sp>
          <p:nvSpPr>
            <p:cNvPr id="376" name="Line 11"/>
            <p:cNvSpPr/>
            <p:nvPr/>
          </p:nvSpPr>
          <p:spPr>
            <a:xfrm>
              <a:off x="1581120" y="3448080"/>
              <a:ext cx="5010120" cy="19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1581120" y="3448080"/>
              <a:ext cx="501012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580760" y="2705040"/>
            <a:ext cx="4972320" cy="38160"/>
            <a:chOff x="1580760" y="2705040"/>
            <a:chExt cx="4972320" cy="38160"/>
          </a:xfrm>
        </p:grpSpPr>
        <p:sp>
          <p:nvSpPr>
            <p:cNvPr id="379" name="Line 12"/>
            <p:cNvSpPr/>
            <p:nvPr/>
          </p:nvSpPr>
          <p:spPr>
            <a:xfrm flipV="1">
              <a:off x="1581120" y="2705040"/>
              <a:ext cx="4971960" cy="38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 rot="10800000">
              <a:off x="1580760" y="2704680"/>
              <a:ext cx="497196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3"/>
          <p:cNvSpPr/>
          <p:nvPr/>
        </p:nvSpPr>
        <p:spPr>
          <a:xfrm>
            <a:off x="2537640" y="572292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灾民    医生 记者  子弟兵 志愿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515280" y="2038320"/>
            <a:ext cx="18720" cy="3581280"/>
            <a:chOff x="6515280" y="2038320"/>
            <a:chExt cx="18720" cy="3581280"/>
          </a:xfrm>
        </p:grpSpPr>
        <p:sp>
          <p:nvSpPr>
            <p:cNvPr id="383" name="Line 24"/>
            <p:cNvSpPr/>
            <p:nvPr/>
          </p:nvSpPr>
          <p:spPr>
            <a:xfrm flipH="1">
              <a:off x="6515280" y="2038320"/>
              <a:ext cx="18720" cy="358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6515280" y="2038320"/>
              <a:ext cx="18720" cy="35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26"/>
          <p:cNvSpPr/>
          <p:nvPr/>
        </p:nvSpPr>
        <p:spPr>
          <a:xfrm>
            <a:off x="2424240" y="754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最让我班感动的一类人人数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581120" y="2000160"/>
            <a:ext cx="4971960" cy="360"/>
            <a:chOff x="1581120" y="2000160"/>
            <a:chExt cx="4971960" cy="360"/>
          </a:xfrm>
        </p:grpSpPr>
        <p:sp>
          <p:nvSpPr>
            <p:cNvPr id="387" name="Line 27"/>
            <p:cNvSpPr/>
            <p:nvPr/>
          </p:nvSpPr>
          <p:spPr>
            <a:xfrm>
              <a:off x="1581120" y="2000160"/>
              <a:ext cx="4971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1581120" y="2000160"/>
              <a:ext cx="4971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6971040" y="1449360"/>
            <a:ext cx="8506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扇形统计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1665360" y="476280"/>
            <a:ext cx="57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最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我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感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的一类人人数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7"/>
          <p:cNvSpPr/>
          <p:nvPr/>
        </p:nvSpPr>
        <p:spPr>
          <a:xfrm>
            <a:off x="1371600" y="1257480"/>
            <a:ext cx="4915080" cy="4705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392040" y="4190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四、数据的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712800" y="2101680"/>
            <a:ext cx="78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从上面的统计图中，我们可以得到哪些结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026"/>
          <p:cNvSpPr/>
          <p:nvPr/>
        </p:nvSpPr>
        <p:spPr>
          <a:xfrm>
            <a:off x="495360" y="2933640"/>
            <a:ext cx="819144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调查问卷                    年    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在下面五类电视节目中，你最喜爱的是（   ）．（单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．新闻 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．体育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．动画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．娱乐 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．戏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填完后，请将问卷交给数学课代表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27"/>
          <p:cNvSpPr/>
          <p:nvPr/>
        </p:nvSpPr>
        <p:spPr>
          <a:xfrm>
            <a:off x="1504800" y="15746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设计调查问卷进行调查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1940040" y="615960"/>
            <a:ext cx="475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392040" y="3049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理一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552600" y="1492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一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538200" y="2732040"/>
            <a:ext cx="79930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三注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查问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合理、科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计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齐全，数据准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计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例准确，表注不遗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552600" y="2104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二图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条形统计图，扇形统计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66640" y="50799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四步骤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收集、整理、绘图、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AA43-53B0-47BF-A307-0F3903857C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Object 5" descr=""/>
          <p:cNvPicPr/>
          <p:nvPr/>
        </p:nvPicPr>
        <p:blipFill>
          <a:blip r:embed="rId1"/>
          <a:stretch/>
        </p:blipFill>
        <p:spPr>
          <a:xfrm>
            <a:off x="609480" y="45864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1108080" y="1190520"/>
            <a:ext cx="7340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楷体"/>
              </a:rPr>
              <a:t>作业：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华文楷体"/>
              </a:rPr>
              <a:t>P153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楷体"/>
              </a:rPr>
              <a:t>练习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华文楷体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楷体"/>
              </a:rPr>
              <a:t>、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华文楷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华文楷体"/>
              </a:rPr>
              <a:t>P158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楷体"/>
              </a:rPr>
              <a:t>－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华文楷体"/>
              </a:rPr>
              <a:t>159   1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楷体"/>
              </a:rPr>
              <a:t>、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华文楷体"/>
              </a:rPr>
              <a:t>2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楷体"/>
              </a:rPr>
              <a:t>补充： 请同学们设计一份调查表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调查我班同学的抗震救灾捐款情况，进行整理，利用统计图进行分析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楷体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4367160" y="3246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2003400" y="860400"/>
            <a:ext cx="475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71160" y="1752120"/>
            <a:ext cx="50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某同学经调查，得到如下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5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个数据：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688120" y="2692800"/>
            <a:ext cx="316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CADBCAD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EABDDBC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DBDCDDD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EBBDDCCE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BDDCBCBD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96800" y="1897200"/>
            <a:ext cx="801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讨论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：从上面的数据中，你能看出全班同学喜爱各类节目的情况吗？怎样才能很清楚地看出全班同学喜爱各类节目的情况？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673280" y="844560"/>
            <a:ext cx="54198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96800" y="3998160"/>
            <a:ext cx="8088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统计中经常用表格整理数据，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5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用统计图来描述数据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58840" y="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数据的描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461600" y="5673600"/>
            <a:ext cx="5645520" cy="14400"/>
            <a:chOff x="1461600" y="5673600"/>
            <a:chExt cx="5645520" cy="14400"/>
          </a:xfrm>
        </p:grpSpPr>
        <p:sp>
          <p:nvSpPr>
            <p:cNvPr id="234" name="Line 4"/>
            <p:cNvSpPr/>
            <p:nvPr/>
          </p:nvSpPr>
          <p:spPr>
            <a:xfrm flipV="1">
              <a:off x="1461960" y="5673600"/>
              <a:ext cx="5645160" cy="1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 rot="10800000">
              <a:off x="1461600" y="5673240"/>
              <a:ext cx="5645160" cy="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576080" y="1856880"/>
            <a:ext cx="360" cy="3978360"/>
            <a:chOff x="1576080" y="1856880"/>
            <a:chExt cx="360" cy="3978360"/>
          </a:xfrm>
        </p:grpSpPr>
        <p:sp>
          <p:nvSpPr>
            <p:cNvPr id="237" name="Line 5"/>
            <p:cNvSpPr/>
            <p:nvPr/>
          </p:nvSpPr>
          <p:spPr>
            <a:xfrm flipV="1">
              <a:off x="1576440" y="1856880"/>
              <a:ext cx="0" cy="3978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 rot="10800000">
              <a:off x="1576080" y="1856880"/>
              <a:ext cx="360" cy="397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6"/>
          <p:cNvSpPr/>
          <p:nvPr/>
        </p:nvSpPr>
        <p:spPr>
          <a:xfrm>
            <a:off x="7809120" y="1506600"/>
            <a:ext cx="8506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条形统计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638360" y="1741320"/>
            <a:ext cx="10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6726240" y="5722920"/>
            <a:ext cx="19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目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1053000" y="2516040"/>
            <a:ext cx="51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619280" y="4933800"/>
            <a:ext cx="4914720" cy="360"/>
            <a:chOff x="1619280" y="4933800"/>
            <a:chExt cx="4914720" cy="360"/>
          </a:xfrm>
        </p:grpSpPr>
        <p:sp>
          <p:nvSpPr>
            <p:cNvPr id="244" name="Line 13"/>
            <p:cNvSpPr/>
            <p:nvPr/>
          </p:nvSpPr>
          <p:spPr>
            <a:xfrm>
              <a:off x="1619280" y="4933800"/>
              <a:ext cx="4914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1619280" y="4933800"/>
              <a:ext cx="491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562040" y="4172040"/>
            <a:ext cx="4971960" cy="360"/>
            <a:chOff x="1562040" y="4172040"/>
            <a:chExt cx="4971960" cy="360"/>
          </a:xfrm>
        </p:grpSpPr>
        <p:sp>
          <p:nvSpPr>
            <p:cNvPr id="247" name="Line 14"/>
            <p:cNvSpPr/>
            <p:nvPr/>
          </p:nvSpPr>
          <p:spPr>
            <a:xfrm>
              <a:off x="1562040" y="4172040"/>
              <a:ext cx="4971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1562040" y="4172040"/>
              <a:ext cx="4971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581120" y="3448080"/>
            <a:ext cx="5010120" cy="19080"/>
            <a:chOff x="1581120" y="3448080"/>
            <a:chExt cx="5010120" cy="19080"/>
          </a:xfrm>
        </p:grpSpPr>
        <p:sp>
          <p:nvSpPr>
            <p:cNvPr id="250" name="Line 15"/>
            <p:cNvSpPr/>
            <p:nvPr/>
          </p:nvSpPr>
          <p:spPr>
            <a:xfrm>
              <a:off x="1581120" y="3448080"/>
              <a:ext cx="5010120" cy="19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1581120" y="3448080"/>
              <a:ext cx="501012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581120" y="2743200"/>
            <a:ext cx="5010120" cy="360"/>
            <a:chOff x="1581120" y="2743200"/>
            <a:chExt cx="5010120" cy="360"/>
          </a:xfrm>
        </p:grpSpPr>
        <p:sp>
          <p:nvSpPr>
            <p:cNvPr id="253" name="Line 16"/>
            <p:cNvSpPr/>
            <p:nvPr/>
          </p:nvSpPr>
          <p:spPr>
            <a:xfrm>
              <a:off x="1581120" y="2743200"/>
              <a:ext cx="5010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1581120" y="2743200"/>
              <a:ext cx="501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7"/>
          <p:cNvSpPr/>
          <p:nvPr/>
        </p:nvSpPr>
        <p:spPr>
          <a:xfrm>
            <a:off x="2408760" y="572292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闻    体育   动画   娱乐   戏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1943280" y="5067360"/>
            <a:ext cx="323640" cy="628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2971800" y="4191120"/>
            <a:ext cx="343080" cy="1504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3962520" y="3448080"/>
            <a:ext cx="32364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5048280" y="2990880"/>
            <a:ext cx="380880" cy="2705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6058080" y="5219640"/>
            <a:ext cx="285480" cy="438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1929240" y="4554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2939040" y="3639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3872520" y="2916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5034600" y="2554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6063120" y="480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553080" y="2762280"/>
            <a:ext cx="360" cy="2914560"/>
            <a:chOff x="6553080" y="2762280"/>
            <a:chExt cx="360" cy="2914560"/>
          </a:xfrm>
        </p:grpSpPr>
        <p:sp>
          <p:nvSpPr>
            <p:cNvPr id="267" name="Line 28"/>
            <p:cNvSpPr/>
            <p:nvPr/>
          </p:nvSpPr>
          <p:spPr>
            <a:xfrm>
              <a:off x="6553080" y="2762280"/>
              <a:ext cx="0" cy="2914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553080" y="2762280"/>
              <a:ext cx="360" cy="291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29"/>
          <p:cNvSpPr/>
          <p:nvPr/>
        </p:nvSpPr>
        <p:spPr>
          <a:xfrm>
            <a:off x="2621880" y="6218280"/>
            <a:ext cx="34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.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2386080" y="10587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全班同学最喜爱节目的人数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1"/>
          <p:cNvGrpSpPr/>
          <p:nvPr/>
        </p:nvGrpSpPr>
        <p:grpSpPr>
          <a:xfrm>
            <a:off x="6381720" y="2933640"/>
            <a:ext cx="3352320" cy="2091600"/>
            <a:chOff x="6381720" y="2933640"/>
            <a:chExt cx="3352320" cy="2091600"/>
          </a:xfrm>
        </p:grpSpPr>
        <p:sp>
          <p:nvSpPr>
            <p:cNvPr id="272" name="AutoShape 32"/>
            <p:cNvSpPr/>
            <p:nvPr/>
          </p:nvSpPr>
          <p:spPr>
            <a:xfrm>
              <a:off x="6381720" y="2933640"/>
              <a:ext cx="3259080" cy="15382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33"/>
            <p:cNvSpPr/>
            <p:nvPr/>
          </p:nvSpPr>
          <p:spPr>
            <a:xfrm>
              <a:off x="6381720" y="3087360"/>
              <a:ext cx="335232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条形统计图的特点：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条形统计图能清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地表示出每个项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的具体数目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5389920" y="1353960"/>
            <a:ext cx="8506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扇形统计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494000" y="704880"/>
            <a:ext cx="57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全班同学最喜爱节目的人数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1714680" y="1733400"/>
            <a:ext cx="3600360" cy="369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24120" y="3657600"/>
            <a:ext cx="781200" cy="1638360"/>
            <a:chOff x="2724120" y="3657600"/>
            <a:chExt cx="781200" cy="1638360"/>
          </a:xfrm>
        </p:grpSpPr>
        <p:sp>
          <p:nvSpPr>
            <p:cNvPr id="278" name="Line 6"/>
            <p:cNvSpPr/>
            <p:nvPr/>
          </p:nvSpPr>
          <p:spPr>
            <a:xfrm flipH="1">
              <a:off x="2724120" y="3657600"/>
              <a:ext cx="781200" cy="1638360"/>
            </a:xfrm>
            <a:prstGeom prst="line">
              <a:avLst/>
            </a:prstGeom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2724120" y="3657600"/>
              <a:ext cx="781200" cy="163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43480" y="3676680"/>
            <a:ext cx="1790640" cy="95400"/>
            <a:chOff x="3543480" y="3676680"/>
            <a:chExt cx="1790640" cy="95400"/>
          </a:xfrm>
        </p:grpSpPr>
        <p:sp>
          <p:nvSpPr>
            <p:cNvPr id="281" name="Line 7"/>
            <p:cNvSpPr/>
            <p:nvPr/>
          </p:nvSpPr>
          <p:spPr>
            <a:xfrm>
              <a:off x="3543480" y="3676680"/>
              <a:ext cx="1790640" cy="95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543480" y="3676680"/>
              <a:ext cx="179064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486240" y="1943280"/>
            <a:ext cx="876240" cy="1752480"/>
            <a:chOff x="3486240" y="1943280"/>
            <a:chExt cx="876240" cy="1752480"/>
          </a:xfrm>
        </p:grpSpPr>
        <p:sp>
          <p:nvSpPr>
            <p:cNvPr id="284" name="Line 8"/>
            <p:cNvSpPr/>
            <p:nvPr/>
          </p:nvSpPr>
          <p:spPr>
            <a:xfrm flipV="1">
              <a:off x="3486240" y="1943280"/>
              <a:ext cx="876240" cy="1752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3486240" y="1943280"/>
              <a:ext cx="876240" cy="175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228400" y="2457000"/>
            <a:ext cx="1257480" cy="1219320"/>
            <a:chOff x="2228400" y="2457000"/>
            <a:chExt cx="1257480" cy="1219320"/>
          </a:xfrm>
        </p:grpSpPr>
        <p:sp>
          <p:nvSpPr>
            <p:cNvPr id="287" name="Line 9"/>
            <p:cNvSpPr/>
            <p:nvPr/>
          </p:nvSpPr>
          <p:spPr>
            <a:xfrm flipH="1" flipV="1">
              <a:off x="2228400" y="2457000"/>
              <a:ext cx="1257480" cy="1219320"/>
            </a:xfrm>
            <a:prstGeom prst="line">
              <a:avLst/>
            </a:prstGeom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 rot="10800000">
              <a:off x="2228400" y="2457000"/>
              <a:ext cx="12574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028680" y="1847880"/>
            <a:ext cx="476280" cy="1828800"/>
            <a:chOff x="3028680" y="1847880"/>
            <a:chExt cx="476280" cy="1828800"/>
          </a:xfrm>
        </p:grpSpPr>
        <p:sp>
          <p:nvSpPr>
            <p:cNvPr id="290" name="Line 10"/>
            <p:cNvSpPr/>
            <p:nvPr/>
          </p:nvSpPr>
          <p:spPr>
            <a:xfrm flipH="1" flipV="1">
              <a:off x="3028680" y="1847880"/>
              <a:ext cx="476280" cy="1828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 rot="10800000">
              <a:off x="3028680" y="1847880"/>
              <a:ext cx="47628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12"/>
          <p:cNvSpPr/>
          <p:nvPr/>
        </p:nvSpPr>
        <p:spPr>
          <a:xfrm>
            <a:off x="3636720" y="401148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2112840" y="326880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娱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6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2441520" y="2058840"/>
            <a:ext cx="8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戏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6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3222720" y="1844640"/>
            <a:ext cx="115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960720" y="250668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体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0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2152440" y="5559480"/>
            <a:ext cx="39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图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0.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20"/>
          <p:cNvGrpSpPr/>
          <p:nvPr/>
        </p:nvGrpSpPr>
        <p:grpSpPr>
          <a:xfrm>
            <a:off x="6019920" y="2590920"/>
            <a:ext cx="3124080" cy="1523880"/>
            <a:chOff x="6019920" y="2590920"/>
            <a:chExt cx="3124080" cy="1523880"/>
          </a:xfrm>
        </p:grpSpPr>
        <p:sp>
          <p:nvSpPr>
            <p:cNvPr id="299" name="AutoShape 21"/>
            <p:cNvSpPr/>
            <p:nvPr/>
          </p:nvSpPr>
          <p:spPr>
            <a:xfrm>
              <a:off x="6019920" y="2590920"/>
              <a:ext cx="3124080" cy="15238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2"/>
            <p:cNvSpPr/>
            <p:nvPr/>
          </p:nvSpPr>
          <p:spPr>
            <a:xfrm>
              <a:off x="6095880" y="2743200"/>
              <a:ext cx="304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扇形统计图的特点：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扇形统计图能清楚地表示出各部分在总体中所占的百分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文本框 8200"/>
          <p:cNvSpPr/>
          <p:nvPr/>
        </p:nvSpPr>
        <p:spPr>
          <a:xfrm>
            <a:off x="1050840" y="1130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340000" y="1168560"/>
            <a:ext cx="475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33520" y="236232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讨论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：你能根据表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0-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和图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0.1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说出全班同学喜爱五类电视节目的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吗？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011320" y="2518560"/>
            <a:ext cx="49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讨论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：如何根据百分比或圆心角画出相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的扇形图？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2340000" y="1168560"/>
            <a:ext cx="475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1:4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46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