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963-5355-461C-9AD2-C73F7F39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946-6DD6-4F45-82EB-F524018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B76-E5E4-42D8-82FF-591E3BFA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DD7-8346-436D-9389-BBD00D7A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5E5-2789-45B7-B643-51A807B3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702-D094-4CFC-8B42-7B4EA701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9799-03CC-4A28-B852-6BA1DF30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AD4C-3A73-4A83-AF85-522E880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B0AF-BD83-473F-A930-166F3391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54B-F70A-4E99-B6EE-2CC17A3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D6EB-EEA0-4EE7-A13E-D5FFA2E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A9D-22FD-4282-9E40-236E0F23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7CA-0245-44EF-82C7-53AECAC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3B68-839E-4C2B-80DD-8438FD78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23C1-B364-49BD-AA97-7C1F00C8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3952-5BA9-4215-8161-9F6F7626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05A2-758E-4BA2-AC25-32ECE83B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4488-F75E-4E26-8CE5-743F44FA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A73A-AAF6-47A8-A7EB-01C580A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5C98-8EDE-423C-84E5-66230941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80D6-9760-4A76-B949-040C17FD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0072-E9B2-457C-AC29-1A6DF18A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8D5-231A-420C-B44B-5EF6A22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C157-DAA6-4757-ABD1-48C69B7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A947-66C0-4415-87A0-FFE2746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8137-6A17-4506-8668-6CFEEFA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42F1-9FD9-4CCD-A800-07D69A0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7A7F-AB1C-48A5-97BD-0B0D7FF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2D73-7F1B-4806-AF2E-751C38CF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E18F-36D3-47F3-9FC5-940EA4F0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3DF-39E0-4C65-AE45-DDBB0B3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DE1-874F-465E-9FA7-717ADD3C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79B-D336-4DE9-91CF-E3D97B0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727-849F-4DE3-98E6-8479C9B4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D0D-29CA-4356-BAB5-52157AB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0EB-6F9D-48FF-AA35-BF0013F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2D0-07FE-4D54-97C4-BBF791BF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9E29-2783-4E54-9310-9BAE00962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D56-810D-4A42-BA2B-3CC2B1E00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"/>
          <p:cNvPicPr/>
          <p:nvPr/>
        </p:nvPicPr>
        <p:blipFill>
          <a:blip r:embed="rId2"/>
          <a:stretch/>
        </p:blipFill>
        <p:spPr>
          <a:xfrm>
            <a:off x="5435640" y="2133720"/>
            <a:ext cx="2644560" cy="3671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1403280" y="-27000"/>
            <a:ext cx="614844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汤姆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.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索亚历险记语文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课件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Picture 5" descr="图片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26920" y="1341360"/>
            <a:ext cx="2644920" cy="3672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205092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马克吐温"/>
          <p:cNvPicPr/>
          <p:nvPr/>
        </p:nvPicPr>
        <p:blipFill>
          <a:blip r:embed="rId2"/>
          <a:stretch/>
        </p:blipFill>
        <p:spPr>
          <a:xfrm>
            <a:off x="971640" y="1225440"/>
            <a:ext cx="3062160" cy="3097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4211640" y="1052640"/>
            <a:ext cx="3960720" cy="277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作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马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吐温是美国批判现实主义文学的奠基人，世界著名的短篇小说大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作有短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竞选州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百万英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汤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索亚历险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哈克贝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费恩历险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71480" y="4649760"/>
            <a:ext cx="33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文学中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林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83528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073240" y="10526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26920" y="191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、汤姆心里产生了什么样的想法？这是什么原因造成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07664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、如果你遇到了汤姆的遭际，你会采取什么样的行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01-09-002-02"/>
          <p:cNvPicPr/>
          <p:nvPr/>
        </p:nvPicPr>
        <p:blipFill>
          <a:blip r:embed="rId2"/>
          <a:stretch/>
        </p:blipFill>
        <p:spPr>
          <a:xfrm>
            <a:off x="7315200" y="380880"/>
            <a:ext cx="2743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2"/>
          <p:cNvSpPr txBox="1"/>
          <p:nvPr/>
        </p:nvSpPr>
        <p:spPr>
          <a:xfrm>
            <a:off x="2627280" y="1989000"/>
            <a:ext cx="4105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洞中历险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文本框 8199"/>
          <p:cNvSpPr/>
          <p:nvPr/>
        </p:nvSpPr>
        <p:spPr>
          <a:xfrm>
            <a:off x="270036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b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611280" y="620640"/>
            <a:ext cx="75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复述一下这个故事，看看谁的口才最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你认为汤姆在洞中有过怯懦失望的心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如果你也遇到和汤姆一样的困境，你也能像他那样去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F3D-B2E3-4557-9D2C-A47D580A0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803240" y="1197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9640" y="2276640"/>
            <a:ext cx="785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根据我们对汤姆的分析，并借助你的想象，用文字为汤姆“画”一幅肖像画，把你对汤姆的独特感受写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07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