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F58-9551-42CC-BF08-A16D17E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D69-0247-40B5-877A-FE33C853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965-EEDF-4DF9-81A9-1A0C770A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76D-9370-4911-8513-BA5F6429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5528-294A-4C6D-A430-21C62F2B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BD05-AA40-4B2C-A16B-32BCD3DA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3556-295F-48DC-A983-77A0D35A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A61-618B-4F8B-BE3C-102D124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D137-EFDA-4F43-B6DA-2270563A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626-7E12-4819-8B68-5671CE84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A49-F602-4B1B-8DD8-D1D10F2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63BC-3880-43F6-BACC-C38CFFB5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6456-D4C2-403F-A14D-AFC1899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DA7B-6327-4E04-909C-C87E9F8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0E89-0AF2-4B28-AE1E-62EE139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FD0B-7BCD-482C-92AC-37B8B760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4198-0DB0-4C13-9F00-8D3F7EA6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013E-EA4C-477F-BCE1-27D5A4F1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30ED0-2460-4F18-A5D5-3F299D90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2BA48-C131-4124-BD67-89FA2301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6DC9-6626-4A10-AD90-AA9C625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2C52-3CBC-4C15-8C11-BE16F13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E3D-9BF6-47F6-879A-8D6CBDD6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2949-A1A2-4421-AE8F-7D117DE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D35C1-CE19-4A34-AE0F-0C9EDA4E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87C32-2B1E-49F9-AD47-BAD7B418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DBEB-CF5E-4EAA-B3EB-F2567CB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4E65-A5AD-4821-A8FD-A24CABA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7A4A0-4C81-4FB5-875A-EC8F54DB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EC27-2DE9-4C6C-B4DA-680A409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28A-C465-4685-A0D9-3A5D321A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A1B-D948-4B62-8D65-61DAC5E9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D1A-9F5A-422B-AA96-01DD158F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3688-8716-4358-9796-24D7A76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2AF-37A5-41AE-BD57-7CE3EBCB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7B1-0DF8-45DE-9417-B554E10C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1" marL="683280" indent="-26280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2" marL="105156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3" marL="147204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4" marL="189252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36E-F858-476E-A1E2-1AF495126E53}" type="slidenum">
              <a:rPr b="1" lang="en-US" sz="12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4154-DDD4-4405-8E72-B2ADD5D07A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幼圆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1" marL="683280" indent="-26280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2" marL="105156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3" marL="147204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4" marL="1892520" indent="-210240">
              <a:spcBef>
                <a:spcPts val="799"/>
              </a:spcBef>
              <a:buClr>
                <a:srgbClr val="ccffff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楷体_GB2312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楷体_GB2312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E559-C36E-4A1A-BDAB-AD72E28E7D03}" type="slidenum">
              <a:rPr b="1" lang="en-US" sz="12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03200" y="1628640"/>
            <a:ext cx="640872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童年的发现</a:t>
            </a:r>
            <a:r>
              <a:rPr b="0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cc99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cc9900"/>
                </a:solidFill>
                <a:latin typeface="宋体"/>
                <a:ea typeface="宋体"/>
              </a:rPr>
              <a:t>模板免费下载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9c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9c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22093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文章中说 “我明白了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—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世界上重大的发明与发现，有时还面临着受到驱逐和迫害的风险。”说说你对这句话的理解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（这句话一语双关。其一，它讲出了科学事业发展过程中的真实情况，阿基米德、哥白尼等都有过这样的遭遇；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其二，是“我”用幽默与自嘲的方式，表达了对此事的看法，意思是说，世界上的大科学家尚且如此，我为我的发现被轰出教室又算得了什么呢？这句话也是作者对童年发现一事的评说与纪念。）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600" y="30477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．构思巧妙。以童年的发现为线索，连接现在和过去，使现实和回忆浑然一体，天衣无缝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52160" y="1935000"/>
            <a:ext cx="63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Arial"/>
              </a:rPr>
              <a:t>接下来咱们分析一下写作特点分析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2209680"/>
            <a:ext cx="8991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．首尾照应。课文最后六个自然段与开头两个自然段相互照应，都是说“我”想起自己的发现，情不自禁笑出了声音，受到了老师的惩罚。这种写法突出表现了“我”善于思考，富于想象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5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22096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宋体"/>
                <a:ea typeface="宋体"/>
              </a:rPr>
              <a:t>3</a:t>
            </a:r>
            <a:r>
              <a:rPr b="1" lang="zh-CN" sz="4000" spc="-1" strike="noStrike">
                <a:solidFill>
                  <a:srgbClr val="ccffff"/>
                </a:solidFill>
                <a:latin typeface="宋体"/>
                <a:ea typeface="宋体"/>
              </a:rPr>
              <a:t>．通过人物的语言表现人物特征。文章以大量篇幅描述人物对话，无不透露出“我”善于思考、富于想象的特点。</a:t>
            </a:r>
            <a:endParaRPr b="0" lang="en-US" sz="40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99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DFC0-980F-46AE-8070-024CD6F92D95}" type="slidenum">
              <a:rPr b="0" lang="zh-CN" sz="1400" spc="-1" strike="noStrike">
                <a:solidFill>
                  <a:srgbClr val="cc99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905120" y="762120"/>
            <a:ext cx="533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9900"/>
                </a:solidFill>
                <a:latin typeface="Times New Roman"/>
                <a:ea typeface="幼圆"/>
              </a:rPr>
              <a:t>童年的发现</a:t>
            </a:r>
            <a:endParaRPr b="0" lang="en-US" sz="6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419720" y="190512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e9e3b7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905120" y="295596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幼圆"/>
              </a:rPr>
              <a:t>胚胎发育的规律</a:t>
            </a:r>
            <a:endParaRPr b="0" lang="en-US" sz="4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228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找老师解答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73392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仔细观察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934320" y="4952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Times New Roman"/>
                <a:ea typeface="幼圆"/>
              </a:rPr>
              <a:t>认真思考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5486400" y="205740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幼圆"/>
              </a:rPr>
              <a:t>（驱逐迫害）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371600" y="3962520"/>
            <a:ext cx="1905120" cy="914400"/>
            <a:chOff x="1371600" y="3962520"/>
            <a:chExt cx="1905120" cy="914400"/>
          </a:xfrm>
        </p:grpSpPr>
        <p:sp>
          <p:nvSpPr>
            <p:cNvPr id="171" name="Line 11"/>
            <p:cNvSpPr/>
            <p:nvPr/>
          </p:nvSpPr>
          <p:spPr>
            <a:xfrm flipH="1">
              <a:off x="1371600" y="3962520"/>
              <a:ext cx="1905120" cy="914400"/>
            </a:xfrm>
            <a:prstGeom prst="line">
              <a:avLst/>
            </a:prstGeom>
            <a:ln w="38160">
              <a:solidFill>
                <a:srgbClr val="cc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1371600" y="3962520"/>
              <a:ext cx="19051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5791320" y="3962520"/>
            <a:ext cx="2133360" cy="1371960"/>
            <a:chOff x="5791320" y="3962520"/>
            <a:chExt cx="2133360" cy="1371960"/>
          </a:xfrm>
        </p:grpSpPr>
        <p:grpSp>
          <p:nvGrpSpPr>
            <p:cNvPr id="174" name=""/>
            <p:cNvGrpSpPr/>
            <p:nvPr/>
          </p:nvGrpSpPr>
          <p:grpSpPr>
            <a:xfrm>
              <a:off x="5791320" y="5334120"/>
              <a:ext cx="1066680" cy="360"/>
              <a:chOff x="5791320" y="5334120"/>
              <a:chExt cx="1066680" cy="360"/>
            </a:xfrm>
          </p:grpSpPr>
          <p:sp>
            <p:nvSpPr>
              <p:cNvPr id="175" name="Line 8"/>
              <p:cNvSpPr/>
              <p:nvPr/>
            </p:nvSpPr>
            <p:spPr>
              <a:xfrm>
                <a:off x="5791320" y="5334120"/>
                <a:ext cx="106668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5791320" y="53341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5791320" y="3962520"/>
              <a:ext cx="2133360" cy="1066680"/>
              <a:chOff x="5791320" y="3962520"/>
              <a:chExt cx="2133360" cy="1066680"/>
            </a:xfrm>
          </p:grpSpPr>
          <p:sp>
            <p:nvSpPr>
              <p:cNvPr id="178" name="Line 12"/>
              <p:cNvSpPr/>
              <p:nvPr/>
            </p:nvSpPr>
            <p:spPr>
              <a:xfrm>
                <a:off x="5791320" y="3962520"/>
                <a:ext cx="2133360" cy="106668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5791320" y="3962520"/>
                <a:ext cx="2133360" cy="10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4"/>
          <p:cNvGrpSpPr/>
          <p:nvPr/>
        </p:nvGrpSpPr>
        <p:grpSpPr>
          <a:xfrm>
            <a:off x="2666880" y="3962520"/>
            <a:ext cx="1905480" cy="1371960"/>
            <a:chOff x="2666880" y="3962520"/>
            <a:chExt cx="1905480" cy="1371960"/>
          </a:xfrm>
        </p:grpSpPr>
        <p:grpSp>
          <p:nvGrpSpPr>
            <p:cNvPr id="181" name=""/>
            <p:cNvGrpSpPr/>
            <p:nvPr/>
          </p:nvGrpSpPr>
          <p:grpSpPr>
            <a:xfrm>
              <a:off x="2666880" y="5334120"/>
              <a:ext cx="1067040" cy="360"/>
              <a:chOff x="2666880" y="5334120"/>
              <a:chExt cx="1067040" cy="360"/>
            </a:xfrm>
          </p:grpSpPr>
          <p:sp>
            <p:nvSpPr>
              <p:cNvPr id="182" name="Line 6"/>
              <p:cNvSpPr/>
              <p:nvPr/>
            </p:nvSpPr>
            <p:spPr>
              <a:xfrm>
                <a:off x="2666880" y="5334120"/>
                <a:ext cx="1067040" cy="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2666880" y="5334120"/>
                <a:ext cx="106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572000" y="3962520"/>
              <a:ext cx="360" cy="990360"/>
              <a:chOff x="4572000" y="3962520"/>
              <a:chExt cx="360" cy="990360"/>
            </a:xfrm>
          </p:grpSpPr>
          <p:sp>
            <p:nvSpPr>
              <p:cNvPr id="185" name="Line 13"/>
              <p:cNvSpPr/>
              <p:nvPr/>
            </p:nvSpPr>
            <p:spPr>
              <a:xfrm>
                <a:off x="4572000" y="3962520"/>
                <a:ext cx="0" cy="990360"/>
              </a:xfrm>
              <a:prstGeom prst="line">
                <a:avLst/>
              </a:prstGeom>
              <a:ln w="38160">
                <a:solidFill>
                  <a:srgbClr val="cc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4572000" y="396252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99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5"/>
          <p:cNvSpPr/>
          <p:nvPr/>
        </p:nvSpPr>
        <p:spPr>
          <a:xfrm>
            <a:off x="2195640" y="256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540054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540054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每个人都有美好的童年。童年的梦都是彩色的，也会飞的！</a:t>
            </a:r>
            <a:br>
              <a:rPr sz="4000"/>
            </a:b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你看那会飞的梦，居然使一个</a:t>
            </a:r>
            <a:r>
              <a:rPr b="1" lang="en-US" sz="4000" spc="-1" strike="noStrike">
                <a:solidFill>
                  <a:srgbClr val="fff9cf"/>
                </a:solidFill>
                <a:latin typeface="宋体"/>
                <a:ea typeface="宋体"/>
              </a:rPr>
              <a:t>9</a:t>
            </a:r>
            <a:r>
              <a:rPr b="1" lang="zh-CN" sz="4000" spc="-1" strike="noStrike">
                <a:solidFill>
                  <a:srgbClr val="fff9cf"/>
                </a:solidFill>
                <a:latin typeface="宋体"/>
                <a:ea typeface="宋体"/>
              </a:rPr>
              <a:t>岁的孩子有了跟伟大的科学家达尔文一样的发现。一起去看看吧！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  <a:ea typeface="宋体"/>
              </a:rPr>
              <a:t>首先我们来看看这篇课文吧！</a:t>
            </a:r>
            <a:endParaRPr b="1" lang="en-US" sz="4000" spc="-1" strike="noStrike">
              <a:solidFill>
                <a:srgbClr val="ff9900"/>
              </a:solidFill>
              <a:latin typeface="幼圆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160" y="2209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同学们要大声地朗读这篇课文，这是一篇自读课文，主要要靠你们自己学习它</a:t>
            </a:r>
            <a:r>
              <a:rPr b="0" lang="zh-CN" sz="2800" spc="-1" strike="noStrike">
                <a:solidFill>
                  <a:srgbClr val="ccffff"/>
                </a:solidFill>
                <a:latin typeface="宋体"/>
                <a:ea typeface="宋体"/>
              </a:rPr>
              <a:t>！</a:t>
            </a:r>
            <a:endParaRPr b="0" lang="en-US" sz="28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57200" y="373392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课文共分三部分：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第一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、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</a:rPr>
              <a:t>自然段）讲“我”回忆童年时，因想起了自己的发现，情不自禁笑出了声音，而受到惩罚。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第二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3—13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自然段）“我”在睡梦中发现自己总在飞翔，问过老师后仍没有找到答案，“我”便自己观察，思考发现了人类进化的规律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2057400"/>
            <a:ext cx="830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第三段（</a:t>
            </a: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14—19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自然段）四年后，在生物课上当老师讲到人的起源时，“我”想到了自己的发现便笑出了声。老师认为“我”的笑不怀好意，便把“我”轰出了教室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接下来我们来看看“我”是怎样发现胚胎发育规律的？又是怎样找到答案的？</a:t>
            </a:r>
            <a:r>
              <a:rPr b="1" lang="zh-CN" sz="3600" spc="-1" strike="noStrike">
                <a:solidFill>
                  <a:srgbClr val="ccffff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宋体"/>
                <a:ea typeface="宋体"/>
              </a:rPr>
              <a:t>① “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我”是在做梦中发现自己总在飞翔，并且发现其他同学也具有“飞行”的天赋，于是便产生了好奇，想解决这个奇妙的问题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我们一起找到老师，请他给我们解答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③</a:t>
            </a:r>
            <a:r>
              <a:rPr b="1" lang="zh-CN" sz="3200" spc="-1" strike="noStrike">
                <a:solidFill>
                  <a:srgbClr val="ccffff"/>
                </a:solidFill>
                <a:latin typeface="宋体"/>
                <a:ea typeface="宋体"/>
              </a:rPr>
              <a:t>老师并没有给我们一个满意的答案，便激发了“我”的想象力，渴望弄明白人究竟是怎么来的。</a:t>
            </a:r>
            <a:endParaRPr b="0" lang="en-US" sz="32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7524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宋体"/>
                <a:ea typeface="宋体"/>
              </a:rPr>
              <a:t>④“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我”想得是那样痴迷，以至于亲自抓来鱼，仔细观察，想从鱼身上发现人应具有的某些特征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⑤“</a:t>
            </a: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我”经过思考、推算，终于找到了问题的答案。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41148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22096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宋体"/>
                <a:ea typeface="宋体"/>
              </a:rPr>
              <a:t>从“我”的发现过程中，看出“我”是个怎样的孩子？（“我”善于观察，喜欢问为什么，并有着执著的精神。）</a:t>
            </a:r>
            <a:endParaRPr b="0" lang="en-US" sz="3600" spc="-1" strike="noStrike">
              <a:solidFill>
                <a:srgbClr val="ccffff"/>
              </a:solidFill>
              <a:latin typeface="楷体_GB2312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4617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现在你能说说</a:t>
            </a:r>
            <a:r>
              <a:rPr b="1" lang="zh-CN" sz="3600" spc="-1" strike="noStrike">
                <a:solidFill>
                  <a:srgbClr val="f5fad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f5fad4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f5fad4"/>
                </a:solidFill>
                <a:latin typeface="Arial"/>
              </a:rPr>
              <a:t>为什么会有这样的发现吗？</a:t>
            </a:r>
            <a:endParaRPr b="0" lang="en-US" sz="36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4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cc99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14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12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