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28.png" ContentType="image/png"/>
  <Override PartName="/ppt/media/image10.jpeg" ContentType="image/jpeg"/>
  <Override PartName="/ppt/media/image8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29.jpeg" ContentType="image/jpeg"/>
  <Override PartName="/ppt/media/image37.gif" ContentType="image/gif"/>
  <Override PartName="/ppt/media/image23.jpeg" ContentType="image/jpeg"/>
  <Override PartName="/ppt/media/image12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2.jpeg" ContentType="image/jpeg"/>
  <Override PartName="/ppt/media/image36.jpeg" ContentType="image/jpeg"/>
  <Override PartName="/ppt/media/image31.png" ContentType="image/png"/>
  <Override PartName="/ppt/media/image6.png" ContentType="image/png"/>
  <Override PartName="/ppt/media/image5.jpeg" ContentType="image/jpeg"/>
  <Override PartName="/ppt/media/image26.jpeg" ContentType="image/jpeg"/>
  <Override PartName="/ppt/media/image17.png" ContentType="image/png"/>
  <Override PartName="/ppt/media/image32.jpeg" ContentType="image/jpeg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14.jpeg" ContentType="image/jpeg"/>
  <Override PartName="/ppt/media/image16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3CDD-C247-40EE-AE94-CBC4AF8D4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FBC1-2A8C-4021-A6CE-8A57B0A1C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6FA2-C1BB-43E1-B63F-66EEDA42E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29C6-CD40-4B77-9662-664F92293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F8FA4-D9CF-4EA6-8383-8CEC3F6C0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FEF2D-6531-4115-98C7-E6B8E857F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C8FB5-57DE-4E74-B8E6-2F497E447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6A25C-5004-4A54-907C-E74C0B1C1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F7F37-8C8C-4D43-8F39-3FFA1470D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D2C2E-0415-456C-AE2E-BAAA96811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51413-A7A6-48C8-9483-238A2B1F5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B544-D9DE-4F69-B22B-6FAB9E123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1DCC2-19A1-401D-85E9-E4B3A7CE3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D0540-AE6C-4706-8148-02FD6E174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45CA8-6893-4754-A081-44F9832EB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5B252-B3F2-425C-9F22-EE7572778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55D00-72F5-4B0D-A6EC-E2FBD4A99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AB00E-5E4D-4668-BC57-8A25653C6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70329-C0EB-4B42-BFB8-8FD7B6C0D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76CD3-A048-4B70-B079-9577B3344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714FB-88BD-486A-B596-5DB81E089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D169D-1ABE-409E-B23F-AFDA1DD7E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01EA-B74A-4458-85BA-4863CAE28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7DA33-C11C-4FB9-BDEE-48F89E146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E2DA3-AA2E-4EB1-938C-24011934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E907B-F6E3-4ADF-9709-BDA81C582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B714C-DB6A-4AE6-8442-58192E14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B0213-543E-4241-B0F5-FBBDB3469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5015F-C037-4C06-8679-397370B9C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0A944-0FCA-466E-9CE7-5859B5B0C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792E6-CB6E-48B4-AACE-3EBDCEB9A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74A73-EB13-468B-99DA-FC83D264F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FE9BF-B7F2-40D3-AAD2-3A88D0D3B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FA8B-A4BB-4A88-9B1D-F4ECD8963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BF820-C46F-4BF1-AC3B-BA849FF06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A0D58-D8BD-4855-BD57-1D3F2F3F8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23815-AFED-46CD-A7E0-7E89EAD87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34DE8-3175-4CDA-8B17-8F56F7F33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7700D-FC5B-4162-A636-4B4CFEDA7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37344-ECAE-466B-BE2F-403B6E50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F2C99-F907-4546-B99C-FF14FA2B2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0125B-DD3D-41C5-B599-0B6E052A5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72E78-C883-47AF-B4E3-0A0F46B2C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E375-6740-4CEE-9233-BE7DE4E8B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5767-5382-44CB-8F93-2ECEAED0A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66D2-BE9B-4CE3-A029-263728B31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D0A3-79EA-4D7C-9E80-A4B9D0D50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48D2-DB4C-4C96-B096-13E84A88E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3BB37-E322-4252-97DF-7EC22F21AF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42" name="Rectangle 3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5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24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25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27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28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29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30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Freeform 31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Freeform 32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33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34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35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36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37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39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40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Freeform 41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Freeform 42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Freeform 43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44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Freeform 45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Freeform 46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47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Freeform 48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Freeform 49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Rectangle 51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Freeform 52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Freeform 53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Freeform 54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Freeform 55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Freeform 56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Freeform 57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Freeform 58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Freeform 59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Freeform 60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Freeform 61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Rectangle 63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Freeform 64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Freeform 65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Freeform 66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Freeform 67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Freeform 68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Freeform 69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Freeform 70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71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Freeform 72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Freeform 73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75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Freeform 76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Freeform 77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Freeform 78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Freeform 79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Freeform 80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81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Freeform 82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Freeform 83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Freeform 84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Freeform 85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87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Freeform 88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Freeform 89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Freeform 90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Freeform 91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Freeform 92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Freeform 93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Freeform 94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Freeform 95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Freeform 96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Freeform 97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Rectangle 99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Freeform 100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Freeform 101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Freeform 102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Freeform 103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Freeform 104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Freeform 105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Freeform 106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Freeform 107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Freeform 108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Freeform 109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111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Freeform 112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Freeform 113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Freeform 114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Freeform 115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Freeform 116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Freeform 117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Freeform 118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Freeform 119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Freeform 120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Freeform 121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Rectangle 123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Freeform 124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Freeform 125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Freeform 126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Freeform 127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Freeform 128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Freeform 129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Freeform 130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Freeform 131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Freeform 132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Freeform 133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135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Freeform 136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Freeform 137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Freeform 138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Freeform 139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Freeform 140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Freeform 141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Freeform 142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Freeform 143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Freeform 144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Freeform 145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Freeform 147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88" name="Freeform 149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Freeform 150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Freeform 151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Freeform 152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Freeform 153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Freeform 154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Freeform 155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Freeform 156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Freeform 157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Freeform 158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Freeform 159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Freeform 160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Freeform 161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202" name="Freeform 163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Freeform 164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Freeform 165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Freeform 166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Freeform 167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Freeform 168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Freeform 169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Freeform 170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Freeform 171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Freeform 172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Freeform 173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Freeform 174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Freeform 175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216" name="Freeform 177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Freeform 178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Freeform 179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Freeform 180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Freeform 181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Freeform 182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Freeform 183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Freeform 184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Freeform 185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Freeform 186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Freeform 187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Freeform 188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Freeform 189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230" name="Freeform 191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Freeform 192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Freeform 193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Freeform 194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Freeform 195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Freeform 196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Freeform 197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Freeform 198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Freeform 199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Freeform 200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Freeform 201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Freeform 202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Freeform 203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44" name="Freeform 205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Freeform 206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Freeform 207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Freeform 208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Freeform 209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Freeform 210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Freeform 211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Freeform 212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Freeform 213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Freeform 214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Freeform 215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Freeform 216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Freeform 217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58" name="Freeform 219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reeform 220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Freeform 221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Freeform 222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Freeform 223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Freeform 224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Freeform 225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Freeform 226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Freeform 227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Freeform 228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Freeform 229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Freeform 230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Freeform 231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Group 232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72" name="Freeform 233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3" name="Group 234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74" name="Freeform 235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Freeform 236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Freeform 237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Freeform 238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Freeform 239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Freeform 240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Freeform 241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Freeform 242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Freeform 243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Freeform 244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Freeform 245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Freeform 246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Freeform 247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4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5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6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DB899-C2B9-4D1E-A34E-40CAC8DB43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B8BBF-2EE6-44CE-BB4B-7760C3B0029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Freeform 1026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Group 1027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371" name="Freeform 1028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Freeform 1029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Freeform 1030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Freeform 1031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Freeform 1032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Freeform 1033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Freeform 1034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Freeform 1035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Freeform 1036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Freeform 1037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Freeform 1038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Freeform 1039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Freeform 1040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" name="Group 1041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85" name="Rectangle 1042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Freeform 1043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Freeform 1044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Freeform 1045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Freeform 1046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Freeform 1047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Freeform 1048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Freeform 1049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Freeform 1050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Freeform 1051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Freeform 1052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Rectangle 1053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Rectangle 1054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Freeform 1055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Freeform 1056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Freeform 1057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Freeform 1058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Freeform 1059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Freeform 1060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Freeform 1061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Freeform 1062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Freeform 1063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Freeform 1064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Rectangle 1065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Rectangle 1066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Freeform 1067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Freeform 1068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Freeform 1069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Freeform 1070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Freeform 1071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Freeform 1072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Freeform 1073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Freeform 1074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Freeform 1075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Freeform 1076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Rectangle 1077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Rectangle 1078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Freeform 1079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Freeform 1080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Freeform 1081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Freeform 1082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Freeform 1083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Freeform 1084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Freeform 1085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Freeform 1086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Freeform 1087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Freeform 1088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Rectangle 1089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Rectangle 1090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Freeform 1091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Freeform 1092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Freeform 1093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Freeform 1094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Freeform 1095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Freeform 1096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Freeform 1097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Freeform 1098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Freeform 1099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Freeform 1100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Rectangle 1101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Rectangle 1102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Freeform 1103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Freeform 1104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Freeform 1105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Freeform 1106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Freeform 1107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Freeform 1108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Freeform 1109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Freeform 1110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Freeform 1111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Freeform 1112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Rectangle 1113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Rectangle 1114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Freeform 1115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Freeform 1116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Freeform 1117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Freeform 1118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Freeform 1119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Freeform 1120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Freeform 1121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Freeform 1122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Freeform 1123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Freeform 1124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Rectangle 1125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Rectangle 1126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Freeform 1127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Freeform 1128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Freeform 1129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Freeform 1130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Freeform 1131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Freeform 1132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Freeform 1133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Freeform 1134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Freeform 1135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Freeform 1136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Rectangle 1137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Rectangle 1138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Freeform 1139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Freeform 1140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Freeform 1141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Freeform 1142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Freeform 1143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Freeform 1144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Freeform 1145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Freeform 1146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Freeform 1147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Freeform 1148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Rectangle 1149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Rectangle 1150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Freeform 1151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Freeform 1152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Freeform 1153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Freeform 1154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Freeform 1155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Freeform 1156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Freeform 1157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Freeform 1158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Freeform 1159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Freeform 1160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Rectangle 1161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Rectangle 1162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Freeform 1163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Freeform 1164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Freeform 1165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Freeform 1166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Freeform 1167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Freeform 1168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Freeform 1169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Freeform 1170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Freeform 1171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Freeform 1172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Rectangle 1173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Rectangle 1174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Freeform 1175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Freeform 1176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Freeform 1177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Freeform 1178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Freeform 1179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Freeform 1180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Freeform 1181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Freeform 1182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Freeform 1183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Freeform 1184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Rectangle 1185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Freeform 1186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1192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531" name="Freeform 1193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Freeform 1194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Freeform 1195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Freeform 1196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Freeform 1197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Freeform 1198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Freeform 1199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Freeform 1200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Freeform 1201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Freeform 1202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Freeform 1203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Freeform 1204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Freeform 1205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 type="dt" idx="10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 type="ftr" idx="11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5B600-9AAF-46E6-8635-D74D350EE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图片 1" descr=""/>
          <p:cNvPicPr/>
          <p:nvPr/>
        </p:nvPicPr>
        <p:blipFill>
          <a:blip r:embed="rId1"/>
          <a:srcRect l="0" t="0" r="0" b="507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6" name="Text Box 2"/>
          <p:cNvSpPr/>
          <p:nvPr/>
        </p:nvSpPr>
        <p:spPr>
          <a:xfrm>
            <a:off x="755640" y="620640"/>
            <a:ext cx="728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宋体"/>
                <a:ea typeface="宋体"/>
              </a:rPr>
              <a:t> </a:t>
            </a:r>
            <a:r>
              <a:rPr b="1" lang="zh-CN" sz="4000" spc="-1" strike="noStrike">
                <a:solidFill>
                  <a:srgbClr val="0070c0"/>
                </a:solidFill>
                <a:latin typeface="宋体"/>
                <a:ea typeface="宋体"/>
              </a:rPr>
              <a:t>谈</a:t>
            </a:r>
            <a:r>
              <a:rPr b="1" lang="zh-CN" sz="4000" spc="-1" strike="noStrike">
                <a:solidFill>
                  <a:srgbClr val="0070c0"/>
                </a:solidFill>
                <a:latin typeface="宋体"/>
                <a:ea typeface="宋体"/>
              </a:rPr>
              <a:t>生命语文课件</a:t>
            </a:r>
            <a:r>
              <a:rPr b="1" lang="en-US" sz="4000" spc="-1" strike="noStrike">
                <a:solidFill>
                  <a:srgbClr val="0070c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70c0"/>
                </a:solidFill>
                <a:latin typeface="宋体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4"/>
          <p:cNvSpPr/>
          <p:nvPr/>
        </p:nvSpPr>
        <p:spPr>
          <a:xfrm>
            <a:off x="3650760" y="4114800"/>
            <a:ext cx="152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cc99"/>
                </a:solidFill>
                <a:latin typeface="Times New Roman"/>
                <a:ea typeface="华文行楷"/>
              </a:rPr>
              <a:t>冰心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文本框 6155"/>
          <p:cNvSpPr/>
          <p:nvPr/>
        </p:nvSpPr>
        <p:spPr>
          <a:xfrm>
            <a:off x="108000" y="5805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Picture 4" descr="20040203165758(10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1" name="Text Box 5"/>
          <p:cNvSpPr/>
          <p:nvPr/>
        </p:nvSpPr>
        <p:spPr>
          <a:xfrm>
            <a:off x="755640" y="69228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这些体验有无先后顺序？从中你领悟到什么道理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6"/>
          <p:cNvSpPr/>
          <p:nvPr/>
        </p:nvSpPr>
        <p:spPr>
          <a:xfrm>
            <a:off x="838080" y="1752480"/>
            <a:ext cx="7705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所描写的几个“有时候”的情况，从事物性质和发生的状态来看，不分先后阶段，即不与人的生命历程的阶段一一对应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这些情况喻示着人的生命历程中的几种状况，显示了人生的丰富多彩：人生总是幸福与苦难、顺利与曲折相伴而随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文本框 8198"/>
          <p:cNvSpPr/>
          <p:nvPr/>
        </p:nvSpPr>
        <p:spPr>
          <a:xfrm>
            <a:off x="1044720" y="117360"/>
            <a:ext cx="5040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Picture 10" descr="kinoko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826160" y="-360"/>
            <a:ext cx="4317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生命的规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4067280" y="1052640"/>
            <a:ext cx="4752720" cy="5472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66"/>
                </a:solidFill>
                <a:latin typeface="Times New Roman"/>
                <a:ea typeface="隶书"/>
              </a:rPr>
              <a:t>始而渺小、微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Times New Roman"/>
                <a:ea typeface="隶书"/>
              </a:rPr>
              <a:t>继而强健、壮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Times New Roman"/>
                <a:ea typeface="隶书"/>
              </a:rPr>
              <a:t>终而归于消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Times New Roman"/>
                <a:ea typeface="隶书"/>
              </a:rPr>
              <a:t>其间幸福与苦难、顺利与曲折相伴相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7" name="Picture 9" descr="bmbn04"/>
          <p:cNvPicPr/>
          <p:nvPr/>
        </p:nvPicPr>
        <p:blipFill>
          <a:blip r:embed="rId2"/>
          <a:stretch/>
        </p:blipFill>
        <p:spPr>
          <a:xfrm>
            <a:off x="7956720" y="5950080"/>
            <a:ext cx="934920" cy="90792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11" descr="d1"/>
          <p:cNvPicPr/>
          <p:nvPr/>
        </p:nvPicPr>
        <p:blipFill>
          <a:blip r:embed="rId3"/>
          <a:stretch/>
        </p:blipFill>
        <p:spPr>
          <a:xfrm>
            <a:off x="8172360" y="476280"/>
            <a:ext cx="971640" cy="1512720"/>
          </a:xfrm>
          <a:prstGeom prst="rect">
            <a:avLst/>
          </a:prstGeom>
          <a:ln w="0">
            <a:noFill/>
          </a:ln>
        </p:spPr>
      </p:pic>
      <p:sp>
        <p:nvSpPr>
          <p:cNvPr id="629" name="Text Box 12"/>
          <p:cNvSpPr/>
          <p:nvPr/>
        </p:nvSpPr>
        <p:spPr>
          <a:xfrm>
            <a:off x="1547640" y="476280"/>
            <a:ext cx="174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春水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13"/>
          <p:cNvSpPr/>
          <p:nvPr/>
        </p:nvSpPr>
        <p:spPr>
          <a:xfrm>
            <a:off x="1844280" y="1380960"/>
            <a:ext cx="851400" cy="764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Times New Roman"/>
                <a:ea typeface="隶书"/>
              </a:rPr>
              <a:t>发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14"/>
          <p:cNvSpPr/>
          <p:nvPr/>
        </p:nvSpPr>
        <p:spPr>
          <a:xfrm>
            <a:off x="1917360" y="2462040"/>
            <a:ext cx="851400" cy="764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Times New Roman"/>
                <a:ea typeface="隶书"/>
              </a:rPr>
              <a:t>过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15"/>
          <p:cNvSpPr/>
          <p:nvPr/>
        </p:nvSpPr>
        <p:spPr>
          <a:xfrm>
            <a:off x="1844280" y="3902040"/>
            <a:ext cx="851400" cy="764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Times New Roman"/>
                <a:ea typeface="隶书"/>
              </a:rPr>
              <a:t>入海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4" descr="20040203165758(12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4" name="Text Box 5"/>
          <p:cNvSpPr/>
          <p:nvPr/>
        </p:nvSpPr>
        <p:spPr>
          <a:xfrm>
            <a:off x="1187280" y="836640"/>
            <a:ext cx="64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请学生朗读“一棵小树”部分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6"/>
          <p:cNvSpPr/>
          <p:nvPr/>
        </p:nvSpPr>
        <p:spPr>
          <a:xfrm>
            <a:off x="900000" y="1773360"/>
            <a:ext cx="756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作者按什么顺序写了“一棵树”？树的一生中有怎样的经历？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7"/>
          <p:cNvSpPr/>
          <p:nvPr/>
        </p:nvSpPr>
        <p:spPr>
          <a:xfrm>
            <a:off x="1258920" y="3284640"/>
            <a:ext cx="35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生长顺序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9"/>
          <p:cNvSpPr/>
          <p:nvPr/>
        </p:nvSpPr>
        <p:spPr>
          <a:xfrm>
            <a:off x="1219320" y="525780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四季的不同状态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10"/>
          <p:cNvSpPr/>
          <p:nvPr/>
        </p:nvSpPr>
        <p:spPr>
          <a:xfrm>
            <a:off x="990720" y="388620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在生命的历程中，小树是如何度过生命的每一个阶段的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ccffff"/>
                </a:solidFill>
                <a:latin typeface="Times New Roman"/>
                <a:ea typeface="华文细黑"/>
              </a:rPr>
              <a:t>一棵小树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Picture 4" descr="20043721365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-324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9900"/>
                </a:solidFill>
                <a:latin typeface="Times New Roman"/>
                <a:ea typeface="华文细黑"/>
              </a:rPr>
              <a:t>满树繁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Picture 4" descr="大树"/>
          <p:cNvPicPr/>
          <p:nvPr/>
        </p:nvPicPr>
        <p:blipFill>
          <a:blip r:embed="rId1"/>
          <a:stretch/>
        </p:blipFill>
        <p:spPr>
          <a:xfrm>
            <a:off x="-612720" y="0"/>
            <a:ext cx="9756720" cy="6858000"/>
          </a:xfrm>
          <a:prstGeom prst="rect">
            <a:avLst/>
          </a:prstGeom>
          <a:ln w="0">
            <a:noFill/>
          </a:ln>
        </p:spPr>
      </p:pic>
      <p:sp>
        <p:nvSpPr>
          <p:cNvPr id="643" name="Text Box 5"/>
          <p:cNvSpPr/>
          <p:nvPr/>
        </p:nvSpPr>
        <p:spPr>
          <a:xfrm>
            <a:off x="250920" y="620640"/>
            <a:ext cx="403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隶书"/>
              </a:rPr>
              <a:t>茂盛荫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2" dur="500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果实累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6" name="Picture 1028" descr="pinggguo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落叶枯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440" y="609480"/>
            <a:ext cx="56768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9" name="Picture 4" descr="xinjiang"/>
          <p:cNvPicPr/>
          <p:nvPr/>
        </p:nvPicPr>
        <p:blipFill>
          <a:blip r:embed="rId2"/>
          <a:stretch/>
        </p:blipFill>
        <p:spPr>
          <a:xfrm>
            <a:off x="685800" y="609480"/>
            <a:ext cx="6172200" cy="5715000"/>
          </a:xfrm>
          <a:prstGeom prst="rect">
            <a:avLst/>
          </a:prstGeom>
          <a:ln w="0">
            <a:noFill/>
          </a:ln>
        </p:spPr>
      </p:pic>
      <p:sp>
        <p:nvSpPr>
          <p:cNvPr id="650" name="AutoShape 5">
            <a:hlinkClick r:id="" action="ppaction://hlinkshowjump?jump=firstslide"/>
          </p:cNvPr>
          <p:cNvSpPr/>
          <p:nvPr/>
        </p:nvSpPr>
        <p:spPr>
          <a:xfrm>
            <a:off x="8229600" y="5943600"/>
            <a:ext cx="687240" cy="687240"/>
          </a:xfrm>
          <a:custGeom>
            <a:avLst/>
            <a:gdLst>
              <a:gd name="textAreaLeft" fmla="*/ 44280 w 687240"/>
              <a:gd name="textAreaRight" fmla="*/ 642960 w 687240"/>
              <a:gd name="textAreaTop" fmla="*/ 44280 h 687240"/>
              <a:gd name="textAreaBottom" fmla="*/ 642960 h 68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2" name="Picture 1028" descr="XC2040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3" name="Picture 8" descr="PIC_0055"/>
          <p:cNvPicPr/>
          <p:nvPr/>
        </p:nvPicPr>
        <p:blipFill>
          <a:blip r:embed="rId1"/>
          <a:stretch/>
        </p:blipFill>
        <p:spPr>
          <a:xfrm>
            <a:off x="0" y="6788160"/>
            <a:ext cx="9144000" cy="69840"/>
          </a:xfrm>
          <a:prstGeom prst="rect">
            <a:avLst/>
          </a:prstGeom>
          <a:ln w="0">
            <a:noFill/>
          </a:ln>
        </p:spPr>
      </p:pic>
      <p:sp>
        <p:nvSpPr>
          <p:cNvPr id="654" name="Text Box 5"/>
          <p:cNvSpPr/>
          <p:nvPr/>
        </p:nvSpPr>
        <p:spPr>
          <a:xfrm>
            <a:off x="2679840" y="3645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5" name="Picture 9" descr="xinjiang"/>
          <p:cNvPicPr/>
          <p:nvPr/>
        </p:nvPicPr>
        <p:blipFill>
          <a:blip r:embed="rId2"/>
          <a:stretch/>
        </p:blipFill>
        <p:spPr>
          <a:xfrm>
            <a:off x="0" y="6858000"/>
            <a:ext cx="9144000" cy="10008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10" descr="sm060"/>
          <p:cNvPicPr/>
          <p:nvPr/>
        </p:nvPicPr>
        <p:blipFill>
          <a:blip r:embed="rId3"/>
          <a:stretch/>
        </p:blipFill>
        <p:spPr>
          <a:xfrm>
            <a:off x="0" y="0"/>
            <a:ext cx="6119640" cy="6858000"/>
          </a:xfrm>
          <a:prstGeom prst="rect">
            <a:avLst/>
          </a:prstGeom>
          <a:ln w="0">
            <a:noFill/>
          </a:ln>
        </p:spPr>
      </p:pic>
      <p:sp>
        <p:nvSpPr>
          <p:cNvPr id="657" name="Rectangle 11"/>
          <p:cNvSpPr/>
          <p:nvPr/>
        </p:nvSpPr>
        <p:spPr>
          <a:xfrm>
            <a:off x="5580000" y="0"/>
            <a:ext cx="3564000" cy="2043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一段难看的树桩不知遭遇了什么情状竟断裂、枯干、粗糙，让人很容易想到死亡，然而，就在它那断裂、枯烂、粗糙的身躯上竟长出了两棵幼嫩的翠绿的新芽！我们能不油然而生出一种感动、一种感慨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文本框 8198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4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5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6"/>
          <p:cNvSpPr/>
          <p:nvPr/>
        </p:nvSpPr>
        <p:spPr>
          <a:xfrm>
            <a:off x="4581360" y="533520"/>
            <a:ext cx="4562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原名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：谢婉莹，福建长乐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代表作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：诗集有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繁星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》《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春水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》《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冰心诗集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上海文艺出版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8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开始出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卷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冰心文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收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1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8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创作的绝大部分作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Picture 7" descr="cartoon"/>
          <p:cNvPicPr/>
          <p:nvPr/>
        </p:nvPicPr>
        <p:blipFill>
          <a:blip r:embed="rId1"/>
          <a:stretch/>
        </p:blipFill>
        <p:spPr>
          <a:xfrm>
            <a:off x="0" y="0"/>
            <a:ext cx="4648320" cy="685800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3-5"/>
          <p:cNvPicPr/>
          <p:nvPr/>
        </p:nvPicPr>
        <p:blipFill>
          <a:blip r:embed="rId2"/>
          <a:stretch/>
        </p:blipFill>
        <p:spPr>
          <a:xfrm>
            <a:off x="4800600" y="2852640"/>
            <a:ext cx="434340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Picture 1028" descr="bmbn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0" name="Text Box 1045"/>
          <p:cNvSpPr/>
          <p:nvPr/>
        </p:nvSpPr>
        <p:spPr>
          <a:xfrm>
            <a:off x="1908000" y="2060640"/>
            <a:ext cx="64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 Box 1046"/>
          <p:cNvSpPr/>
          <p:nvPr/>
        </p:nvSpPr>
        <p:spPr>
          <a:xfrm>
            <a:off x="1877400" y="115920"/>
            <a:ext cx="5900040" cy="59432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早春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：勇敢快乐的破壳而出       人生的幼年时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（顽强的生命力）          （朝气蓬勃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春天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：开出满树的桃花                青年时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夏日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：伸展出他如盖的浓荫        中年时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秋日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：有一番庄严灿烂                老年时期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冬日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：黄叶干枝，卷落吹抖        生命的终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从地下的果仁中破裂出来         新生命的继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4" descr="20040205114703(9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3" name="Text Box 5"/>
          <p:cNvSpPr/>
          <p:nvPr/>
        </p:nvSpPr>
        <p:spPr>
          <a:xfrm>
            <a:off x="324000" y="549360"/>
            <a:ext cx="568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通过“一棵小树”的经历，使我们得到哪些启示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 Box 6"/>
          <p:cNvSpPr/>
          <p:nvPr/>
        </p:nvSpPr>
        <p:spPr>
          <a:xfrm>
            <a:off x="900000" y="2781360"/>
            <a:ext cx="54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几个连续的阶段，勾画着或喻示人的生命历程，生命的规律就是从渺小微弱，继而强健壮大，最终归于消亡。生命始终向前发展，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蓬勃生长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、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这是任何力量都不可阻挡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Picture 5" descr="glvbc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6" name="Text Box 4"/>
          <p:cNvSpPr/>
          <p:nvPr/>
        </p:nvSpPr>
        <p:spPr>
          <a:xfrm>
            <a:off x="395280" y="1273320"/>
            <a:ext cx="3095640" cy="33858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隶书"/>
              </a:rPr>
              <a:t>生命中不是永远快乐，也不是永远痛苦，快乐和痛苦是相生相成的，在快乐中我们要感谢生命，在痛苦中我们也要感谢生命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 Box 6"/>
          <p:cNvSpPr/>
          <p:nvPr/>
        </p:nvSpPr>
        <p:spPr>
          <a:xfrm>
            <a:off x="5003640" y="1700280"/>
            <a:ext cx="327672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  <a:ea typeface="隶书"/>
              </a:rPr>
              <a:t>   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隶书"/>
              </a:rPr>
              <a:t>生命中充满喜怒哀乐但无论是痛苦还是快乐，都是我们生命中一部分。都同样丰富着我们的人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 Box 7"/>
          <p:cNvSpPr/>
          <p:nvPr/>
        </p:nvSpPr>
        <p:spPr>
          <a:xfrm>
            <a:off x="611280" y="0"/>
            <a:ext cx="77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你能从这最后一层中找出一位世纪老人的肺腑之言吗？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9" name="Picture 4" descr="20040203165944(6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0" name="Rectangle 6"/>
          <p:cNvSpPr/>
          <p:nvPr/>
        </p:nvSpPr>
        <p:spPr>
          <a:xfrm>
            <a:off x="826920" y="692280"/>
            <a:ext cx="7920360" cy="5814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作为一篇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散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本文所涉及的是一个很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抽象的话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那么作者是如何将它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生动化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形象化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Text Box 7"/>
          <p:cNvSpPr/>
          <p:nvPr/>
        </p:nvSpPr>
        <p:spPr>
          <a:xfrm>
            <a:off x="762120" y="2438280"/>
            <a:ext cx="7924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选择合适的载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 描述“一江春水”、“一棵小树”的行进和生长现象，生动形象，蕴藉含蓄，给人以审美的享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语言明朗、灵动、蕴藉，有韵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描绘了两幅跨越时空的滚动条画，贯穿两幅画面始终的是作者对生命深刻的感悟和由衷的礼赞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Picture 4" descr="20040203165944(9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3" name="Text Box 5"/>
          <p:cNvSpPr/>
          <p:nvPr/>
        </p:nvSpPr>
        <p:spPr>
          <a:xfrm>
            <a:off x="971640" y="765000"/>
            <a:ext cx="734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本文在章法上颇具匠心，使用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华文中宋"/>
              </a:rPr>
              <a:t>间隔反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的手法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让“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然而我不敢说来生，也不敢信来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”一语构成明线，两幅画后面，作者都用了“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他消融了，归化了，说不上快乐，也没有悲哀！也许有一天，他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……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整齐的形式。稍有变化的语句，既归结了每段内容，又共同强调了生命最终回归大自然怀抱和新陈代谢的必然规律，使两幅画在内容上构成一个有机的整体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Picture 12" descr="FR8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5" name="Text Box 4"/>
          <p:cNvSpPr/>
          <p:nvPr/>
        </p:nvSpPr>
        <p:spPr>
          <a:xfrm>
            <a:off x="448920" y="0"/>
            <a:ext cx="15210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想象和联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 Box 5"/>
          <p:cNvSpPr/>
          <p:nvPr/>
        </p:nvSpPr>
        <p:spPr>
          <a:xfrm>
            <a:off x="2050920" y="1773360"/>
            <a:ext cx="5257800" cy="64260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、作者把生命比做水和树，你呢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 Box 6"/>
          <p:cNvSpPr/>
          <p:nvPr/>
        </p:nvSpPr>
        <p:spPr>
          <a:xfrm>
            <a:off x="2124000" y="2852640"/>
            <a:ext cx="5112000" cy="199404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、是否能联想到某些名句  来加深感悟吗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请用下列格式说话：“我感受到，生命因为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……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而美丽”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Text Box 2"/>
          <p:cNvSpPr/>
          <p:nvPr/>
        </p:nvSpPr>
        <p:spPr>
          <a:xfrm>
            <a:off x="1625760" y="457200"/>
            <a:ext cx="31982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你能仿照下句写句话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3"/>
          <p:cNvSpPr/>
          <p:nvPr/>
        </p:nvSpPr>
        <p:spPr>
          <a:xfrm>
            <a:off x="533520" y="1752480"/>
            <a:ext cx="7483320" cy="82512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66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愿你生命中有够多的云翳，来造成一个美丽的黄昏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4"/>
          <p:cNvSpPr/>
          <p:nvPr/>
        </p:nvSpPr>
        <p:spPr>
          <a:xfrm>
            <a:off x="609480" y="3733920"/>
            <a:ext cx="7391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例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愿你生命中有丰富的色彩，来描绘一幅壮丽的画卷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愿你生命中有动人的音符，来谱写一支雄壮的歌曲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1" name="Picture 4" descr="bmbn00"/>
          <p:cNvPicPr/>
          <p:nvPr/>
        </p:nvPicPr>
        <p:blipFill>
          <a:blip r:embed="rId1"/>
          <a:stretch/>
        </p:blipFill>
        <p:spPr>
          <a:xfrm>
            <a:off x="0" y="6237360"/>
            <a:ext cx="9144000" cy="620640"/>
          </a:xfrm>
          <a:prstGeom prst="rect">
            <a:avLst/>
          </a:prstGeom>
          <a:ln w="0">
            <a:noFill/>
          </a:ln>
        </p:spPr>
      </p:pic>
      <p:sp>
        <p:nvSpPr>
          <p:cNvPr id="682" name="Text Box 5"/>
          <p:cNvSpPr/>
          <p:nvPr/>
        </p:nvSpPr>
        <p:spPr>
          <a:xfrm>
            <a:off x="250920" y="189000"/>
            <a:ext cx="88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Times New Roman"/>
              </a:rPr>
              <a:t>生命像一朵纯洁无瑕的雪花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她原本是那空中洁白的云朵，那里，有她无数的兄弟姐妹。她飘在这世界的最高处，望着世上的一草一木，人世间的一举一动，地球的一分一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云儿在空中，在空中无忧无虑地飘浮、游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受任何拘束。承受着阳光的照耀，接受着微风的轻抚，享受着月光的沐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突然，有一天，来自远方的寒风，呼啸着来了，他怒吼着，无情地向云朵吹刮了过来。然而，云儿没有躲避，没有逃跑，而是，而是坦然地面对寒风，与他作顽强的斗争，无数个水分子簇拥在一起，紧紧地抱成一团，形成了雪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寒风被雪花吞噬了，她们开始下降，轻轻的，缓缓的，柔柔的，无声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她们互相碰撞着、拥抱着、亲吻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最后，她们投入了大地的怀抱，落入了水塘、小河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她消融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Picture 2" descr="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4" name="Picture 3" descr="大海2"/>
          <p:cNvPicPr/>
          <p:nvPr/>
        </p:nvPicPr>
        <p:blipFill>
          <a:blip r:embed="rId2"/>
          <a:stretch/>
        </p:blipFill>
        <p:spPr>
          <a:xfrm>
            <a:off x="0" y="0"/>
            <a:ext cx="9524880" cy="7143840"/>
          </a:xfrm>
          <a:prstGeom prst="rect">
            <a:avLst/>
          </a:prstGeom>
          <a:ln w="0">
            <a:noFill/>
          </a:ln>
        </p:spPr>
      </p:pic>
      <p:sp>
        <p:nvSpPr>
          <p:cNvPr id="685" name="Text Box 4"/>
          <p:cNvSpPr/>
          <p:nvPr/>
        </p:nvSpPr>
        <p:spPr>
          <a:xfrm>
            <a:off x="4534200" y="1676520"/>
            <a:ext cx="6883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生命像一江向东流的春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生命像一棵历经四时的小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生命是一泓忍不住要喷涌的泉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生命是一双灿烂着想象的翅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Text Box 2"/>
          <p:cNvSpPr/>
          <p:nvPr/>
        </p:nvSpPr>
        <p:spPr>
          <a:xfrm>
            <a:off x="228600" y="914400"/>
            <a:ext cx="7848720" cy="4480920"/>
          </a:xfrm>
          <a:prstGeom prst="rect">
            <a:avLst/>
          </a:prstGeom>
          <a:solidFill>
            <a:srgbClr val="ccff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66"/>
                </a:solidFill>
                <a:latin typeface="宋体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文章揭示生命由生长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壮大再到衰弱的过程和一般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规律，以及生命中的苦痛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幸福相生相伴的共同法则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表达了生命不止奋斗不息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意志和豁达乐观的精神。</a:t>
            </a:r>
            <a:r>
              <a:rPr b="1" lang="zh-CN" sz="4800" spc="-1" strike="noStrike">
                <a:solidFill>
                  <a:srgbClr val="00cc66"/>
                </a:solidFill>
                <a:latin typeface="Times New Roman"/>
                <a:ea typeface="隶书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文本框 8198"/>
          <p:cNvSpPr/>
          <p:nvPr/>
        </p:nvSpPr>
        <p:spPr>
          <a:xfrm>
            <a:off x="900000" y="54936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9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掌握下列生字词：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250560" y="249228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云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翳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ì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      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岩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á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   羞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iè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丛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莽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ǎng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休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憩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ì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       骄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奢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hē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枭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鸟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xiāo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  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荫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庇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ì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     芳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馨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xī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心魂惊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骇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ài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0" name="Picture 5" descr="FR8001"/>
          <p:cNvPicPr/>
          <p:nvPr/>
        </p:nvPicPr>
        <p:blipFill>
          <a:blip r:embed="rId1"/>
          <a:stretch/>
        </p:blipFill>
        <p:spPr>
          <a:xfrm>
            <a:off x="-396720" y="-747720"/>
            <a:ext cx="10082160" cy="7605720"/>
          </a:xfrm>
          <a:prstGeom prst="rect">
            <a:avLst/>
          </a:prstGeom>
          <a:ln w="0">
            <a:noFill/>
          </a:ln>
        </p:spPr>
      </p:pic>
      <p:sp>
        <p:nvSpPr>
          <p:cNvPr id="691" name="Rectangle 6"/>
          <p:cNvSpPr/>
          <p:nvPr/>
        </p:nvSpPr>
        <p:spPr>
          <a:xfrm>
            <a:off x="2340000" y="2916000"/>
            <a:ext cx="5040360" cy="1739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生命是地球上最美丽的花朵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!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世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地球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是因生命而精彩，而在生命创造的精彩中，人类的生命更具有其独特的价值，我们要珍爱所有生命，更要珍爱我们人类的生命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zh-CN" sz="3600" spc="-1" strike="noStrike" u="sng">
                <a:solidFill>
                  <a:srgbClr val="ff0066"/>
                </a:solidFill>
                <a:uFillTx/>
                <a:latin typeface="Times New Roman"/>
                <a:ea typeface="隶书"/>
              </a:rPr>
              <a:t>恩格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7" descr="bmbn00"/>
          <p:cNvPicPr/>
          <p:nvPr/>
        </p:nvPicPr>
        <p:blipFill>
          <a:blip r:embed="rId1"/>
          <a:stretch/>
        </p:blipFill>
        <p:spPr>
          <a:xfrm>
            <a:off x="0" y="3068640"/>
            <a:ext cx="9144000" cy="3789360"/>
          </a:xfrm>
          <a:prstGeom prst="rect">
            <a:avLst/>
          </a:prstGeom>
          <a:ln w="0">
            <a:noFill/>
          </a:ln>
        </p:spPr>
      </p:pic>
      <p:sp>
        <p:nvSpPr>
          <p:cNvPr id="693" name="Text Box 5"/>
          <p:cNvSpPr/>
          <p:nvPr/>
        </p:nvSpPr>
        <p:spPr>
          <a:xfrm>
            <a:off x="611280" y="981000"/>
            <a:ext cx="8153280" cy="558036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隶书"/>
                <a:ea typeface="隶书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、在生活中，我们常常会遇到一些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想不道的困难，如：父母突然下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家中经济陷入困境；你已经尽全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了，可学习成绩仍无明显改善；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想和同学搞好关系可大家都不理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你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隶书"/>
              </a:rPr>
              <a:t>…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面对这些，你的情绪、思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状态是怎样的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、我们应当怎样去生活？为什么在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苦中我们也要感谢生命？你有过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样的体验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6"/>
          <p:cNvSpPr/>
          <p:nvPr/>
        </p:nvSpPr>
        <p:spPr>
          <a:xfrm>
            <a:off x="1042920" y="0"/>
            <a:ext cx="5029200" cy="70344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Times New Roman"/>
                <a:ea typeface="隶书"/>
              </a:rPr>
              <a:t>体验和反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E7B67-48FD-4BE8-9D56-1BDBBB15D80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1" name="Picture 4" descr="b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2" name="Text Box 5"/>
          <p:cNvSpPr/>
          <p:nvPr/>
        </p:nvSpPr>
        <p:spPr>
          <a:xfrm>
            <a:off x="3924360" y="260280"/>
            <a:ext cx="4392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  <a:ea typeface="隶书"/>
              </a:rPr>
              <a:t>生命是珍贵而又短暂的，“酸甜苦辣都有营养，成功失败都有收获”</a:t>
            </a:r>
            <a:r>
              <a:rPr b="1" lang="en-US" sz="4000" spc="-1" strike="noStrike">
                <a:solidFill>
                  <a:srgbClr val="cc00ff"/>
                </a:solidFill>
                <a:latin typeface="Times New Roman"/>
                <a:ea typeface="隶书"/>
              </a:rPr>
              <a:t>,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  <a:ea typeface="隶书"/>
              </a:rPr>
              <a:t>要有一种向上的精神，希望同学们，扬起奋发向上的风帆，能在你的生命长河中勇敢地藐视困难、直面人生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 Box 7"/>
          <p:cNvSpPr/>
          <p:nvPr/>
        </p:nvSpPr>
        <p:spPr>
          <a:xfrm>
            <a:off x="1481040" y="476280"/>
            <a:ext cx="1521000" cy="4538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0066"/>
                </a:solidFill>
                <a:latin typeface="Times New Roman"/>
              </a:rPr>
              <a:t>教   师   寄    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4" name="Picture 8" descr="ccbear10[1]"/>
          <p:cNvPicPr/>
          <p:nvPr/>
        </p:nvPicPr>
        <p:blipFill>
          <a:blip r:embed="rId2"/>
          <a:stretch/>
        </p:blipFill>
        <p:spPr>
          <a:xfrm>
            <a:off x="250920" y="4005360"/>
            <a:ext cx="1800000" cy="2592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6" descr="sanp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6" name="WordArt 2"/>
          <p:cNvSpPr txBox="1"/>
          <p:nvPr/>
        </p:nvSpPr>
        <p:spPr>
          <a:xfrm>
            <a:off x="3863880" y="333360"/>
            <a:ext cx="48974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21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宋体"/>
              </a:rPr>
              <a:t>结构分析</a:t>
            </a:r>
            <a:endParaRPr b="0" lang="en-US" sz="2400" spc="1" strike="noStrike">
              <a:ln w="9360">
                <a:solidFill>
                  <a:srgbClr val="800000"/>
                </a:solidFill>
                <a:round/>
              </a:ln>
              <a:solidFill>
                <a:srgbClr val="339966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97" name="Text Box 7"/>
          <p:cNvSpPr/>
          <p:nvPr/>
        </p:nvSpPr>
        <p:spPr>
          <a:xfrm>
            <a:off x="228600" y="1523880"/>
            <a:ext cx="861048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、（“我不敢说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像什么”）揭示话题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8"/>
          <p:cNvSpPr/>
          <p:nvPr/>
        </p:nvSpPr>
        <p:spPr>
          <a:xfrm>
            <a:off x="228600" y="2438280"/>
            <a:ext cx="861048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、（“生命像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……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不敢信来生”）描写“一江春水”的全部生命历程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9"/>
          <p:cNvSpPr/>
          <p:nvPr/>
        </p:nvSpPr>
        <p:spPr>
          <a:xfrm>
            <a:off x="228600" y="3809880"/>
            <a:ext cx="8534520" cy="10692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、（“生命又像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不敢信来生”）写“一棵小树”的全部生命历程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 Box 10"/>
          <p:cNvSpPr/>
          <p:nvPr/>
        </p:nvSpPr>
        <p:spPr>
          <a:xfrm>
            <a:off x="1979640" y="4941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1"/>
          <p:cNvSpPr/>
          <p:nvPr/>
        </p:nvSpPr>
        <p:spPr>
          <a:xfrm>
            <a:off x="2031840" y="4940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 Box 12"/>
          <p:cNvSpPr/>
          <p:nvPr/>
        </p:nvSpPr>
        <p:spPr>
          <a:xfrm>
            <a:off x="2195640" y="5157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13"/>
          <p:cNvSpPr/>
          <p:nvPr/>
        </p:nvSpPr>
        <p:spPr>
          <a:xfrm>
            <a:off x="228600" y="5667480"/>
            <a:ext cx="853452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、（“宇宙是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……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结尾”）总结全文，揭示生命的本质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4" descr="20040203165758(8)"/>
          <p:cNvPicPr/>
          <p:nvPr/>
        </p:nvPicPr>
        <p:blipFill>
          <a:blip r:embed="rId1"/>
          <a:stretch/>
        </p:blipFill>
        <p:spPr>
          <a:xfrm>
            <a:off x="-39600" y="0"/>
            <a:ext cx="9183600" cy="6858000"/>
          </a:xfrm>
          <a:prstGeom prst="rect">
            <a:avLst/>
          </a:prstGeom>
          <a:ln w="0">
            <a:noFill/>
          </a:ln>
        </p:spPr>
      </p:pic>
      <p:sp>
        <p:nvSpPr>
          <p:cNvPr id="605" name="Text Box 5"/>
          <p:cNvSpPr/>
          <p:nvPr/>
        </p:nvSpPr>
        <p:spPr>
          <a:xfrm>
            <a:off x="826920" y="1557360"/>
            <a:ext cx="749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思考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为什么作者用了“像”字，而不使用“是”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Text Box 6"/>
          <p:cNvSpPr/>
          <p:nvPr/>
        </p:nvSpPr>
        <p:spPr>
          <a:xfrm>
            <a:off x="826920" y="3068640"/>
            <a:ext cx="7417080" cy="11912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是什么”是下定义；“像什么”是文学性的表述，具有形象性、审美性和隐喻性的特点。 表现作者自谦，写自己的感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7"/>
          <p:cNvSpPr/>
          <p:nvPr/>
        </p:nvSpPr>
        <p:spPr>
          <a:xfrm>
            <a:off x="1042920" y="765000"/>
            <a:ext cx="30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分析第一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6" descr="sanp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9" name="Text Box 4"/>
          <p:cNvSpPr/>
          <p:nvPr/>
        </p:nvSpPr>
        <p:spPr>
          <a:xfrm>
            <a:off x="2195640" y="1628640"/>
            <a:ext cx="504180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分析“一江春水”部分：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5"/>
          <p:cNvSpPr/>
          <p:nvPr/>
        </p:nvSpPr>
        <p:spPr>
          <a:xfrm>
            <a:off x="609480" y="2637000"/>
            <a:ext cx="78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.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默读课文并思考：“一江春水”经历了哪些生命过程的体验？（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可用文中的关键语句回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Picture 7" descr="SR090"/>
          <p:cNvPicPr/>
          <p:nvPr/>
        </p:nvPicPr>
        <p:blipFill>
          <a:blip r:embed="rId2"/>
          <a:stretch/>
        </p:blipFill>
        <p:spPr>
          <a:xfrm>
            <a:off x="0" y="0"/>
            <a:ext cx="9360000" cy="6858000"/>
          </a:xfrm>
          <a:prstGeom prst="rect">
            <a:avLst/>
          </a:prstGeom>
          <a:ln w="0">
            <a:noFill/>
          </a:ln>
        </p:spPr>
      </p:pic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588000" y="1371600"/>
            <a:ext cx="1943280" cy="5486400"/>
          </a:xfrm>
          <a:prstGeom prst="rect">
            <a:avLst/>
          </a:prstGeom>
          <a:noFill/>
          <a:ln w="0">
            <a:noFill/>
          </a:ln>
        </p:spPr>
        <p:txBody>
          <a:bodyPr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一江春水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Picture 5" descr="XC20400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1942920" cy="3889440"/>
          </a:xfrm>
          <a:prstGeom prst="rect">
            <a:avLst/>
          </a:prstGeom>
          <a:noFill/>
          <a:ln w="0">
            <a:noFill/>
          </a:ln>
        </p:spPr>
        <p:txBody>
          <a:bodyPr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华文隶书"/>
              </a:rPr>
              <a:t>奔腾怒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7"/>
          <p:cNvSpPr/>
          <p:nvPr/>
        </p:nvSpPr>
        <p:spPr>
          <a:xfrm>
            <a:off x="1324440" y="981000"/>
            <a:ext cx="164268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隶书"/>
              </a:rPr>
              <a:t>静流低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8"/>
          <p:cNvSpPr/>
          <p:nvPr/>
        </p:nvSpPr>
        <p:spPr>
          <a:xfrm>
            <a:off x="3784320" y="1052640"/>
            <a:ext cx="91152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隶书"/>
              </a:rPr>
              <a:t>催逼向前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 Box 9"/>
          <p:cNvSpPr/>
          <p:nvPr/>
        </p:nvSpPr>
        <p:spPr>
          <a:xfrm>
            <a:off x="2261160" y="981000"/>
            <a:ext cx="16426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隶书"/>
              </a:rPr>
              <a:t>浑浊扰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Picture 4" descr="sp05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9" name="Text Box 6"/>
          <p:cNvSpPr/>
          <p:nvPr/>
        </p:nvSpPr>
        <p:spPr>
          <a:xfrm>
            <a:off x="7313400" y="1498680"/>
            <a:ext cx="72900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99"/>
                </a:solidFill>
                <a:latin typeface="Times New Roman"/>
                <a:ea typeface="隶书"/>
              </a:rPr>
              <a:t>流入大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8T08:01:3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9:01:36Z</dcterms:modified>
  <cp:revision>16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