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jpeg" ContentType="image/jpeg"/>
  <Override PartName="/ppt/media/image5.gif" ContentType="image/gif"/>
  <Override PartName="/ppt/media/image10.gif" ContentType="image/gif"/>
  <Override PartName="/ppt/media/image22.jpeg" ContentType="image/jpeg"/>
  <Override PartName="/ppt/media/image7.png" ContentType="image/png"/>
  <Override PartName="/ppt/media/image1.jpeg" ContentType="image/jpeg"/>
  <Override PartName="/ppt/media/image8.jpeg" ContentType="image/jpeg"/>
  <Override PartName="/ppt/media/image11.gif" ContentType="image/gif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9.jpeg" ContentType="image/jpeg"/>
  <Override PartName="/ppt/media/image31.jpeg" ContentType="image/jpeg"/>
  <Override PartName="/ppt/media/image25.png" ContentType="image/png"/>
  <Override PartName="/ppt/media/image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gif" ContentType="image/gif"/>
  <Override PartName="/ppt/media/image18.gif" ContentType="image/gif"/>
  <Override PartName="/ppt/media/image13.png" ContentType="image/png"/>
  <Override PartName="/ppt/media/image20.gif" ContentType="image/gif"/>
  <Override PartName="/ppt/media/image14.jpeg" ContentType="image/jpeg"/>
  <Override PartName="/ppt/media/image19.gif" ContentType="image/gif"/>
  <Override PartName="/ppt/media/image21.gif" ContentType="image/gif"/>
  <Override PartName="/ppt/media/image26.jpeg" ContentType="image/jpeg"/>
  <Override PartName="/ppt/media/image4.gif" ContentType="image/gif"/>
  <Override PartName="/ppt/media/image2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FF4-29E9-4373-8DC7-49ACF078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629-ACC3-4B95-B1C4-4AF51D28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4C4AA-55AF-43FE-B981-65F1DA20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BB953-AC38-4D07-9586-9373411F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E2127-2A83-4694-BB7D-E3DBB56E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82A5B-6CE9-41FA-9285-604E919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A1C5A-EC8C-4AE6-BE40-FE581C1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9D5E3-A5BC-41BE-BD25-5B4A154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ED720-56D3-49CC-A560-6C537784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81698-51E3-4751-AB46-AAFE2F6E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BB101-A946-461D-8183-073BAE85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0AE38-000E-4CB3-8580-F9033927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C35-F910-422D-B0EB-CE7FD8C1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319B7-6291-42A7-987B-1D90E6D0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F9173-55E7-4A16-801D-99059318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A1A56-087C-4821-A6A7-A1E9B9CA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77380-58C0-41B6-8B4E-7C594472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8817D-339B-4711-A75E-0E9EE0DD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453A9-97D2-413B-8765-9CB5777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B6579-4F36-4866-AF71-8154B606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ED164-B40D-463D-ADB0-A847E65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1C5F5-0BA9-4C7E-862D-40387713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BB5C8-8153-4EE0-A3D9-75BD2A08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98F-A27E-4422-81FD-5CB10655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7C2F2-40D3-444C-9C6C-0E4969C9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36C4A-9920-4F33-B9ED-9ABA02CB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2FEC3-61AB-4DFB-B396-699573B9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5E2C3-AD04-4353-BE52-AF20FF13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BD28F-4F94-4A23-8B91-EB878887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2F42B-2D67-43A8-9356-3752BD7F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19B12-AFD3-49A9-80F2-0525478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3C5AD-B3D8-4E6B-810E-412691D5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93DBD-9EFA-494B-AEF0-FE911215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C5827-7FA8-4435-99AA-05E410E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A47A-00D4-4B07-9E57-EA1DF33D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234FB-5E6D-4BEF-BBE2-8F965A1D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DA5EB-F301-418A-8C38-81184D62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70409-AC14-4F6C-81A3-8799444E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5FA99-F074-4AC1-BEE8-3B1A859F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A76D2-37BB-4703-801E-4933CF2B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1E838-5671-4BB5-9DA3-8538B118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E9084-98F0-44A3-9629-CBE5B886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0DD59-97B9-43FA-AA11-1040D953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3AC96-F703-4EA7-BE98-89AA0A1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FC2A1-2AC9-4215-A8F9-F50CC69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A750-7019-4A20-8A62-CC668009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8D2A53-BC11-426F-8366-AE177EFD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F4DDE-3210-4DDF-AA1A-91541AC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D11CC-1E1B-4A84-8F23-99847D7D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18CC2-8971-4CD3-B3A9-D3E259ED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B10D7-02A0-4CB1-9EAE-6D21E1DB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66417-FA6B-484F-9E7C-670A6259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5E1C0-C1D8-476E-9AB2-958A5A76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1079E-9BA5-40EB-963E-F53E298B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25ADA-522B-4D64-A073-D8E38333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FF5FF-1035-48D4-9EF6-1701F6C0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440F-C12E-40C1-B767-AA243DB5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FFEAF-4C55-4F48-AE24-93FEEEC3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23C08-69C2-49D4-AAC4-CC064E74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E72F7-EA85-43E5-BB22-A4092A1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7FAAE-468D-4DC7-9B96-EE1A33AB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F9B1E-A0D3-4385-B3A3-508CB96E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2D069B-1EA7-47B3-8F0F-3E99A709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2A058-1353-4069-9535-C160B3DD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A1D09-607F-4613-93D3-278F8EBB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481B4-169C-40C9-8202-4F7BD784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7EEC6-ED37-4341-9A5C-272F5748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A70B-3FAA-4AFD-8A11-43B4414F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BA146-0BB8-4B97-A1B0-0F28A79E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ECD4B3-E963-4AB5-8B0D-4A1CB6F9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A4D88-F316-4520-8D87-378B93A4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FCF01-92EE-4409-BA38-C32C90F7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BE05B-71C3-492A-A5DE-207A01B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0D245-31A0-4138-8AA8-E2E7C79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34A05-6451-403F-B2D6-3A513BD3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D4DA7-10A3-45CE-BB6B-0723A588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178C8-B810-410B-B6F8-1699C321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F3B71-8CA5-4035-9EC3-1A95C79E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6E0A-8AF7-4BBD-905F-B2024B98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65696-7F44-4690-975B-7A531EB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120F9-B665-4488-9BE7-B1EC8CC2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6C138-F83C-453E-82DE-040B87F4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85EDCA-4B1C-4505-9155-E629F81A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34BFA-F8E8-4D50-8380-028350E9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E7642-3C04-4AF4-A053-3A236A95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67C5D-5675-4042-ACAF-31FADFA4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C45B8-8F37-4F96-A20C-89AAEA96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F9EEE-7B46-484F-9776-4DF4BAE9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42B15-9214-45FB-BBE8-1301C06E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D682-3892-46EB-91CB-944BD57F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FAD51-23F5-497F-8AAA-7BC986A4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97BD-7AED-4F3C-9B3A-65E6DE5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865-A22D-4BC6-B00F-275EB83D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3E6F-4C33-4BDE-A55C-9B90C7C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204C-A1D0-4C7A-94FD-18ED56E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4359-FF8C-4014-A986-68A83FFA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AD0F-2448-44EF-81EE-C0CEB48F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F0E9-A8ED-4B5F-BADA-2970481D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CA90B-07AC-4275-A4E5-D970E682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0070D-C25F-44CD-8704-6E5D6D93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4AD4-6A8D-4907-B87D-79F41E74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9A24-0D19-4556-9198-8E947F3A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12C33-D7C9-499D-892D-9E7D4AE3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7B3-CD22-4FB8-AAB1-8F149693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B40EE-344E-4341-98B5-6B908FE7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2B1A-DD8A-4A3F-A572-8694887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72BB-104C-4554-AEAB-738A919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0590-9EF6-4CB4-AB95-C47C906A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EA06-31C6-40A9-A9A9-EE59E6ED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0253-AA8B-45A6-BF7D-8BD2EA5A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2C3BA-E042-4A96-AC13-B191B7AC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9A4F7-D8E8-4DBF-8A13-2F56062C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3370-6EE1-4561-B6F0-FF30164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29EE-6219-4082-910C-E2363B11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9FA-7DBA-4D9F-909C-30763B3F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813E1-8C1C-47CF-BDC0-6149C0A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DAB27-C1EB-4D8B-8368-AFE16F5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3FFF-CE57-4730-A6E6-4160133B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8338-30A8-47E0-87A1-3B051513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9C2D-8599-4B55-9FE3-10B911B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F3DA-BB2F-44DE-A3D7-6A2CCCF0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A4917-8FC2-45D1-B480-4786E092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F758-5950-4993-A219-7074FA45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60E9-FD06-45BB-8FB5-0A8A4FAD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01FE4-1030-4211-A589-AEFEB186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C57D-6872-433D-9EDD-94057DF2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090D2-04B8-4700-8B99-B3BD2F66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91E00-BF62-4AC3-A6D3-F0EC7C48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345E8-3CF1-4372-810A-0F6B1E08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4107-3B12-4F39-8BD7-C4DFB4BB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960C-F4E9-44D5-A47B-44DB6C9B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BBFC3-9A2E-4E9E-99BB-F0B6149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47D47-D391-46C1-98E9-773449DF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FE23A-0F71-4CF1-AD11-5D9A7C18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4025A-5B98-408A-B7C2-BB7EB439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07B28-ECF9-4E9C-A6A0-EAD472C4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0A0-E452-43CB-8356-411D8886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970A-C730-4A35-AE65-AB5B14BF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2B26C-0C53-42DA-9DC6-0461F679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A866-AE47-4460-A0B8-65219799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F3DD3-522D-46B4-8760-44837657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CED84-BBB8-421D-9D30-457B609D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D81D8-039B-4780-9BF3-9E6A7E92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861FA-FD80-4A41-B8FB-5651ED20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9F26-A668-4893-8E49-6E0D93C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464E-80D7-44DC-B713-7C14CDF5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A250B-FCE6-4E19-9BEA-888264D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11E-2164-4FD7-8F9F-FACC40A2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BD1D6-4791-4CAB-B413-FB50CBF6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B65DA-86C7-42B4-8FD5-D62721DD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695D-FE05-49E1-B9EE-C4EB9600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6099A-E7B8-4473-882C-2D7372CB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6DB5A-4C21-44BD-A6CD-B29723D3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36AE-508F-453D-9EF6-57E6A961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5CB6A-F6EB-49E3-B0C3-63B6E3CA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92362-D6F1-4C5A-87A3-76A2D23F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3CB03-13C7-4C84-84B9-07AB5E8D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EDA6-58A6-452B-AB19-000CF840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E31-E383-4FA4-B485-41BF3FBD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602A7-8668-47BE-AD6A-5B25E30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3D20C-E930-47CF-B98D-0A2EFEBD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D6A67-6E3F-43B2-A7DB-93884A0B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FEB1-CEA7-4ADE-A3B7-EE211061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8C744-BBA0-4378-AE41-E543873A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4AD77-BEEF-460C-9A33-275CCFA3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E1DFF-68EB-4F80-AB6C-CAC881E3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56FD6-F3BC-4A5E-8F83-CA3E6C3E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055D-4CC1-4A78-9050-793B1335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08422-8C2F-4F1F-9F25-F9630349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C10-F569-4DB9-91C8-108178E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EBFC2-ED9E-436C-845B-8047649A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7CA8E-4364-448C-BD9F-C297B232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34C91-EEE6-4DE0-BFD5-C0489A8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4460C-C42B-4DAE-97D1-8BC084A1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4A65D-B704-4C44-8773-D72296D9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082E2-3A9A-44AD-B40F-DB5EA6D8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2D6B7-8049-4B39-B09B-3FD18C2C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93A78-6ED1-49AF-B896-51C789F4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C114D-AD3D-4CE4-A908-32520B64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4E252-9080-4E06-811C-ED8C2587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0CC2-32C7-4E2B-A962-379826C8B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AC16-1CDF-43B5-A43D-5B669B6B480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7AD8-958C-4C0C-8798-A1222C308BF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91A3-BD69-44B5-823C-D0B626B646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9E0-29E4-462E-A2CF-68983241210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127D-D6B2-4F27-B5E7-A4935185FC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67CE-5303-4A0C-A4C9-FE91CDD6DA6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E117-1036-4BEC-A589-E5755EAB62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4DBA-2DBF-4F1A-BE80-8C1A962865B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3AA-F4B8-4DCF-A093-D2C8AAD3F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062B-2B93-4A8B-8A45-D0BE14E2CC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4902-4ABF-44D1-B46F-082A372DDB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415D-BBD3-4631-A2D7-0FDFECAD79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A97E-41C2-41FE-B478-C2AA0AE102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07E4-ED5C-4B5C-990D-F8BF719BF3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hq.xinhuanet.com/ghlc/2004-05/25/content_2185274.htm" TargetMode="External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3"/>
          <p:cNvSpPr txBox="1"/>
          <p:nvPr/>
        </p:nvSpPr>
        <p:spPr>
          <a:xfrm>
            <a:off x="762120" y="2819520"/>
            <a:ext cx="754380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同样的权利同样的爱护课件</a:t>
            </a:r>
            <a:r>
              <a:rPr b="1" lang="en-US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ff33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6" name="矩形 5"/>
          <p:cNvSpPr/>
          <p:nvPr/>
        </p:nvSpPr>
        <p:spPr>
          <a:xfrm>
            <a:off x="2661120" y="1521000"/>
            <a:ext cx="35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课　生命健康权与我同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684360" y="7650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注意自身生命安全和健康，既是我们的权利， 也是我们对自己的关爱和责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214717"/>
          <p:cNvPicPr/>
          <p:nvPr/>
        </p:nvPicPr>
        <p:blipFill>
          <a:blip r:embed="rId1"/>
          <a:stretch/>
        </p:blipFill>
        <p:spPr>
          <a:xfrm>
            <a:off x="0" y="507672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4"/>
          <p:cNvSpPr/>
          <p:nvPr/>
        </p:nvSpPr>
        <p:spPr>
          <a:xfrm>
            <a:off x="457200" y="37162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黑体"/>
              </a:rPr>
              <a:t>除了为正义而献身外</a:t>
            </a:r>
            <a:r>
              <a:rPr b="1" lang="en-US" sz="4800" spc="-1" strike="noStrike">
                <a:solidFill>
                  <a:srgbClr val="d60093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d60093"/>
                </a:solidFill>
                <a:latin typeface="Times New Roman"/>
                <a:ea typeface="黑体"/>
              </a:rPr>
              <a:t>公民的生命健康权不得让与或抛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5"/>
          <p:cNvSpPr/>
          <p:nvPr/>
        </p:nvSpPr>
        <p:spPr>
          <a:xfrm>
            <a:off x="990720" y="3429000"/>
            <a:ext cx="60948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611280" y="620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18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" descr="bg"/>
          <p:cNvPicPr/>
          <p:nvPr/>
        </p:nvPicPr>
        <p:blipFill>
          <a:blip r:embed="rId2"/>
          <a:stretch/>
        </p:blipFill>
        <p:spPr>
          <a:xfrm>
            <a:off x="0" y="3284640"/>
            <a:ext cx="1835280" cy="35733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4"/>
          <p:cNvSpPr/>
          <p:nvPr/>
        </p:nvSpPr>
        <p:spPr>
          <a:xfrm>
            <a:off x="1371600" y="1066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5"/>
          <p:cNvSpPr txBox="1"/>
          <p:nvPr/>
        </p:nvSpPr>
        <p:spPr>
          <a:xfrm>
            <a:off x="0" y="304920"/>
            <a:ext cx="7620120" cy="13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们的生命健康权不得让与或抛弃！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63" name="WordArt 6"/>
          <p:cNvSpPr txBox="1"/>
          <p:nvPr/>
        </p:nvSpPr>
        <p:spPr>
          <a:xfrm rot="5400000">
            <a:off x="-952920" y="339084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为什么？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900000" y="1700280"/>
            <a:ext cx="824400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在公民的人格权中，生命健康权居于首要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人具有社会性，生命一旦诞生就具有社会责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一个人因为困难、挫折、失意而自杀，必然会给亲朋好友带来哀伤，还会引发一系列社会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隶书"/>
                <a:ea typeface="隶书"/>
              </a:rPr>
              <a:t>如公民损害自己的身体，会造成更大的社会负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4211640" y="119700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d60093"/>
                </a:solidFill>
                <a:latin typeface="隶书"/>
                <a:ea typeface="隶书"/>
              </a:rPr>
              <a:t>除了为正义而献身外</a:t>
            </a:r>
            <a:r>
              <a:rPr b="1" lang="en-US" sz="3200" spc="-1" strike="noStrike">
                <a:solidFill>
                  <a:srgbClr val="d60093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"/>
          <p:cNvPicPr/>
          <p:nvPr/>
        </p:nvPicPr>
        <p:blipFill>
          <a:blip r:embed="rId1"/>
          <a:stretch/>
        </p:blipFill>
        <p:spPr>
          <a:xfrm>
            <a:off x="1042920" y="0"/>
            <a:ext cx="7561440" cy="48690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1143000" y="13716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1600200" y="30481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Q2"/>
          <p:cNvPicPr/>
          <p:nvPr/>
        </p:nvPicPr>
        <p:blipFill>
          <a:blip r:embed="rId2"/>
          <a:stretch/>
        </p:blipFill>
        <p:spPr>
          <a:xfrm>
            <a:off x="179280" y="4221000"/>
            <a:ext cx="131616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Text Box 6"/>
          <p:cNvSpPr/>
          <p:nvPr/>
        </p:nvSpPr>
        <p:spPr>
          <a:xfrm>
            <a:off x="1042920" y="501336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此事给小君，小哲及双方家庭造成什么后果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1042920" y="548496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“进一步山穷水尽，退一步海阔天空”“非法侵害生命康权者受制裁”。结合这两句话，谈谈此桩惨案如何避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468360" y="189000"/>
            <a:ext cx="8136000" cy="17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此桩惨案避免的方法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735120" y="1700280"/>
            <a:ext cx="729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324000" y="836640"/>
            <a:ext cx="849600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首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同学们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应从小树立责任意识和法律意识。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懂得每个人都享有生命健康权，同时也负有不得侵害他人生命健康权的道德义务和法定义务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611280" y="3141720"/>
            <a:ext cx="7777080" cy="19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其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同学们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培养关爱他人的情感和宽容的态度，以正确的方式和合法的手段处理同学间矛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539640" y="5084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再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同学们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注重控制好自己的情绪，尤其须制怒，远离暴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法1"/>
          <p:cNvPicPr/>
          <p:nvPr/>
        </p:nvPicPr>
        <p:blipFill>
          <a:blip r:embed="rId1">
            <a:lum bright="84000"/>
          </a:blip>
          <a:srcRect l="0" t="0" r="141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3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——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不得侵害他人生命健康权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是每个公民应尽的道德义务和法律义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838080" y="2708280"/>
            <a:ext cx="8305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任何人都无权非法剥夺他人的生命，即使大义灭亲也不允许，这是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侵害生命权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隶书"/>
              </a:rPr>
              <a:t>的行为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WordArt 5"/>
          <p:cNvSpPr txBox="1"/>
          <p:nvPr/>
        </p:nvSpPr>
        <p:spPr>
          <a:xfrm>
            <a:off x="1692360" y="1844640"/>
            <a:ext cx="563868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3240">
                  <a:solidFill>
                    <a:srgbClr val="009999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生命是最为宝贵的</a:t>
            </a:r>
            <a:endParaRPr b="1" lang="en-US" sz="1800" spc="1" strike="noStrike">
              <a:ln w="3240">
                <a:solidFill>
                  <a:srgbClr val="009999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681" name="AutoShape 6"/>
          <p:cNvSpPr/>
          <p:nvPr/>
        </p:nvSpPr>
        <p:spPr>
          <a:xfrm>
            <a:off x="0" y="2781360"/>
            <a:ext cx="914400" cy="304920"/>
          </a:xfrm>
          <a:prstGeom prst="sun">
            <a:avLst>
              <a:gd name="adj" fmla="val 25000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7"/>
          <p:cNvSpPr/>
          <p:nvPr/>
        </p:nvSpPr>
        <p:spPr>
          <a:xfrm>
            <a:off x="0" y="4005360"/>
            <a:ext cx="914400" cy="380880"/>
          </a:xfrm>
          <a:prstGeom prst="sun">
            <a:avLst>
              <a:gd name="adj" fmla="val 25000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8"/>
          <p:cNvSpPr txBox="1"/>
          <p:nvPr/>
        </p:nvSpPr>
        <p:spPr>
          <a:xfrm>
            <a:off x="838080" y="5022720"/>
            <a:ext cx="77644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d60093"/>
                </a:solidFill>
                <a:latin typeface="隶书"/>
              </a:rPr>
              <a:t>学会关爱与自护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d60093"/>
              </a:solidFill>
              <a:latin typeface="隶书"/>
              <a:ea typeface="隶书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1095480" y="3933720"/>
            <a:ext cx="7797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任何人不得故意或者过失造成他人受伤、生病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  <a:ea typeface="隶书"/>
              </a:rPr>
              <a:t>侵害健康权的行为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8194"/>
          <p:cNvSpPr/>
          <p:nvPr/>
        </p:nvSpPr>
        <p:spPr>
          <a:xfrm>
            <a:off x="2459160" y="2373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未命名3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3" descr="打架1"/>
          <p:cNvPicPr/>
          <p:nvPr/>
        </p:nvPicPr>
        <p:blipFill>
          <a:blip r:embed="rId2"/>
          <a:stretch/>
        </p:blipFill>
        <p:spPr>
          <a:xfrm>
            <a:off x="0" y="260280"/>
            <a:ext cx="3505320" cy="511344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打架2"/>
          <p:cNvPicPr/>
          <p:nvPr/>
        </p:nvPicPr>
        <p:blipFill>
          <a:blip r:embed="rId3"/>
          <a:stretch/>
        </p:blipFill>
        <p:spPr>
          <a:xfrm>
            <a:off x="4572000" y="1700280"/>
            <a:ext cx="2133720" cy="36338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打人"/>
          <p:cNvPicPr/>
          <p:nvPr/>
        </p:nvPicPr>
        <p:blipFill>
          <a:blip r:embed="rId4"/>
          <a:stretch/>
        </p:blipFill>
        <p:spPr>
          <a:xfrm>
            <a:off x="6553080" y="1484280"/>
            <a:ext cx="2590920" cy="403236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打架3"/>
          <p:cNvPicPr/>
          <p:nvPr/>
        </p:nvPicPr>
        <p:blipFill>
          <a:blip r:embed="rId5"/>
          <a:stretch/>
        </p:blipFill>
        <p:spPr>
          <a:xfrm>
            <a:off x="3352680" y="1484280"/>
            <a:ext cx="1265400" cy="384984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7"/>
          <p:cNvSpPr/>
          <p:nvPr/>
        </p:nvSpPr>
        <p:spPr>
          <a:xfrm>
            <a:off x="250920" y="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      </a:t>
            </a: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我们绝</a:t>
            </a: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不</a:t>
            </a: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可以这样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0" y="5661000"/>
            <a:ext cx="1100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我们中学生要关爱生命与健康，远离暴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304920" y="14050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日，云南省昆明市官渡区人民法院审理了一起故意伤害案，父亲李普能因儿子吸毒、盗窃，恨铁不成钢，情急之下竟将其活活打死，结果被判了刑。李普能是官渡区某村村民，其子李彪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染上毒瘾，当时年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岁。从那时起，家里不管把钱放在哪里，都难逃李彪的魔掌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00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日，没钱的李彪又偷了本村村民的拖拉机后斗板。李普能找到一个月未回家的李彪后，将其弄回家中进行毒打，致使李彪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WordArt 3"/>
          <p:cNvSpPr txBox="1"/>
          <p:nvPr/>
        </p:nvSpPr>
        <p:spPr>
          <a:xfrm>
            <a:off x="152280" y="0"/>
            <a:ext cx="58676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中宋"/>
              </a:rPr>
              <a:t>合作探究：</a:t>
            </a:r>
            <a:endParaRPr b="0" lang="en-US" sz="1800" spc="-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695" name="Picture 4" descr="xinsrc_380501250837875873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0"/>
            <a:ext cx="182880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2" descr="wallcoo_com_BABU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3"/>
          <p:cNvSpPr/>
          <p:nvPr/>
        </p:nvSpPr>
        <p:spPr>
          <a:xfrm>
            <a:off x="838080" y="137160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有人说这是一种大义灭亲的行为。你们是怎么认为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FR7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3"/>
          <p:cNvSpPr/>
          <p:nvPr/>
        </p:nvSpPr>
        <p:spPr>
          <a:xfrm>
            <a:off x="1066680" y="1143000"/>
            <a:ext cx="701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大义灭亲侵害了他人的生命健康权，是违法的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304920" y="14050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最近，广州警方抓获了一名光天化日下拦路抢劫的少年。据这位少年讲，他在网吧里整整打了一天一夜游戏，出来后浑浑噩噩，脑子里想的还是游戏里的砍砍杀杀。这时正好遇见一位衣着入时的妇女走过，就动了抢劫的念头，于是遏制不住，操起路旁水果摊上的西瓜刀就朝那个妇女的手提包砍了过去。。。。。。这位少年就因一念之差，造成受害人右小臂严重受伤，他自己也被依法刑事拘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3"/>
          <p:cNvSpPr txBox="1"/>
          <p:nvPr/>
        </p:nvSpPr>
        <p:spPr>
          <a:xfrm>
            <a:off x="457200" y="38088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ff00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关注现实：</a:t>
            </a:r>
            <a:endParaRPr b="0" lang="en-US" sz="1800" spc="1" strike="noStrike">
              <a:ln w="19080">
                <a:solidFill>
                  <a:srgbClr val="00ff00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3911400" y="57834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请问：这个少年为什么会有这一念之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未命名3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0" y="15408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619" name="WordArt 3"/>
          <p:cNvSpPr txBox="1"/>
          <p:nvPr/>
        </p:nvSpPr>
        <p:spPr>
          <a:xfrm>
            <a:off x="2286000" y="981000"/>
            <a:ext cx="4876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珍爱自己生命健康</a:t>
            </a:r>
            <a:endParaRPr b="0" lang="en-US" sz="1800" spc="1" strike="noStrike">
              <a:ln w="19080">
                <a:solidFill>
                  <a:srgbClr val="ff9900"/>
                </a:solidFill>
                <a:round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228600" y="1700280"/>
            <a:ext cx="4991040" cy="379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e6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、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我们应该如何行使生命健康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105520" y="1700280"/>
            <a:ext cx="3714480" cy="3609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ce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、我们不可以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324000" y="285264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a.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珍爱生命，维护健康，积极锻炼；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334120" y="22050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抽烟、喝酒、生活没规律、吃劣质食品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到危险的地方去玩、有病不治、自残、自杀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304920" y="0"/>
            <a:ext cx="7372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一、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隶书"/>
              </a:rPr>
              <a:t>积极行使生命健康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0" y="5229360"/>
            <a:ext cx="550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隶书"/>
                <a:ea typeface="隶书"/>
              </a:rPr>
              <a:t>  </a:t>
            </a:r>
            <a:r>
              <a:rPr b="1" lang="en-US" sz="3600" spc="-1" strike="noStrike">
                <a:solidFill>
                  <a:srgbClr val="cc00ff"/>
                </a:solidFill>
                <a:latin typeface="隶书"/>
                <a:ea typeface="隶书"/>
              </a:rPr>
              <a:t>c.</a:t>
            </a:r>
            <a:r>
              <a:rPr b="1" lang="zh-CN" sz="3600" spc="-1" strike="noStrike">
                <a:solidFill>
                  <a:srgbClr val="cc00ff"/>
                </a:solidFill>
                <a:latin typeface="隶书"/>
                <a:ea typeface="隶书"/>
              </a:rPr>
              <a:t>受非法侵害，有权依法自卫和请求法律保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0"/>
          <p:cNvSpPr/>
          <p:nvPr/>
        </p:nvSpPr>
        <p:spPr>
          <a:xfrm>
            <a:off x="468360" y="4076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隶书"/>
                <a:ea typeface="隶书"/>
              </a:rPr>
              <a:t>b.</a:t>
            </a:r>
            <a:r>
              <a:rPr b="1" lang="zh-CN" sz="3600" spc="-1" strike="noStrike">
                <a:solidFill>
                  <a:srgbClr val="cc00ff"/>
                </a:solidFill>
                <a:latin typeface="隶书"/>
                <a:ea typeface="隶书"/>
              </a:rPr>
              <a:t>患病医治，恢复健康，恢复体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10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3"/>
          <p:cNvSpPr/>
          <p:nvPr/>
        </p:nvSpPr>
        <p:spPr>
          <a:xfrm>
            <a:off x="2209680" y="2209680"/>
            <a:ext cx="5486400" cy="25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关爱生命，远离暴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501336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3"/>
          <p:cNvSpPr/>
          <p:nvPr/>
        </p:nvSpPr>
        <p:spPr>
          <a:xfrm>
            <a:off x="0" y="0"/>
            <a:ext cx="868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                     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相关链接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        一天，中学生王明、徐文、钟平、黄晓芳放学回家，走到学校附近的河边时，忽然听见有人大喊“救命”。原来是同学张刚等四个学生均不会游泳，在此危急关头，四个学生有三种不同表现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3" descr="Q2"/>
          <p:cNvPicPr/>
          <p:nvPr/>
        </p:nvPicPr>
        <p:blipFill>
          <a:blip r:embed="rId1"/>
          <a:stretch/>
        </p:blipFill>
        <p:spPr>
          <a:xfrm>
            <a:off x="6480" y="3809880"/>
            <a:ext cx="1315800" cy="1600200"/>
          </a:xfrm>
          <a:prstGeom prst="rect">
            <a:avLst/>
          </a:prstGeom>
          <a:ln w="0">
            <a:noFill/>
          </a:ln>
        </p:spPr>
      </p:pic>
      <p:sp>
        <p:nvSpPr>
          <p:cNvPr id="707" name="Rectangle 4"/>
          <p:cNvSpPr/>
          <p:nvPr/>
        </p:nvSpPr>
        <p:spPr>
          <a:xfrm>
            <a:off x="1295280" y="3049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王明</a:t>
            </a:r>
            <a:r>
              <a:rPr b="1" i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纵身一跃跳进河中，试图拉张刚上岸，结果河水湍急，不会游泳的两个人抱在一起在河中挣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1066680" y="251460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钟平、黄晓芳一边大声呼救，一边找救人工具，发现旁边有一根三米长的木棍，两人马上抄起木棍，将另一头伸向河中，让二人抓住。这时几个成年人跑来，有的跳到河里救人，有的帮着拉木棍，大家齐心协力将二人救上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1295280" y="1341360"/>
            <a:ext cx="766944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徐文</a:t>
            </a:r>
            <a:r>
              <a:rPr b="1" i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想：自己不会游泳，也没有法定的救助义务，还是自身安全重要，于是扬长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541440" y="4797360"/>
            <a:ext cx="835164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请从法律与道德等方面评价上述三种表现。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。如果你遇到类似情况怎么办？（讨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8" descr="未标题-5 拷贝"/>
          <p:cNvPicPr/>
          <p:nvPr/>
        </p:nvPicPr>
        <p:blipFill>
          <a:blip r:embed="rId2"/>
          <a:stretch/>
        </p:blipFill>
        <p:spPr>
          <a:xfrm>
            <a:off x="228600" y="1371600"/>
            <a:ext cx="569880" cy="8380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9" descr="未命名3"/>
          <p:cNvPicPr/>
          <p:nvPr/>
        </p:nvPicPr>
        <p:blipFill>
          <a:blip r:embed="rId3"/>
          <a:stretch/>
        </p:blipFill>
        <p:spPr>
          <a:xfrm>
            <a:off x="380880" y="304920"/>
            <a:ext cx="567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713" name="Group 10"/>
          <p:cNvGrpSpPr/>
          <p:nvPr/>
        </p:nvGrpSpPr>
        <p:grpSpPr>
          <a:xfrm>
            <a:off x="0" y="2743200"/>
            <a:ext cx="1138320" cy="914040"/>
            <a:chOff x="0" y="2743200"/>
            <a:chExt cx="1138320" cy="914040"/>
          </a:xfrm>
        </p:grpSpPr>
        <p:pic>
          <p:nvPicPr>
            <p:cNvPr id="714" name="Picture 11" descr="未标题-7拷贝"/>
            <p:cNvPicPr/>
            <p:nvPr/>
          </p:nvPicPr>
          <p:blipFill>
            <a:blip r:embed="rId4"/>
            <a:stretch/>
          </p:blipFill>
          <p:spPr>
            <a:xfrm>
              <a:off x="541440" y="2836440"/>
              <a:ext cx="596880" cy="80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Picture 12" descr="未命名4"/>
            <p:cNvPicPr/>
            <p:nvPr/>
          </p:nvPicPr>
          <p:blipFill>
            <a:blip r:embed="rId5"/>
            <a:stretch/>
          </p:blipFill>
          <p:spPr>
            <a:xfrm>
              <a:off x="0" y="2743200"/>
              <a:ext cx="541440" cy="91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6" name="Text Box 13"/>
          <p:cNvSpPr/>
          <p:nvPr/>
        </p:nvSpPr>
        <p:spPr>
          <a:xfrm>
            <a:off x="1187280" y="6093000"/>
            <a:ext cx="763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179280" y="-360"/>
            <a:ext cx="8964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）对王明同学行为的评价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王明勇敢地跳入水中抢救落水同学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张刚是见义勇为、有高尚道德的行为．应受法津保护和道德褒奖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就本案而言，王明的行为无论从法律或道德方面都不宜提倡。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汤兵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法律不提倡未成年人实施见义勇为的行为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468360" y="306864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徐文同学行为的评价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徐文的行为不违法但应受道德的谴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95280" y="4437000"/>
            <a:ext cx="835344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钟平、黄晓芳同学行为的评价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钟平、黄晓芳的行为既是见义勇为的行为又是道德教育提倡的行为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本案中钟平、黄晓芳勇于救人，机智救人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既保全了自己，又成功地抢救了他人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3"/>
          <p:cNvSpPr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温馨小提示</a:t>
            </a:r>
            <a:r>
              <a:rPr b="1" lang="en-US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遇到各种危急的情况，帮助或救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他人时，要见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智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。如果你遇到类似情况怎么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0" y="11970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提示：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）危难时刻要学会保护自我，也要尽一切可能去挽救他人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）既要珍爱自己的生命安全与健康，也要关爱他人的生命安全与健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8194"/>
          <p:cNvSpPr/>
          <p:nvPr/>
        </p:nvSpPr>
        <p:spPr>
          <a:xfrm>
            <a:off x="1712880" y="6237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10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10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-119160" y="5716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框  同样的权利 同样的爱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"/>
          <p:cNvSpPr/>
          <p:nvPr/>
        </p:nvSpPr>
        <p:spPr>
          <a:xfrm>
            <a:off x="914400" y="800280"/>
            <a:ext cx="380880" cy="5257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371600" y="8380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积极行使生命健康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2895480" y="609480"/>
            <a:ext cx="381240" cy="2133720"/>
          </a:xfrm>
          <a:custGeom>
            <a:avLst/>
            <a:gdLst>
              <a:gd name="textAreaLeft" fmla="*/ 243720 w 381240"/>
              <a:gd name="textAreaRight" fmla="*/ 381600 w 3812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3200400" y="189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使生命健康权的具体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7"/>
          <p:cNvSpPr/>
          <p:nvPr/>
        </p:nvSpPr>
        <p:spPr>
          <a:xfrm>
            <a:off x="3200400" y="11430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自身安全和健康，既是我们的权利，也是我们的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200400" y="22766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放弃生命健康权的恶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9"/>
          <p:cNvSpPr/>
          <p:nvPr/>
        </p:nvSpPr>
        <p:spPr>
          <a:xfrm>
            <a:off x="1295280" y="3657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关爱他人的生命与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0"/>
          <p:cNvSpPr/>
          <p:nvPr/>
        </p:nvSpPr>
        <p:spPr>
          <a:xfrm>
            <a:off x="2895480" y="3200400"/>
            <a:ext cx="381240" cy="2209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1"/>
          <p:cNvSpPr/>
          <p:nvPr/>
        </p:nvSpPr>
        <p:spPr>
          <a:xfrm>
            <a:off x="3276720" y="29559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负有不侵害他人生命健康权的道德义务和法定义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"/>
          <p:cNvSpPr/>
          <p:nvPr/>
        </p:nvSpPr>
        <p:spPr>
          <a:xfrm>
            <a:off x="3200400" y="40384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伤害他人就是伤害自己，尊重他人就是保护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3"/>
          <p:cNvSpPr/>
          <p:nvPr/>
        </p:nvSpPr>
        <p:spPr>
          <a:xfrm>
            <a:off x="3276720" y="5105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要关爱生命，远离暴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1293840" y="56610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总之，既要珍爱自身的生命安全与健康，也要关爱他人的生命与健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Oval 2"/>
          <p:cNvSpPr/>
          <p:nvPr/>
        </p:nvSpPr>
        <p:spPr>
          <a:xfrm>
            <a:off x="826920" y="990720"/>
            <a:ext cx="7239240" cy="335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1343160" y="1523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多一点爱，世界就会多一缕阳光，多一点爱，世界就会充满希望。让我们关爱生灵，关爱他人的生命和健康，远离暴力，做一个既遵守法律又乐于助人的人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4"/>
          <p:cNvSpPr/>
          <p:nvPr/>
        </p:nvSpPr>
        <p:spPr>
          <a:xfrm>
            <a:off x="7667640" y="566100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3794"/>
                </a:moveTo>
                <a:lnTo>
                  <a:pt x="20122" y="10800"/>
                </a:lnTo>
                <a:lnTo>
                  <a:pt x="610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9B51-4235-4CD6-BCE4-D1D1561F49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1371600" y="12193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</a:rPr>
              <a:t>、张某手持铁棍入室抢劫，职工小王和家人奋起反抗，打伤张某的手臂后制服张某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762120" y="54864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上述行为哪些属于合法行为？哪些属于放弃权利的行为？为什么？</a:t>
            </a:r>
            <a:endParaRPr b="0" lang="en-US" sz="3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30" name="Picture 6" descr="Q2"/>
          <p:cNvPicPr/>
          <p:nvPr/>
        </p:nvPicPr>
        <p:blipFill>
          <a:blip r:embed="rId1"/>
          <a:stretch/>
        </p:blipFill>
        <p:spPr>
          <a:xfrm>
            <a:off x="0" y="4952880"/>
            <a:ext cx="1316160" cy="160020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7"/>
          <p:cNvSpPr/>
          <p:nvPr/>
        </p:nvSpPr>
        <p:spPr>
          <a:xfrm>
            <a:off x="0" y="39625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、小林骑自行车上学时，闯红灯过马路，险些与正常行驶的汽车相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0" y="2666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、小红怕吃药打针，患了感冒久拖不治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结果得了心肌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WordArt 9"/>
          <p:cNvSpPr txBox="1"/>
          <p:nvPr/>
        </p:nvSpPr>
        <p:spPr>
          <a:xfrm>
            <a:off x="5410080" y="0"/>
            <a:ext cx="30956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七嘴八舌：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4"/>
          <p:cNvSpPr/>
          <p:nvPr/>
        </p:nvSpPr>
        <p:spPr>
          <a:xfrm>
            <a:off x="250920" y="28195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小红和小林都是放弃生命健康权利的行为。我们有注意自身生命安全和健康，使自己处于安全环境，免受他人侵害，保持自己健康的权利。</a:t>
            </a:r>
            <a:r>
              <a:rPr b="1" lang="zh-CN" sz="3600" spc="-1" strike="noStrike">
                <a:solidFill>
                  <a:srgbClr val="cc00ff"/>
                </a:solidFill>
                <a:latin typeface="隶书"/>
                <a:ea typeface="隶书"/>
              </a:rPr>
              <a:t>小林的行为不仅是违反交通法规的行为，而且也是放弃保护自己健康的权利的行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小王和家人的行为是合法行为，因为根据刑法的有关规定，小王和家人的行为属于依法自卫（正当防卫）的行为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2"/>
          <p:cNvSpPr/>
          <p:nvPr/>
        </p:nvSpPr>
        <p:spPr>
          <a:xfrm>
            <a:off x="466560" y="14479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刑法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条规定：对正在进行行凶、杀人、抢劫、强奸，绑架以及其他严重危及人身安全的暴力犯罪，采取防卫行为，造成不法侵害人伤亡的，不属于防卫过当，不负刑事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7"/>
          <p:cNvPicPr/>
          <p:nvPr/>
        </p:nvPicPr>
        <p:blipFill>
          <a:blip r:embed="rId1"/>
          <a:stretch/>
        </p:blipFill>
        <p:spPr>
          <a:xfrm>
            <a:off x="380880" y="6343560"/>
            <a:ext cx="8229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5"/>
          <p:cNvSpPr/>
          <p:nvPr/>
        </p:nvSpPr>
        <p:spPr>
          <a:xfrm>
            <a:off x="2895480" y="4648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3"/>
          <p:cNvSpPr/>
          <p:nvPr/>
        </p:nvSpPr>
        <p:spPr>
          <a:xfrm>
            <a:off x="4098960" y="1066680"/>
            <a:ext cx="549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914400" y="914400"/>
            <a:ext cx="4419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遭遇非法侵害，应依法正当防卫，防止防卫过当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FR7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1143000" y="1752480"/>
            <a:ext cx="6781680" cy="2104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、珍爱生命，不得轻生或自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4572000" cy="5791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5734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0" y="58672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北交大一名学生自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4724280" y="5667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吉林一毕业实习大学生跳楼砸瘪过路的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未命名3"/>
          <p:cNvPicPr/>
          <p:nvPr/>
        </p:nvPicPr>
        <p:blipFill>
          <a:blip r:embed="rId1">
            <a:lum bright="84000"/>
          </a:blip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小朋友自杀"/>
          <p:cNvPicPr/>
          <p:nvPr/>
        </p:nvPicPr>
        <p:blipFill>
          <a:blip r:embed="rId2"/>
          <a:stretch/>
        </p:blipFill>
        <p:spPr>
          <a:xfrm>
            <a:off x="6477120" y="2438280"/>
            <a:ext cx="2286000" cy="35816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4" descr="小兔自杀"/>
          <p:cNvPicPr/>
          <p:nvPr/>
        </p:nvPicPr>
        <p:blipFill>
          <a:blip r:embed="rId3"/>
          <a:stretch/>
        </p:blipFill>
        <p:spPr>
          <a:xfrm>
            <a:off x="2895480" y="2590920"/>
            <a:ext cx="3200400" cy="2819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5" descr="A12"/>
          <p:cNvPicPr/>
          <p:nvPr/>
        </p:nvPicPr>
        <p:blipFill>
          <a:blip r:embed="rId4"/>
          <a:stretch/>
        </p:blipFill>
        <p:spPr>
          <a:xfrm>
            <a:off x="380880" y="2819520"/>
            <a:ext cx="2057400" cy="2895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6"/>
          <p:cNvSpPr/>
          <p:nvPr/>
        </p:nvSpPr>
        <p:spPr>
          <a:xfrm>
            <a:off x="1295280" y="30492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我们绝</a:t>
            </a: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不</a:t>
            </a:r>
            <a:r>
              <a:rPr b="0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可以这样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3154680" y="57261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不要放弃生命健康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00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49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521a000000000001024120</vt:lpwstr>
  </property>
  <property fmtid="{D5CDD505-2E9C-101B-9397-08002B2CF9AE}" pid="4" name="Version">
    <vt:r8>1</vt:r8>
  </property>
</Properties>
</file>