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94A-6E89-44D1-B223-5AA96183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9DF-AF8B-40D2-AAC1-2039623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661-A498-4D26-938B-32B3CC3A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1F9-28EF-4750-A7EE-73D44054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48C-CF1B-4BDE-A2C5-DA599FB5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0ED6-F0FA-4D23-AFFE-701A87D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3772-574C-4F1F-88EF-66ED523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A8BF-9B04-4596-AED3-8B00DC0D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710F-8144-4583-B56D-9C4708A8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06BB-E287-459B-8F87-6D5ECDB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B6B0-41EE-4CD9-99A2-0F7C8543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F7A-4C91-4957-AF73-8A3E811B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248-E2AB-4F25-B0EC-1E9ACF8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C358-23E8-4175-8258-64B0C88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9A0-A48E-4298-8161-B6AA429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52CD-23FB-4AC3-9AF3-3C89543B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4FE0-E126-4643-935A-4DD77FEB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0E55-DEF9-4D44-B5E0-133D2BD0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8898-8A91-4CC6-B2BA-6009DA81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815A-74E8-4AC7-A934-323097D8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DCE3-C33B-43CB-9230-E39C5C1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0842-B7EB-4221-B060-37A14874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895-E4F6-4853-8FB7-969B5FB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A992-63E9-43C7-9D81-163D10A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BA8E-E9B3-49E9-94AE-4A4971C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CDA4-63D0-4282-BB0E-A49E264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C326-3119-4A73-A329-11E01803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CBA0-0240-417D-91F8-AA1BDE33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68EA-CA85-4DCF-B255-F7C3C3AE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83B3-A5BE-43EA-879C-ADD90261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249-93C5-4F6A-ABA5-9064030B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D06-58FD-4E84-B832-B39C61EF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162-A894-474C-9067-DC33E35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0A5-D562-4465-A760-172EB9D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8E2-98FE-4A90-B532-51D938B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8BB-1248-461B-AD65-2EB0DD5E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8720"/>
              <a:chOff x="6273360" y="-21960"/>
              <a:chExt cx="287028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8720"/>
                <a:chOff x="6273360" y="-21960"/>
                <a:chExt cx="286740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160" cy="1141200"/>
                  <a:chOff x="7833960" y="843120"/>
                  <a:chExt cx="106416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3840" y="1601280"/>
                    <a:ext cx="4752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6480"/>
                  <a:ext cx="1064520" cy="1140480"/>
                  <a:chOff x="6537960" y="906480"/>
                  <a:chExt cx="1064520" cy="11404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680" y="1197000"/>
                    <a:ext cx="8859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428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240" y="46656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480" y="477720"/>
                    <a:ext cx="4878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7920"/>
                    <a:ext cx="261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3320" cy="1248480"/>
                  <a:chOff x="6710760" y="930240"/>
                  <a:chExt cx="91332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400"/>
                    <a:ext cx="88488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400"/>
                    <a:ext cx="47484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5600" cy="1248840"/>
                  <a:chOff x="7014960" y="979200"/>
                  <a:chExt cx="615600" cy="124884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520"/>
                    <a:ext cx="8175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120"/>
                    <a:ext cx="438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040" y="909000"/>
                  <a:ext cx="949680" cy="1230120"/>
                  <a:chOff x="7799040" y="909000"/>
                  <a:chExt cx="949680" cy="123012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59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596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89800" cy="1155240"/>
                  <a:chOff x="7733880" y="1058760"/>
                  <a:chExt cx="289800" cy="115524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8080"/>
                    <a:ext cx="753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4640" y="1901160"/>
                    <a:ext cx="40464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592-543B-4369-83FC-EBDC0B8037B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1617-66F6-47C7-BBF9-47636E71A0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2360"/>
                    <a:ext cx="2559240" cy="2742840"/>
                    <a:chOff x="5761080" y="2322360"/>
                    <a:chExt cx="255924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2320" y="4144320"/>
                      <a:ext cx="11419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5640" y="2474640"/>
                    <a:ext cx="2559240" cy="2740320"/>
                    <a:chOff x="2645640" y="2474640"/>
                    <a:chExt cx="2559240" cy="27403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040" y="3173040"/>
                      <a:ext cx="212868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0640" y="4295880"/>
                      <a:ext cx="11415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7800" y="245160"/>
                    <a:ext cx="1122840" cy="1946880"/>
                    <a:chOff x="4447800" y="245160"/>
                    <a:chExt cx="112284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3280" y="1399680"/>
                      <a:ext cx="131076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39560"/>
                      <a:ext cx="7041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2800" y="14626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1240" y="53496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6440" y="270000"/>
                    <a:ext cx="1195200" cy="1901520"/>
                    <a:chOff x="5356440" y="270000"/>
                    <a:chExt cx="1195200" cy="190152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8600" y="1418760"/>
                      <a:ext cx="130716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800" y="484200"/>
                      <a:ext cx="701280" cy="35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7320" cy="1796040"/>
                    <a:chOff x="5458320" y="292680"/>
                    <a:chExt cx="427320" cy="179604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8680" y="1446480"/>
                      <a:ext cx="11736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1760" y="532440"/>
                      <a:ext cx="6300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160" y="2531160"/>
                    <a:ext cx="2196360" cy="3002040"/>
                    <a:chOff x="3062160" y="2531160"/>
                    <a:chExt cx="2196360" cy="300204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560" y="3315960"/>
                      <a:ext cx="21279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7920" y="4592520"/>
                      <a:ext cx="11419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160" y="2649960"/>
                    <a:ext cx="1482120" cy="3000960"/>
                    <a:chOff x="3791160" y="2649960"/>
                    <a:chExt cx="1482120" cy="300096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600" y="3438360"/>
                      <a:ext cx="196416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4720" y="4744800"/>
                      <a:ext cx="105372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6840" y="2483280"/>
                    <a:ext cx="2282040" cy="2953440"/>
                    <a:chOff x="5676840" y="2483280"/>
                    <a:chExt cx="2282040" cy="295344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4760" y="325116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799680" y="449676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080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680" y="2840760"/>
                    <a:ext cx="697320" cy="2777400"/>
                    <a:chOff x="5521680" y="2840760"/>
                    <a:chExt cx="69732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360" y="3607920"/>
                      <a:ext cx="1811160" cy="30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8080" y="4866480"/>
                      <a:ext cx="972720" cy="47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440"/>
                      <a:ext cx="17715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27A9-CFFE-46E0-A375-4AAED3512DF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772400" cy="162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273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宋体"/>
                <a:ea typeface="宋体"/>
              </a:rPr>
              <a:t>我爱这土地课件</a:t>
            </a:r>
            <a:r>
              <a:rPr b="1" lang="en-US" sz="4000" spc="-1" strike="noStrike">
                <a:solidFill>
                  <a:srgbClr val="ffcc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cc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003280" y="364500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Arial Black"/>
                <a:ea typeface="华文行楷"/>
              </a:rPr>
              <a:t>艾  青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cc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你知道吗：           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有关爱国主题的名言及古诗词名句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1844280"/>
            <a:ext cx="9144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r>
              <a:rPr b="0" lang="zh-CN" sz="4800" spc="-1" strike="noStrike">
                <a:solidFill>
                  <a:srgbClr val="ff3399"/>
                </a:solidFill>
                <a:latin typeface="Arial Black"/>
                <a:ea typeface="华文新魏"/>
              </a:rPr>
              <a:t>爱国名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爱国高于一切＿＿ 肖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国家是大家的，爱国是每个人的本分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陶行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爱国主义就是千百年来固定下来的对自己祖国的一种最深厚的感情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列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天下兴亡，匹夫有责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顾炎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我是中国人民的儿子，我深情地爱着我的祖国和人民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邓小平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67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67" fill="hold"/>
                                        <p:tgtEl>
                                          <p:spTgt spid="4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67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67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97708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古诗词名句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79280" y="2060280"/>
            <a:ext cx="8964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　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先天下之优而优，后天下之乐而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范仲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以国家之务为己任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韩愈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 一寸丹心图报国，两行清泪为思亲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于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位卑未敢忘优国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陆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捐躯赴国难，视死忽如归</a:t>
            </a: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____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曹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死去原知万事空，但悲不见九州同。王师北定中原日，家祭无忘告乃翁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陆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7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7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7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7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 Black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9933ff"/>
                </a:solidFill>
                <a:latin typeface="Arial Black"/>
                <a:ea typeface="华文新魏"/>
              </a:rPr>
              <a:t>向你推荐：</a:t>
            </a:r>
            <a:br>
              <a:rPr sz="4800"/>
            </a:br>
            <a:r>
              <a:rPr b="1" lang="zh-CN" sz="4800" spc="-1" strike="noStrike">
                <a:solidFill>
                  <a:srgbClr val="9933ff"/>
                </a:solidFill>
                <a:latin typeface="Arial Black"/>
                <a:ea typeface="华文新魏"/>
              </a:rPr>
              <a:t>反映爱国主题的文章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23640" y="2565360"/>
            <a:ext cx="8458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祖国啊，我亲爱的祖国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舒婷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长城谣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江河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祖国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莱蒙托夫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乡愁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余光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黑人谈河流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休斯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文本框 8194"/>
          <p:cNvSpPr/>
          <p:nvPr/>
        </p:nvSpPr>
        <p:spPr>
          <a:xfrm>
            <a:off x="539640" y="206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67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67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67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67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WordArt 5"/>
          <p:cNvSpPr txBox="1"/>
          <p:nvPr/>
        </p:nvSpPr>
        <p:spPr>
          <a:xfrm rot="21390000">
            <a:off x="1352160" y="2055960"/>
            <a:ext cx="6216840" cy="21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讲爱国故事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0C1-304D-4EB2-BCEE-3019BA631027}" type="slidenum">
              <a:rPr b="0" lang="zh-CN" sz="1400" spc="-1" strike="noStrike">
                <a:solidFill>
                  <a:srgbClr val="ffcc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27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3795840" y="3246480"/>
            <a:ext cx="18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WordArt 13"/>
          <p:cNvSpPr txBox="1"/>
          <p:nvPr/>
        </p:nvSpPr>
        <p:spPr>
          <a:xfrm>
            <a:off x="1619280" y="1844640"/>
            <a:ext cx="597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欣赏爱国歌曲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 Black"/>
                <a:ea typeface="隶书"/>
              </a:rPr>
              <a:t>学习目标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 Black"/>
              </a:rPr>
              <a:t>１．知识目标：了解作者艾青及写作背景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 Black"/>
              </a:rPr>
              <a:t>２．能力目标：反复朗读，体会诗歌借助鸟的形象表现主题的手法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 Black"/>
              </a:rPr>
              <a:t>３．情感目标：体会诗歌蕴含的深沉而真挚的爱国之情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7"/>
          <p:cNvSpPr/>
          <p:nvPr/>
        </p:nvSpPr>
        <p:spPr>
          <a:xfrm>
            <a:off x="6875640" y="4129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49840" cy="16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Arial Black"/>
                <a:ea typeface="华文新魏"/>
              </a:rPr>
              <a:t>你知道吗？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95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１　作者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　　　　艾青（１９１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１９９６）原名蒋海澄，中国现代著名诗人。１９３６年，出版了第一部诗集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大堰河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，长诗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大堰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我的保姆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是他的成名之作。抗战时期，写了长诗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向太阳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火把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。他的作品还有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北方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黎明的通知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２　出处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　　　　选自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艾青诗选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1" name="Picture 4" descr="2006513104115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7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7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7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7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42465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 Black"/>
                <a:ea typeface="隶书"/>
              </a:rPr>
              <a:t>题目解说：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土地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象征生他养他而又多灾多难的祖国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-459000"/>
            <a:ext cx="84582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听录音、体会爱国深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-360"/>
            <a:ext cx="9396360" cy="904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爱这土地    （艾青）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 假如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我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是一只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鸟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我也应该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用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嘶哑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喉咙／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歌唱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这被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暴风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所打击着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土地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这永远汹涌着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们的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悲愤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河流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这无止息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吹刮着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激怒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风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 和那来自林间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无比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温柔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黎明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　　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然后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死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了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 连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羽毛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也腐烂在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土地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里面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为什么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的眼里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常含泪水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？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因为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我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对这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土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爱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深沉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8877240" y="6256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7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7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7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7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7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7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7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7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7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7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7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7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1280" y="1267920"/>
            <a:ext cx="741672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5400" spc="-1" strike="noStrike">
                <a:solidFill>
                  <a:srgbClr val="0000ff"/>
                </a:solidFill>
                <a:latin typeface="Arial Black"/>
                <a:ea typeface="华文新魏"/>
              </a:rPr>
              <a:t>朗读要求：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读音准确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停顿恰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重音读准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富有节奏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67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67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67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67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华文行楷"/>
              </a:rPr>
              <a:t>整体感知：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360" y="1988640"/>
            <a:ext cx="7988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诗中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嘶哑的喉咙歌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是一个怎样的形象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诗中描述了鸟儿歌唱的对象分别是什么？核心是什么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这只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歌唱至死，连羽毛也腐烂在土地里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 对此应如何理解，与学过的古诗词中那些名句有异曲同工之妙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文本框 8194"/>
          <p:cNvSpPr/>
          <p:nvPr/>
        </p:nvSpPr>
        <p:spPr>
          <a:xfrm>
            <a:off x="1116000" y="306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7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7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7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7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1773000"/>
            <a:ext cx="7740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小鸟活着时倾尽全力，它歌唱土地，河流，黎明，生命耗尽后便投身土地的怀抱，与它所挚爱的土地融为一体，实际上寄寓了诗人愿为祖国献身一切的决心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零落成泥碾作尘，只有香如故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落红不是无情物，化作春泥更护花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春蚕到死丝方尽，蜡炬成灰泪始干．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208584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 Black"/>
                <a:ea typeface="华文行楷"/>
              </a:rPr>
              <a:t>讨论：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1916280"/>
            <a:ext cx="84582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 Black"/>
              </a:rPr>
              <a:t>这首诗的第二节与第一节之间有什么联系？怎样理解最后两句诗之间的因果关系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如果说第一节是对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爱土地（祖国）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主题的抒情性的铺陈描述，第二节短小精悍的两行则可看作是对主题的高度凝练的概括．因果关系的一问一答，是爱国者目睹满目疮痍的祖国，爱得越深，痛得越切的悲愤表情的特写，在这一节诗意得到了提炼和升华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7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7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7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7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6:34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0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