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8BE8-6FED-4BE5-8495-7B71701D8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6645-A2EB-4E76-8657-E2AD9F5B7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D2E2-3A08-4BD7-8EB8-DFA6B398A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BB94-2297-46A2-A295-B961C6286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1FC87-CBA8-4E4C-AAD3-3C887D1A7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21710-C04F-4BA9-9619-5EC290C96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E68C2-9FE0-497D-9E7A-86D87C7EB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58CC2-BC56-4F31-BFDB-609C57BF6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00442-51C2-451B-A3F0-CBD92857F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DFFF2-A1F1-4445-9933-6A938EC86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FFFB1-764F-4EB3-AB55-3DC096361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B1EA-6303-448E-A688-1EC44D34C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70A8A-E175-48BE-ADEA-E25FB2564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6D821-54CE-4D99-846A-7119385FA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73CBB-47B3-4D66-B5CD-D6F7E944B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DDBD0-46EE-4C00-9CEB-2BE3B92AD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7155A-A883-481B-AE39-692B269DE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0B414D-B7F6-4050-8180-2A9D3EA12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EF1B98-40F3-4DF4-8BBA-7E22D766C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F2245E-1D07-408B-B5F2-3F3ABD6E5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6A1985-AD2A-47B8-8458-2BF08B621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0D2A11-C5DD-4B26-B314-F13A04EB3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C4CF-67B2-4227-83AD-D13BEB292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C87AFC-6D2C-448D-9E6C-8FBF06273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B502DB-61BD-43B5-B745-D4F243F2F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0E31CE-19CC-4963-988C-55FDDD7A1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8D79E0-0700-4D97-82FE-1C7918E29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76E527-086E-4446-B1F3-BE5DE2930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DDBB04-49BE-40E1-AF8D-3C1F0D59E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BF0BBB-BD90-491C-93F9-D0C25CF7B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81AF-61AA-4288-8EBE-C80A0D170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EED2-2B53-4B8D-84AC-E432A1366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A30B-FF62-40F0-8F3B-92D83D9A6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9A6C-365E-4666-AE8A-C39C0E043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C62F-3060-4AAE-89CA-DB1084508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2E64-13F6-42CB-BD71-C7FF05155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12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SzPct val="12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CCBF8-36FA-4682-B7A2-166A0E4A96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09740-B52C-4AE5-8E3A-B1A5EC8029E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12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SzPct val="12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BD2FF-E15E-4E7A-BFC1-7608DAC6622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Picture 7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8"/>
          <p:cNvSpPr/>
          <p:nvPr/>
        </p:nvSpPr>
        <p:spPr>
          <a:xfrm>
            <a:off x="1619280" y="1125360"/>
            <a:ext cx="7299360" cy="195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  <a:ea typeface="宋体"/>
              </a:rPr>
              <a:t>我的母亲</a:t>
            </a:r>
            <a:r>
              <a:rPr b="0" lang="zh-CN" sz="4000" spc="-1" strike="noStrike">
                <a:solidFill>
                  <a:srgbClr val="ff0000"/>
                </a:solidFill>
                <a:latin typeface="宋体"/>
                <a:ea typeface="宋体"/>
              </a:rPr>
              <a:t>课件</a:t>
            </a:r>
            <a:r>
              <a:rPr b="0" lang="en-US" sz="4000" spc="-1" strike="noStrike">
                <a:solidFill>
                  <a:srgbClr val="ff0000"/>
                </a:solidFill>
                <a:latin typeface="宋体"/>
                <a:ea typeface="宋体"/>
              </a:rPr>
              <a:t>PPT</a:t>
            </a:r>
            <a:r>
              <a:rPr b="0" lang="zh-CN" sz="4000" spc="-1" strike="noStrike">
                <a:solidFill>
                  <a:srgbClr val="ff0000"/>
                </a:solidFill>
                <a:latin typeface="宋体"/>
                <a:ea typeface="宋体"/>
              </a:rPr>
              <a:t>模板打包下载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a50021"/>
                </a:solidFill>
                <a:latin typeface="Arial"/>
              </a:rPr>
              <a:t>胡适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文本框 6155"/>
          <p:cNvSpPr/>
          <p:nvPr/>
        </p:nvSpPr>
        <p:spPr>
          <a:xfrm>
            <a:off x="250920" y="6237360"/>
            <a:ext cx="50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61616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161616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4"/>
          <p:cNvSpPr/>
          <p:nvPr/>
        </p:nvSpPr>
        <p:spPr>
          <a:xfrm>
            <a:off x="1258920" y="3178800"/>
            <a:ext cx="743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Rectangle 8"/>
          <p:cNvSpPr/>
          <p:nvPr/>
        </p:nvSpPr>
        <p:spPr>
          <a:xfrm>
            <a:off x="-4497480" y="2290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Rectangle 9"/>
          <p:cNvSpPr/>
          <p:nvPr/>
        </p:nvSpPr>
        <p:spPr>
          <a:xfrm>
            <a:off x="539640" y="88560"/>
            <a:ext cx="79567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imes New Roman"/>
                <a:ea typeface="仿宋_GB2312"/>
              </a:rPr>
              <a:t>                                 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胡适，幼名嗣   ，字适之，号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                         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冬友，著名学者、教育家，安徽绩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                         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溪人。 胡适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岁开始识字，一年功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                         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夫，竟能识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100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多汉字。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9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岁时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                         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在私塾学好课业之余开始选看家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                         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藏书，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14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岁已看过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《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三国演义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》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《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红楼梦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》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等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3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多部古典小说，并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                         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读了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《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资治通鉴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》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。胡适一生先后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                         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获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35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个博士学位。一生著作宏富，著有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《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中国哲学史大纲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》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（上卷）、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《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白话文学史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》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（上卷）、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《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胡适文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》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等难以枚举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胡适先生是新文化的战士，自由主义知识分子的代表。他的思想历久而弥新，他的影响在海峡两岸十分深远，有人说，二十世纪是鲁迅世纪，二十一世纪是胡适世纪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Picture 26" descr="hs"/>
          <p:cNvPicPr/>
          <p:nvPr/>
        </p:nvPicPr>
        <p:blipFill>
          <a:blip r:embed="rId1"/>
          <a:stretch/>
        </p:blipFill>
        <p:spPr>
          <a:xfrm>
            <a:off x="684360" y="692280"/>
            <a:ext cx="287784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4" descr="20058111194821952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133" name="矩形 6"/>
          <p:cNvSpPr/>
          <p:nvPr/>
        </p:nvSpPr>
        <p:spPr>
          <a:xfrm>
            <a:off x="1476360" y="38736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hangye/ </a:t>
            </a:r>
            <a:endParaRPr b="0" lang="en-US" sz="1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sucai/</a:t>
            </a:r>
            <a:endParaRPr b="0" lang="en-US" sz="1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tubiao/      </a:t>
            </a:r>
            <a:endParaRPr b="0" lang="en-US" sz="1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powerpoint/      </a:t>
            </a:r>
            <a:endParaRPr b="0" lang="en-US" sz="1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excel/  </a:t>
            </a:r>
            <a:endParaRPr b="0" lang="en-US" sz="1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kejian/ </a:t>
            </a:r>
            <a:endParaRPr b="0" lang="en-US" sz="1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shiti/  </a:t>
            </a:r>
            <a:endParaRPr b="0" lang="en-US" sz="1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jiaoan/  </a:t>
            </a:r>
            <a:endParaRPr b="0" lang="en-US" sz="1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611280" y="765000"/>
            <a:ext cx="81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有位教育家说过，江河的源泉，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水性很柔，一点点人力便可以把它导入他途，使河流的方向根本改变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”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。其实，人的一生，也是如此。胡适先生的人生，有步入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他途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”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的可能吗？</a:t>
            </a: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文本框 8197"/>
          <p:cNvSpPr/>
          <p:nvPr/>
        </p:nvSpPr>
        <p:spPr>
          <a:xfrm>
            <a:off x="755640" y="2854440"/>
            <a:ext cx="58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模板打包下载</a:t>
            </a:r>
            <a:r>
              <a:rPr b="0" lang="en-US" sz="1600" spc="-1" strike="noStrike" u="sng">
                <a:solidFill>
                  <a:srgbClr val="ffcc00"/>
                </a:solidFill>
                <a:uFillTx/>
                <a:latin typeface="Arial"/>
                <a:ea typeface="宋体"/>
                <a:hlinkClick r:id="rId2"/>
              </a:rPr>
              <a:t>http://www.eeppt.com/moban/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4" descr="20062501417740"/>
          <p:cNvPicPr/>
          <p:nvPr/>
        </p:nvPicPr>
        <p:blipFill>
          <a:blip r:embed="rId1"/>
          <a:stretch/>
        </p:blipFill>
        <p:spPr>
          <a:xfrm>
            <a:off x="0" y="0"/>
            <a:ext cx="3995640" cy="695340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5"/>
          <p:cNvSpPr/>
          <p:nvPr/>
        </p:nvSpPr>
        <p:spPr>
          <a:xfrm>
            <a:off x="4427640" y="1125360"/>
            <a:ext cx="43210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范例</a:t>
            </a:r>
            <a:r>
              <a:rPr b="1" lang="en-US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 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仿宋_GB2312"/>
              </a:rPr>
              <a:t>“</a:t>
            </a:r>
            <a:r>
              <a:rPr b="1" lang="zh-CN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我在我家八字门口和一班孩子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仿宋_GB2312"/>
              </a:rPr>
              <a:t>‘</a:t>
            </a:r>
            <a:r>
              <a:rPr b="1" lang="zh-CN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掷铜钱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仿宋_GB2312"/>
              </a:rPr>
              <a:t>’”</a:t>
            </a:r>
            <a:r>
              <a:rPr b="1" lang="zh-CN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，如果没有那位老辈的玩笑，也许胡适先生会跟着顽童们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仿宋_GB2312"/>
              </a:rPr>
              <a:t>“</a:t>
            </a:r>
            <a:r>
              <a:rPr b="1" lang="zh-CN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野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仿宋_GB2312"/>
              </a:rPr>
              <a:t>”</a:t>
            </a:r>
            <a:r>
              <a:rPr b="1" lang="zh-CN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了，也许会拥有更多的游戏生活了，也许就不会只做一次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仿宋_GB2312"/>
              </a:rPr>
              <a:t>“</a:t>
            </a:r>
            <a:r>
              <a:rPr b="1" lang="zh-CN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史文恭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仿宋_GB2312"/>
              </a:rPr>
              <a:t>”</a:t>
            </a:r>
            <a:r>
              <a:rPr b="1" lang="zh-CN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了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7" descr="Sunset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8"/>
          <p:cNvSpPr/>
          <p:nvPr/>
        </p:nvSpPr>
        <p:spPr>
          <a:xfrm>
            <a:off x="1979640" y="1052640"/>
            <a:ext cx="576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影响胡适先生成长的最关键的人是“母亲”。结合课文，让我们共同来赞美胡适先生的“第一位老师”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母亲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文本框 8197"/>
          <p:cNvSpPr/>
          <p:nvPr/>
        </p:nvSpPr>
        <p:spPr>
          <a:xfrm>
            <a:off x="1332000" y="5445000"/>
            <a:ext cx="58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模板打包下载</a:t>
            </a:r>
            <a:r>
              <a:rPr b="0" lang="en-US" sz="1600" spc="-1" strike="noStrike" u="sng">
                <a:solidFill>
                  <a:srgbClr val="ffcc00"/>
                </a:solidFill>
                <a:uFillTx/>
                <a:latin typeface="Arial"/>
                <a:ea typeface="宋体"/>
                <a:hlinkClick r:id="rId2"/>
              </a:rPr>
              <a:t>http://www.eeppt.com/moban/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5" descr="2005116222725421"/>
          <p:cNvPicPr/>
          <p:nvPr/>
        </p:nvPicPr>
        <p:blipFill>
          <a:blip r:embed="rId1"/>
          <a:stretch/>
        </p:blipFill>
        <p:spPr>
          <a:xfrm>
            <a:off x="0" y="260280"/>
            <a:ext cx="4064040" cy="609624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6"/>
          <p:cNvSpPr/>
          <p:nvPr/>
        </p:nvSpPr>
        <p:spPr>
          <a:xfrm>
            <a:off x="4427640" y="189000"/>
            <a:ext cx="381636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仿宋_GB2312"/>
              </a:rPr>
              <a:t>范例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仿宋_GB2312"/>
              </a:rPr>
              <a:t>: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仿宋_GB2312"/>
              </a:rPr>
              <a:t>  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仿宋_GB2312"/>
              </a:rPr>
              <a:t>胡老夫人，您是深邃宽阔的大海，容纳百川，容人所不能容。“大哥”，是个败家子，年年除夕，招来一大群讨债的，讨债的打着灯笼走了，“大哥”回来了，可您从不露一点怒色！大嫂二嫂不时地摆出世间最可厌恶的生气的脸给您看，有时还打骂孩子来出气，用尖刻有刺的话骂给您听，可您总忍耐着，只装着没看见没听见，实在忍不住了，也只是到邻居家坐坐谈谈，从不跟她们吵一句嘴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A5D48-BC72-4D6F-8C20-A5FC2957535C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4"/>
          <p:cNvSpPr/>
          <p:nvPr/>
        </p:nvSpPr>
        <p:spPr>
          <a:xfrm>
            <a:off x="1547640" y="1557360"/>
            <a:ext cx="6048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．结合自己的成长经历，你觉得胡适先生的母亲哪些地方值得你母亲效仿？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．结合自己的成长经历，说说你在哪些方面深受母亲的影响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6T01:42:53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51:26Z</dcterms:modified>
  <cp:revision>1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