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1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46C-CC64-41A9-8C1C-BD0954EC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D49-60EC-416E-B430-E043002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94A-99E3-4EAC-97B2-C522B3A0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9A0-4004-4AA9-9521-BC3DD2ED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FB4C-3E53-4246-B0D4-B6A728E3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C393-832A-4A71-ADB7-14162A66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3D4-DC61-44A5-B528-A0E847C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1F3-97E7-4915-AF16-C8A6A475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B639-8D98-49E9-BA34-26F09CA3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A652-94FF-4931-A50B-0CF4A2F7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428C-BA3F-4CF8-9DC7-516FCD6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022-C89A-4EAE-B787-1081C44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13F0-A851-4043-958F-609D7832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5AAA-D094-43DD-A42F-9B89C9C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8DD-1A07-4DB2-8EAE-C8B764D1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9082-7416-4B99-BF59-F818ECE3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9E93-4888-461D-8EAB-7510603F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0FC9-30F7-45E7-8941-82A26082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6861-2209-41D3-82DA-7F935D42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3B5E-20ED-4EA6-8098-14CD8F4D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76B3-1881-412F-B6C4-83B0CDB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A417-7B9F-46FD-8EC1-B345C95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7F4-D845-4382-B253-971B17B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7D90-F944-40F7-8EF7-C7EDE442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9904-A8E0-4623-ACA4-FF3FB28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1627-BF6F-4077-BF4C-03A36F9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8883-4522-4487-B391-78B21B5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4CC0-333A-43CF-A493-8FB0DF63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48E8-DD03-4325-87CF-AD470671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201A-EDBA-4F5E-88D0-8D66EDEB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AA23-BE19-4E3B-B516-8C5DE94A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E98E-E565-4A88-A034-8ED534BF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F943-8951-41F6-8749-215E0D0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591-F261-41B1-8D7C-982CC610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FE53-53B9-4D2B-9DCE-96B72E07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D126-D534-4C36-85C5-B1A5F0D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6FEF-1B68-4411-834E-C4027B0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C3EA-9265-446A-A0FE-975B14D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1189-F257-4E15-9B2A-957DE551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065E-8099-463B-A2CF-1B0B4E9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2316-D90D-470C-B18B-CEB7E658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8801-022A-4E20-86C9-A7FFFF27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426B7-030F-4EFF-AB30-346476A7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104-71FF-4934-855F-3700876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A89-455E-4573-B5E4-5732BAA9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209-16A5-4362-B0F3-E60DE9B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4B6-1BFC-4DFF-B410-1CEDD26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842-D918-412B-B833-B844255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B56-B81D-4EBB-BF03-6C499663DC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C702-6468-4782-883F-6161FAD2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18E4-A623-4AA4-8B82-E3A969EED8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0A6A-AE9B-45AA-8550-B6B071146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4.jpeg"/><Relationship Id="rId3" Type="http://schemas.openxmlformats.org/officeDocument/2006/relationships/hyperlink" Target="file:///tmp/home/.config/libreoffice/4/user/gallery/&#40723;&#25484;" TargetMode="Externa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42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教新课标六年级《品德与社会》上册第四单元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838080" y="2349360"/>
            <a:ext cx="77076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文化采风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85d94a46b860201ccefca34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3"/>
          <p:cNvSpPr txBox="1"/>
          <p:nvPr/>
        </p:nvSpPr>
        <p:spPr>
          <a:xfrm>
            <a:off x="457200" y="304920"/>
            <a:ext cx="8381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在圣诞节，有许多节日特有的物品和风景，咱们来看一看！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5" name="Picture 4" descr="b7bc4c66233ddc39ab184cee"/>
          <p:cNvPicPr/>
          <p:nvPr/>
        </p:nvPicPr>
        <p:blipFill>
          <a:blip r:embed="rId2"/>
          <a:stretch/>
        </p:blipFill>
        <p:spPr>
          <a:xfrm>
            <a:off x="304920" y="1447920"/>
            <a:ext cx="1466640" cy="1904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e78c65895ac103830e244465"/>
          <p:cNvPicPr/>
          <p:nvPr/>
        </p:nvPicPr>
        <p:blipFill>
          <a:blip r:embed="rId3"/>
          <a:stretch/>
        </p:blipFill>
        <p:spPr>
          <a:xfrm>
            <a:off x="2057400" y="1600200"/>
            <a:ext cx="1905120" cy="1666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0b07ec1f75ca0e2df724e437"/>
          <p:cNvPicPr/>
          <p:nvPr/>
        </p:nvPicPr>
        <p:blipFill>
          <a:blip r:embed="rId4"/>
          <a:stretch/>
        </p:blipFill>
        <p:spPr>
          <a:xfrm>
            <a:off x="6858000" y="121932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6a22e824a582697d8644f916"/>
          <p:cNvPicPr/>
          <p:nvPr/>
        </p:nvPicPr>
        <p:blipFill>
          <a:blip r:embed="rId5"/>
          <a:stretch/>
        </p:blipFill>
        <p:spPr>
          <a:xfrm>
            <a:off x="457200" y="480060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964b2e4ee81f40d7d1c86a3b"/>
          <p:cNvPicPr/>
          <p:nvPr/>
        </p:nvPicPr>
        <p:blipFill>
          <a:blip r:embed="rId6"/>
          <a:stretch/>
        </p:blipFill>
        <p:spPr>
          <a:xfrm>
            <a:off x="2895480" y="396252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4d497006bb1d6f350308817c"/>
          <p:cNvPicPr/>
          <p:nvPr/>
        </p:nvPicPr>
        <p:blipFill>
          <a:blip r:embed="rId7"/>
          <a:stretch/>
        </p:blipFill>
        <p:spPr>
          <a:xfrm>
            <a:off x="6553080" y="297180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35da1d3b87e7aca415cecb86"/>
          <p:cNvPicPr/>
          <p:nvPr/>
        </p:nvPicPr>
        <p:blipFill>
          <a:blip r:embed="rId8"/>
          <a:stretch/>
        </p:blipFill>
        <p:spPr>
          <a:xfrm>
            <a:off x="4343400" y="1981080"/>
            <a:ext cx="1895400" cy="1362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0fb505d5f1b2b88a50da4b0f"/>
          <p:cNvPicPr/>
          <p:nvPr/>
        </p:nvPicPr>
        <p:blipFill>
          <a:blip r:embed="rId9"/>
          <a:stretch/>
        </p:blipFill>
        <p:spPr>
          <a:xfrm>
            <a:off x="5791320" y="48769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1" descr="03"/>
          <p:cNvPicPr/>
          <p:nvPr/>
        </p:nvPicPr>
        <p:blipFill>
          <a:blip r:embed="rId1"/>
          <a:stretch/>
        </p:blipFill>
        <p:spPr>
          <a:xfrm>
            <a:off x="395280" y="231840"/>
            <a:ext cx="2422440" cy="641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5"/>
          <p:cNvSpPr/>
          <p:nvPr/>
        </p:nvSpPr>
        <p:spPr>
          <a:xfrm>
            <a:off x="1476360" y="16160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感恩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332000" y="923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826920" y="2133720"/>
            <a:ext cx="720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每年十一月第四个星期四是美国人独创的一个古老的节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感恩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它也是全家欢聚的日子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7" name="Picture 28" descr="感恩节"/>
          <p:cNvPicPr/>
          <p:nvPr/>
        </p:nvPicPr>
        <p:blipFill>
          <a:blip r:embed="rId2"/>
          <a:stretch/>
        </p:blipFill>
        <p:spPr>
          <a:xfrm>
            <a:off x="2484360" y="3946680"/>
            <a:ext cx="4081680" cy="28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76360" y="220680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感恩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1" name="Picture 6" descr="感恩节  火鸡走上街头"/>
          <p:cNvPicPr/>
          <p:nvPr/>
        </p:nvPicPr>
        <p:blipFill>
          <a:blip r:embed="rId2"/>
          <a:stretch/>
        </p:blipFill>
        <p:spPr>
          <a:xfrm>
            <a:off x="2052720" y="2770200"/>
            <a:ext cx="5111640" cy="3179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2843280" y="603576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感恩节  火鸡走上街头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788000" y="1989000"/>
            <a:ext cx="374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说说感恩节的由来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067280" y="2565360"/>
            <a:ext cx="410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  <a:ea typeface="宋体"/>
              </a:rPr>
              <a:t>答：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  <a:ea typeface="宋体"/>
              </a:rPr>
              <a:t>1620</a:t>
            </a:r>
            <a:r>
              <a:rPr b="1" lang="zh-CN" sz="2600" spc="-1" strike="noStrike">
                <a:solidFill>
                  <a:srgbClr val="ff00ff"/>
                </a:solidFill>
                <a:latin typeface="宋体"/>
                <a:ea typeface="宋体"/>
              </a:rPr>
              <a:t>年底，一群英国人来到美洲大陆求生。在印第安人的帮助下，他们学会造房、捕鱼、种植玉米等。到了秋天收获的季节，为了感谢印第安人的帮助，英国人邀请印第安人一起举行庆典。这就是感恩节的由来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7" name="Picture 9" descr="插图"/>
          <p:cNvPicPr/>
          <p:nvPr/>
        </p:nvPicPr>
        <p:blipFill>
          <a:blip r:embed="rId2"/>
          <a:stretch/>
        </p:blipFill>
        <p:spPr>
          <a:xfrm>
            <a:off x="1116000" y="2781360"/>
            <a:ext cx="29034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7"/>
          <p:cNvSpPr/>
          <p:nvPr/>
        </p:nvSpPr>
        <p:spPr>
          <a:xfrm>
            <a:off x="4716360" y="3359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9" name="Picture 2" descr="03"/>
          <p:cNvPicPr/>
          <p:nvPr/>
        </p:nvPicPr>
        <p:blipFill>
          <a:blip r:embed="rId1"/>
          <a:stretch/>
        </p:blipFill>
        <p:spPr>
          <a:xfrm>
            <a:off x="539640" y="14436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187280" y="836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219640" y="221940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开斋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11280" y="1874880"/>
            <a:ext cx="2232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开斋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全世界穆斯林盛大的节日之一，它是穆斯林庆祝斋月结束的节日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3" name="Picture 8" descr="庆祝开斋节"/>
          <p:cNvPicPr/>
          <p:nvPr/>
        </p:nvPicPr>
        <p:blipFill>
          <a:blip r:embed="rId2"/>
          <a:stretch/>
        </p:blipFill>
        <p:spPr>
          <a:xfrm>
            <a:off x="3492360" y="3029040"/>
            <a:ext cx="446436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1547640" y="22766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狂欢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219640" y="3143160"/>
            <a:ext cx="2808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世界上不少国家都有狂欢节，而最负盛名的是巴西，这里被誉为“狂欢节之乡”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8" name="Picture 6" descr="巴西狂欢节"/>
          <p:cNvPicPr/>
          <p:nvPr/>
        </p:nvPicPr>
        <p:blipFill>
          <a:blip r:embed="rId2"/>
          <a:stretch/>
        </p:blipFill>
        <p:spPr>
          <a:xfrm>
            <a:off x="1803240" y="2873520"/>
            <a:ext cx="32004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12720" y="19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中下旬，是巴西最重要的节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狂欢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。巴西被誉为“狂欢节之乡”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47640" y="22766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狂欢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3" name="Picture 6" descr="狂欢节（1）"/>
          <p:cNvPicPr/>
          <p:nvPr/>
        </p:nvPicPr>
        <p:blipFill>
          <a:blip r:embed="rId2"/>
          <a:stretch/>
        </p:blipFill>
        <p:spPr>
          <a:xfrm>
            <a:off x="2664000" y="2647800"/>
            <a:ext cx="450036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47640" y="227664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狂欢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7" name="Picture 6" descr="狂欢节（4）"/>
          <p:cNvPicPr/>
          <p:nvPr/>
        </p:nvPicPr>
        <p:blipFill>
          <a:blip r:embed="rId2"/>
          <a:stretch/>
        </p:blipFill>
        <p:spPr>
          <a:xfrm>
            <a:off x="2050920" y="2854440"/>
            <a:ext cx="5185080" cy="35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6360" y="406440"/>
            <a:ext cx="907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其它的节日：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月圆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      亚非国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复活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每年春分后的第一个星期天，是基督教纪念耶稣复活的节日。     欧美国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愚人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       始于英国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男孩节和女孩节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本夏历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日是女孩节，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月初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是男孩节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01"/>
          <p:cNvPicPr/>
          <p:nvPr/>
        </p:nvPicPr>
        <p:blipFill>
          <a:blip r:embed="rId1"/>
          <a:stretch/>
        </p:blipFill>
        <p:spPr>
          <a:xfrm>
            <a:off x="250920" y="406440"/>
            <a:ext cx="2479680" cy="5475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4"/>
          <p:cNvSpPr/>
          <p:nvPr/>
        </p:nvSpPr>
        <p:spPr>
          <a:xfrm>
            <a:off x="1116000" y="1096920"/>
            <a:ext cx="6696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游历世界名城，它们悠久的历史、多彩的艺术，给我们留下了深刻的印象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你能说说我们国家有哪些节日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9" name="Picture 25" descr="中秋节"/>
          <p:cNvPicPr/>
          <p:nvPr/>
        </p:nvPicPr>
        <p:blipFill>
          <a:blip r:embed="rId2"/>
          <a:stretch/>
        </p:blipFill>
        <p:spPr>
          <a:xfrm>
            <a:off x="2557440" y="3146400"/>
            <a:ext cx="4175280" cy="3019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6"/>
          <p:cNvSpPr/>
          <p:nvPr/>
        </p:nvSpPr>
        <p:spPr>
          <a:xfrm>
            <a:off x="3995640" y="616572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中秋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381120" y="2924280"/>
            <a:ext cx="30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礼仪中的文化有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见面礼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饮食礼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馈赠礼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03"/>
          <p:cNvPicPr/>
          <p:nvPr/>
        </p:nvPicPr>
        <p:blipFill>
          <a:blip r:embed="rId1"/>
          <a:stretch/>
        </p:blipFill>
        <p:spPr>
          <a:xfrm>
            <a:off x="179280" y="5868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539640" y="10098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见面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276720" y="3207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260360" y="1787400"/>
            <a:ext cx="69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礼仪是我们观察世界的一个窗口，透过它，我们可以看到不同国家人们对社会生活的理解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见面礼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人们交往中的重要礼节，世界各地有着多种多样的见面礼节，它们或表示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敬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或表示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祝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与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友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600" spc="-1" strike="noStrike">
                <a:solidFill>
                  <a:srgbClr val="0000cc"/>
                </a:solidFill>
                <a:latin typeface="宋体"/>
                <a:ea typeface="宋体"/>
              </a:rPr>
              <a:t>握手是当今世界最流行的见面礼节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你还知道有哪些见面礼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6" name="文本框 8196"/>
          <p:cNvSpPr/>
          <p:nvPr/>
        </p:nvSpPr>
        <p:spPr>
          <a:xfrm>
            <a:off x="1560600" y="15019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见面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60" name="Picture 7" descr="鞠躬礼"/>
          <p:cNvPicPr/>
          <p:nvPr/>
        </p:nvPicPr>
        <p:blipFill>
          <a:blip r:embed="rId2"/>
          <a:stretch/>
        </p:blipFill>
        <p:spPr>
          <a:xfrm>
            <a:off x="1403280" y="2854440"/>
            <a:ext cx="1824120" cy="3525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插图（1）"/>
          <p:cNvPicPr/>
          <p:nvPr/>
        </p:nvPicPr>
        <p:blipFill>
          <a:blip r:embed="rId3"/>
          <a:stretch/>
        </p:blipFill>
        <p:spPr>
          <a:xfrm>
            <a:off x="3495600" y="2421000"/>
            <a:ext cx="2013120" cy="3368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插图（2）"/>
          <p:cNvPicPr/>
          <p:nvPr/>
        </p:nvPicPr>
        <p:blipFill>
          <a:blip r:embed="rId4"/>
          <a:stretch/>
        </p:blipFill>
        <p:spPr>
          <a:xfrm>
            <a:off x="5724360" y="1120680"/>
            <a:ext cx="235440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4"/>
          <p:cNvPicPr/>
          <p:nvPr/>
        </p:nvPicPr>
        <p:blipFill>
          <a:blip r:embed="rId1"/>
          <a:stretch/>
        </p:blipFill>
        <p:spPr>
          <a:xfrm>
            <a:off x="250920" y="0"/>
            <a:ext cx="244800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4078440" y="40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握手的来历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340000" y="1268280"/>
            <a:ext cx="4537080" cy="4925880"/>
            <a:chOff x="2340000" y="1268280"/>
            <a:chExt cx="4537080" cy="4925880"/>
          </a:xfrm>
        </p:grpSpPr>
        <p:sp>
          <p:nvSpPr>
            <p:cNvPr id="266" name="AutoShape 7"/>
            <p:cNvSpPr/>
            <p:nvPr/>
          </p:nvSpPr>
          <p:spPr>
            <a:xfrm>
              <a:off x="2340000" y="1268280"/>
              <a:ext cx="4537080" cy="492588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2987640" y="1861560"/>
              <a:ext cx="3384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　　据说，古代武士常佩长剑，如遇上敌手，便右手挥剑自卫相斗，遇到友人，便伸出右手相握，表示友好和亲近。后来握手逐渐演变成一种常用的见面礼节。 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饮食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619280" y="3359160"/>
            <a:ext cx="6048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饮食不仅是为了满足人基本需要，也是一项重要的社会活动。不同的国家饮食礼仪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不尽相同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），甚至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大相径庭</a:t>
            </a:r>
            <a:r>
              <a:rPr b="1" lang="zh-CN" sz="2600" spc="-1" strike="noStrike">
                <a:solidFill>
                  <a:srgbClr val="ff00ff"/>
                </a:solidFill>
                <a:latin typeface="Times New Roman"/>
              </a:rPr>
              <a:t>）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饮食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75" name="Picture 8" descr="插图（3）"/>
          <p:cNvPicPr/>
          <p:nvPr/>
        </p:nvPicPr>
        <p:blipFill>
          <a:blip r:embed="rId2"/>
          <a:stretch/>
        </p:blipFill>
        <p:spPr>
          <a:xfrm>
            <a:off x="3924360" y="2854440"/>
            <a:ext cx="3890880" cy="3311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116000" y="2924280"/>
            <a:ext cx="2951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在一些国家，人们一般认为吃面条发出“稀里呼噜”的声音符合传统礼仪，把这种声音看作是对厨师或主人的赞赏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饮食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0" y="2708280"/>
            <a:ext cx="35290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用西餐时，如果你吃面条，决不可端起碗来吃，而应先将面条切成短条，然后用叉子将面条卷起来吃，在吃的时候，不可发出“呼噜噜”的吸吮声和叉碗碰撞的声音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1" name="Picture 7" descr="插图（4）"/>
          <p:cNvPicPr/>
          <p:nvPr/>
        </p:nvPicPr>
        <p:blipFill>
          <a:blip r:embed="rId2"/>
          <a:stretch/>
        </p:blipFill>
        <p:spPr>
          <a:xfrm>
            <a:off x="1403280" y="2997360"/>
            <a:ext cx="3059280" cy="31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03280" y="234936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馈赠礼仪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1600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礼仪中的文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4360" y="2508120"/>
            <a:ext cx="4608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不同的国家对送礼的内容与形式有不同的理解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美国人接受礼物时喜欢当面把礼物打开，同时说声“谢谢”，这样，送礼物的人会觉得对方很喜欢他的礼物。而有些国家的人认为，当面打开礼物是不尊重对方的表现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6" name="Picture 7" descr="插图（5）"/>
          <p:cNvPicPr/>
          <p:nvPr/>
        </p:nvPicPr>
        <p:blipFill>
          <a:blip r:embed="rId2"/>
          <a:stretch/>
        </p:blipFill>
        <p:spPr>
          <a:xfrm>
            <a:off x="971640" y="2924280"/>
            <a:ext cx="294948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12720" y="40608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知道哪些见面礼节？针对不同国家人们的生活习惯和礼仪习俗，我们该怎么做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我知道的见面礼节有：握手、双手合十、拥抱、鞠躬等，其中，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握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当今世界最流行的见面礼节。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当我们遇到与我们不同的生活习惯和礼仪习俗时，应该去理解和尊重不同的文化习俗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2844720" y="603576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阿拉伯仪仗礼兵装束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91" name="Picture 7" descr="阿拉伯仪仗礼兵装束"/>
          <p:cNvPicPr/>
          <p:nvPr/>
        </p:nvPicPr>
        <p:blipFill>
          <a:blip r:embed="rId2"/>
          <a:stretch/>
        </p:blipFill>
        <p:spPr>
          <a:xfrm>
            <a:off x="2052720" y="2276640"/>
            <a:ext cx="482436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847840" y="57405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楷体_GB2312"/>
              </a:rPr>
              <a:t>元旦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201760" y="5819760"/>
            <a:ext cx="93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春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3" name="Picture 10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春节"/>
          <p:cNvPicPr/>
          <p:nvPr/>
        </p:nvPicPr>
        <p:blipFill>
          <a:blip r:embed="rId2"/>
          <a:stretch/>
        </p:blipFill>
        <p:spPr>
          <a:xfrm>
            <a:off x="1042920" y="1989000"/>
            <a:ext cx="2711520" cy="367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元旦"/>
          <p:cNvPicPr/>
          <p:nvPr/>
        </p:nvPicPr>
        <p:blipFill>
          <a:blip r:embed="rId3"/>
          <a:stretch/>
        </p:blipFill>
        <p:spPr>
          <a:xfrm>
            <a:off x="3851280" y="220680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12720" y="406080"/>
            <a:ext cx="77724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阿拉伯人的住房为什么窗户开得很小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阿拉伯人生活在沙漠广布的阿拉伯半岛上，窗户一般都很小，光线很难照进去，这是为了防止风沙的侵入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阿拉伯人为什么把衣服裹得那么严实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阿拉伯人生活在沙漠广布的阿拉伯半岛上，由于风沙较大，所以要把衣服裹得非常严实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1258920" y="2206800"/>
            <a:ext cx="13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因纽特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96" name="Picture 6" descr="狗拉雪橇"/>
          <p:cNvPicPr/>
          <p:nvPr/>
        </p:nvPicPr>
        <p:blipFill>
          <a:blip r:embed="rId2"/>
          <a:stretch/>
        </p:blipFill>
        <p:spPr>
          <a:xfrm>
            <a:off x="1219320" y="2781360"/>
            <a:ext cx="3065400" cy="300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　狗拉雪橇（1）"/>
          <p:cNvPicPr/>
          <p:nvPr/>
        </p:nvPicPr>
        <p:blipFill>
          <a:blip r:embed="rId3"/>
          <a:stretch/>
        </p:blipFill>
        <p:spPr>
          <a:xfrm>
            <a:off x="4506840" y="2924280"/>
            <a:ext cx="3810240" cy="283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8"/>
          <p:cNvSpPr/>
          <p:nvPr/>
        </p:nvSpPr>
        <p:spPr>
          <a:xfrm>
            <a:off x="3706920" y="5950080"/>
            <a:ext cx="165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狗拉雪橇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4213080" y="603576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冰屋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258920" y="2206800"/>
            <a:ext cx="13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因纽特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03" name="Picture 7" descr="冰屋（1）"/>
          <p:cNvPicPr/>
          <p:nvPr/>
        </p:nvPicPr>
        <p:blipFill>
          <a:blip r:embed="rId2"/>
          <a:stretch/>
        </p:blipFill>
        <p:spPr>
          <a:xfrm>
            <a:off x="1763640" y="2781360"/>
            <a:ext cx="59770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06" name="Picture 6" descr="冰屋"/>
          <p:cNvPicPr/>
          <p:nvPr/>
        </p:nvPicPr>
        <p:blipFill>
          <a:blip r:embed="rId2"/>
          <a:stretch/>
        </p:blipFill>
        <p:spPr>
          <a:xfrm>
            <a:off x="2124000" y="2746440"/>
            <a:ext cx="4994280" cy="3251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4213080" y="603576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冰屋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258920" y="2206800"/>
            <a:ext cx="136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因纽特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24000" y="1701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因纽特人的主要特点是什么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因纽特人是地球最北部的居民。在北极的冰天雪地里，他们因地制宜，盖起了传统的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冰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。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雪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因纽特人主要的交通工具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0" name="文本框 8196"/>
          <p:cNvSpPr/>
          <p:nvPr/>
        </p:nvSpPr>
        <p:spPr>
          <a:xfrm>
            <a:off x="1282680" y="12463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03"/>
          <p:cNvPicPr/>
          <p:nvPr/>
        </p:nvPicPr>
        <p:blipFill>
          <a:blip r:embed="rId1"/>
          <a:stretch/>
        </p:blipFill>
        <p:spPr>
          <a:xfrm>
            <a:off x="252360" y="189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851280" y="2318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995640" y="619452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牧羊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08000" y="10098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澳大利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有（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骑在羊背上的国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）的美誉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15" name="Picture 7" descr="牧羊"/>
          <p:cNvPicPr/>
          <p:nvPr/>
        </p:nvPicPr>
        <p:blipFill>
          <a:blip r:embed="rId2"/>
          <a:stretch/>
        </p:blipFill>
        <p:spPr>
          <a:xfrm>
            <a:off x="2340000" y="2739960"/>
            <a:ext cx="4464000" cy="33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1116000" y="1628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世界风情画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258920" y="5373720"/>
            <a:ext cx="6912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由于文化和地域生活环境的差异，世界各地人们的日常生活呈现出多姿多彩的风貌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1258920" y="2206800"/>
            <a:ext cx="489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澳大利亚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——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骑在羊背上的国家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20" name="Picture 8" descr="剪羊毛"/>
          <p:cNvPicPr/>
          <p:nvPr/>
        </p:nvPicPr>
        <p:blipFill>
          <a:blip r:embed="rId2"/>
          <a:stretch/>
        </p:blipFill>
        <p:spPr>
          <a:xfrm>
            <a:off x="2556000" y="2800440"/>
            <a:ext cx="3430440" cy="2573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5622120" y="3946680"/>
            <a:ext cx="97236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剪羊毛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AutoShape 8">
            <a:hlinkClick r:id="rId3"/>
          </p:cNvPr>
          <p:cNvSpPr/>
          <p:nvPr/>
        </p:nvSpPr>
        <p:spPr>
          <a:xfrm>
            <a:off x="6445080" y="2827440"/>
            <a:ext cx="576360" cy="515880"/>
          </a:xfrm>
          <a:custGeom>
            <a:avLst/>
            <a:gdLst>
              <a:gd name="textAreaLeft" fmla="*/ 33120 w 576360"/>
              <a:gd name="textAreaRight" fmla="*/ 543240 w 576360"/>
              <a:gd name="textAreaTop" fmla="*/ 33120 h 515880"/>
              <a:gd name="textAreaBottom" fmla="*/ 482760 h 51588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1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1" y="20200"/>
                </a:lnTo>
                <a:lnTo>
                  <a:pt x="22731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1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31" h="21600">
                <a:moveTo>
                  <a:pt x="5059" y="8406"/>
                </a:moveTo>
                <a:lnTo>
                  <a:pt x="9489" y="8406"/>
                </a:lnTo>
                <a:lnTo>
                  <a:pt x="13910" y="3794"/>
                </a:lnTo>
                <a:lnTo>
                  <a:pt x="13910" y="17806"/>
                </a:lnTo>
                <a:lnTo>
                  <a:pt x="9489" y="13194"/>
                </a:lnTo>
                <a:lnTo>
                  <a:pt x="5059" y="13194"/>
                </a:lnTo>
                <a:close/>
              </a:path>
              <a:path fill="darken" w="24131" h="21600">
                <a:moveTo>
                  <a:pt x="15564" y="10800"/>
                </a:moveTo>
                <a:lnTo>
                  <a:pt x="19072" y="10800"/>
                </a:lnTo>
              </a:path>
              <a:path fill="darken" w="24131" h="21600">
                <a:moveTo>
                  <a:pt x="15564" y="8406"/>
                </a:moveTo>
                <a:lnTo>
                  <a:pt x="19072" y="5639"/>
                </a:lnTo>
              </a:path>
              <a:path fill="darken" w="24131" h="21600">
                <a:moveTo>
                  <a:pt x="15564" y="13194"/>
                </a:moveTo>
                <a:lnTo>
                  <a:pt x="19072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2280-7D0F-48E1-B9F3-CA1B28A46B99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11280" y="836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人们称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墨西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为（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仙人掌的王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）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是联合国确定的“国际土著人年”，此后每年的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被定为“国际土著人日”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每年的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为“世界母语日”。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4002120" y="5964120"/>
            <a:ext cx="129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端午节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7" name="Picture 4" descr="01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端午节"/>
          <p:cNvPicPr/>
          <p:nvPr/>
        </p:nvPicPr>
        <p:blipFill>
          <a:blip r:embed="rId2"/>
          <a:stretch/>
        </p:blipFill>
        <p:spPr>
          <a:xfrm>
            <a:off x="1947960" y="1892160"/>
            <a:ext cx="5216400" cy="39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1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468360" y="2349360"/>
            <a:ext cx="8351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世界不同国家、地区和民族，有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各种各样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的节日。每当节日到来时，人们载歌载舞，用自己喜爱的方式，表达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祝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愿望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和对美好生活的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向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2" name="Picture 23" descr="06"/>
          <p:cNvPicPr/>
          <p:nvPr/>
        </p:nvPicPr>
        <p:blipFill>
          <a:blip r:embed="rId2"/>
          <a:stretch/>
        </p:blipFill>
        <p:spPr>
          <a:xfrm>
            <a:off x="5695920" y="4316400"/>
            <a:ext cx="175572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26" descr="03"/>
          <p:cNvPicPr/>
          <p:nvPr/>
        </p:nvPicPr>
        <p:blipFill>
          <a:blip r:embed="rId1"/>
          <a:stretch/>
        </p:blipFill>
        <p:spPr>
          <a:xfrm>
            <a:off x="466560" y="492120"/>
            <a:ext cx="2422800" cy="63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41"/>
          <p:cNvSpPr/>
          <p:nvPr/>
        </p:nvSpPr>
        <p:spPr>
          <a:xfrm>
            <a:off x="5076720" y="3435480"/>
            <a:ext cx="2737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每年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，是许多西方国家的重大节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圣诞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Rectangle 1042"/>
          <p:cNvSpPr/>
          <p:nvPr/>
        </p:nvSpPr>
        <p:spPr>
          <a:xfrm>
            <a:off x="2186640" y="18748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圣诞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Text Box 1048"/>
          <p:cNvSpPr/>
          <p:nvPr/>
        </p:nvSpPr>
        <p:spPr>
          <a:xfrm>
            <a:off x="1332000" y="11826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7" name="Picture 1049" descr="圣诞老人"/>
          <p:cNvPicPr/>
          <p:nvPr/>
        </p:nvPicPr>
        <p:blipFill>
          <a:blip r:embed="rId2"/>
          <a:stretch/>
        </p:blipFill>
        <p:spPr>
          <a:xfrm>
            <a:off x="1979640" y="2637000"/>
            <a:ext cx="294156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04"/>
          <p:cNvPicPr/>
          <p:nvPr/>
        </p:nvPicPr>
        <p:blipFill>
          <a:blip r:embed="rId1"/>
          <a:stretch/>
        </p:blipFill>
        <p:spPr>
          <a:xfrm>
            <a:off x="539640" y="492120"/>
            <a:ext cx="2446560" cy="604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3322440" y="118260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圣诞老人”的礼物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979640" y="2133720"/>
            <a:ext cx="5327640" cy="4235040"/>
            <a:chOff x="1979640" y="2133720"/>
            <a:chExt cx="5327640" cy="4235040"/>
          </a:xfrm>
        </p:grpSpPr>
        <p:sp>
          <p:nvSpPr>
            <p:cNvPr id="191" name="AutoShape 14"/>
            <p:cNvSpPr/>
            <p:nvPr/>
          </p:nvSpPr>
          <p:spPr>
            <a:xfrm>
              <a:off x="1979640" y="2133720"/>
              <a:ext cx="5327640" cy="42350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2122560" y="2327400"/>
              <a:ext cx="504036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　　</a:t>
              </a:r>
              <a:r>
                <a:rPr b="1" lang="zh-CN" sz="2600" spc="-1" strike="noStrike">
                  <a:solidFill>
                    <a:srgbClr val="ff00ff"/>
                  </a:solidFill>
                  <a:latin typeface="Times New Roman"/>
                </a:rPr>
                <a:t>圣诞老人是一位人们想象中和蔼、慈祥的白胡子老爷爷。</a:t>
              </a:r>
              <a:r>
                <a:rPr b="1" lang="zh-CN" sz="2600" spc="-1" strike="noStrike">
                  <a:solidFill>
                    <a:srgbClr val="0000cc"/>
                  </a:solidFill>
                  <a:latin typeface="Times New Roman"/>
                </a:rPr>
                <a:t>传说，圣诞老人驾着驯鹿四处漫游时，会细心地观察人们的行为。尤其是小孩，如果表现好，在节日的时候就会得到苹果、糖等许多礼物。 </a:t>
              </a:r>
              <a:endParaRPr b="1" lang="en-US" sz="2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1403280" y="5229360"/>
            <a:ext cx="66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像中国人过春节时吃年饭一样，圣诞节的时候，人们喜欢全家人围坐在一起，共进美食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086560" y="2206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圣诞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7" name="Picture 15" descr="圣诞节"/>
          <p:cNvPicPr/>
          <p:nvPr/>
        </p:nvPicPr>
        <p:blipFill>
          <a:blip r:embed="rId2">
            <a:lum contrast="12000"/>
          </a:blip>
          <a:srcRect l="0" t="0" r="-79" b="0"/>
          <a:stretch/>
        </p:blipFill>
        <p:spPr>
          <a:xfrm>
            <a:off x="3060720" y="2379600"/>
            <a:ext cx="4103640" cy="277992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8196"/>
          <p:cNvSpPr/>
          <p:nvPr/>
        </p:nvSpPr>
        <p:spPr>
          <a:xfrm>
            <a:off x="1879560" y="860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1403280" y="3002040"/>
            <a:ext cx="6408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关心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和（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救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穷苦人是圣诞节的一项重要活动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每年圣诞节来临之际，人们都会慷慨解囊，为穷人捐款捐物，让他们也能分享、感受圣诞的快乐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086560" y="22068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圣诞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1628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多彩的节日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1:28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8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