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26A-A6F8-4604-9DD5-4E43D069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C05-4CC3-4AF9-B422-A3390D6D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067-4FF4-40ED-A888-B3A68435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4DD-D88D-47E8-B0B2-524779F1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5AC9-3AB1-4A84-A63C-00BE8EF7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B687-B6D3-4F93-A218-8FF0E71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15B4-1706-4D3C-A2FB-056E8865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E2D3-A242-41AF-AAB9-FDB1B62F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A5B6-DDE2-49F1-8DC4-73EE8F69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7583-8DC1-4189-802C-8A8FA3E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6279-A46A-43ED-B5E1-C1195286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A75-CD1D-41C6-A260-501B29CF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51D4-4410-4CEE-B738-61A6328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82D9-858A-4D1F-86F3-F19C26E4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1B98-B615-419B-B054-DF39F2E8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81C9-98EB-434B-B577-1102DAD2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5FE9-1F49-46E7-9761-EE40EFFF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EB0-2294-44FE-826D-BAA32885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DAF-BD6C-4C77-9AD5-D188E51E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B46-1507-43C6-B5AE-AFF7222C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829-05D7-4469-92D6-9D2AA3A1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206-D252-409B-8AE6-133D8A6E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AB6-F1EF-4D8A-951C-CB7A064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808-A42C-42A9-BDD3-7F98626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EDA1-D736-4EDD-9318-E60258DE20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F5D3-76F6-44BE-B513-A74BF8B488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hyperlink" Target="292,7,&#24187;&#28783;&#29255; 7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-1,-1,PRE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6"/>
          <p:cNvSpPr txBox="1"/>
          <p:nvPr/>
        </p:nvSpPr>
        <p:spPr>
          <a:xfrm>
            <a:off x="1692360" y="1805040"/>
            <a:ext cx="59752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我们的大丰收</a:t>
            </a:r>
            <a:r>
              <a:rPr b="0" lang="en-US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课件模板下载</a:t>
            </a:r>
            <a:endParaRPr b="0" lang="en-US" sz="4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116407270"/>
          <p:cNvPicPr/>
          <p:nvPr/>
        </p:nvPicPr>
        <p:blipFill>
          <a:blip r:embed="rId1"/>
          <a:stretch/>
        </p:blipFill>
        <p:spPr>
          <a:xfrm>
            <a:off x="250920" y="692280"/>
            <a:ext cx="4105080" cy="33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16529356"/>
          <p:cNvPicPr/>
          <p:nvPr/>
        </p:nvPicPr>
        <p:blipFill>
          <a:blip r:embed="rId2"/>
          <a:stretch/>
        </p:blipFill>
        <p:spPr>
          <a:xfrm>
            <a:off x="4572000" y="692280"/>
            <a:ext cx="4032360" cy="3371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611280" y="4581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长出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真叶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076720" y="4581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叶变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文本框 8199"/>
          <p:cNvSpPr/>
          <p:nvPr/>
        </p:nvSpPr>
        <p:spPr>
          <a:xfrm>
            <a:off x="1630440" y="4246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3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速生长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16298835"/>
          <p:cNvPicPr/>
          <p:nvPr/>
        </p:nvPicPr>
        <p:blipFill>
          <a:blip r:embed="rId1"/>
          <a:stretch/>
        </p:blipFill>
        <p:spPr>
          <a:xfrm>
            <a:off x="468360" y="1268280"/>
            <a:ext cx="5400720" cy="4881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012000" y="1628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的叶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平展、交叉生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为了最大限度的接受阳光的照射，进行光合作用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长出花蕾，也就是花芽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16118192"/>
          <p:cNvPicPr/>
          <p:nvPr/>
        </p:nvPicPr>
        <p:blipFill>
          <a:blip r:embed="rId1"/>
          <a:stretch/>
        </p:blipFill>
        <p:spPr>
          <a:xfrm>
            <a:off x="468360" y="1484280"/>
            <a:ext cx="5327640" cy="4427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5867280" y="148428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蕾长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叶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部位， 凤仙花出现花蕾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植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就不再长高或者增长缓慢了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2133720"/>
            <a:ext cx="4897440" cy="15958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细黑"/>
              </a:rPr>
              <a:t>判断：凤仙花出现花蕾时就不再生长了。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华文细黑"/>
              </a:rPr>
              <a:t>凤仙花从成熟到衰老死亡的过程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</a:rPr>
              <a:t>也是生长过程</a:t>
            </a:r>
            <a:r>
              <a:rPr b="0" lang="zh-CN" sz="2800" spc="-1" strike="noStrike">
                <a:solidFill>
                  <a:srgbClr val="ff0000"/>
                </a:solidFill>
                <a:latin typeface="华文细黑"/>
              </a:rPr>
              <a:t>，只是植株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</a:rPr>
              <a:t>高度</a:t>
            </a:r>
            <a:r>
              <a:rPr b="0" lang="zh-CN" sz="2800" spc="-1" strike="noStrike">
                <a:solidFill>
                  <a:srgbClr val="ff0000"/>
                </a:solidFill>
                <a:latin typeface="华文细黑"/>
              </a:rPr>
              <a:t>变化不明显了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778480" y="2637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细黑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开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播种后两个月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116620474"/>
          <p:cNvPicPr/>
          <p:nvPr/>
        </p:nvPicPr>
        <p:blipFill>
          <a:blip r:embed="rId1"/>
          <a:stretch/>
        </p:blipFill>
        <p:spPr>
          <a:xfrm>
            <a:off x="468360" y="155736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6877080" y="2276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的萼片成角状弯曲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2004122221935557"/>
          <p:cNvPicPr/>
          <p:nvPr/>
        </p:nvPicPr>
        <p:blipFill>
          <a:blip r:embed="rId1"/>
          <a:stretch/>
        </p:blipFill>
        <p:spPr>
          <a:xfrm>
            <a:off x="539640" y="1341360"/>
            <a:ext cx="6118200" cy="4556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659640" y="37162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生长到一定阶段会出现花与果实同株的现象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732720" y="83664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盛开后凋谢，花的一部分逐渐发育，长出果实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004122221956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6227640" y="3068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凤仙花的果实椭圆形，绿色（成熟后变成黄色），外面有白色的茸毛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结果：播种后三个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116763996"/>
          <p:cNvPicPr/>
          <p:nvPr/>
        </p:nvPicPr>
        <p:blipFill>
          <a:blip r:embed="rId1"/>
          <a:stretch/>
        </p:blipFill>
        <p:spPr>
          <a:xfrm>
            <a:off x="324000" y="1557360"/>
            <a:ext cx="5329080" cy="4778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6012000" y="2781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轻轻碰一下成熟的果实，里面的种子会被弹射出来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的大丰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16128725"/>
          <p:cNvPicPr/>
          <p:nvPr/>
        </p:nvPicPr>
        <p:blipFill>
          <a:blip r:embed="rId1"/>
          <a:stretch/>
        </p:blipFill>
        <p:spPr>
          <a:xfrm>
            <a:off x="539640" y="155736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116928613"/>
          <p:cNvPicPr/>
          <p:nvPr/>
        </p:nvPicPr>
        <p:blipFill>
          <a:blip r:embed="rId2"/>
          <a:stretch/>
        </p:blipFill>
        <p:spPr>
          <a:xfrm>
            <a:off x="4859280" y="2637000"/>
            <a:ext cx="4105440" cy="3079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5280" y="4941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下一粒种子可以收获几百粒种子，这是我们的大丰收，同时也说明凤仙花的繁殖能力是很强的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1752480"/>
          <a:ext cx="8915400" cy="2755800"/>
        </p:xfrm>
        <a:graphic>
          <a:graphicData uri="http://schemas.openxmlformats.org/drawingml/2006/table">
            <a:tbl>
              <a:tblPr/>
              <a:tblGrid>
                <a:gridCol w="1687680"/>
                <a:gridCol w="685800"/>
                <a:gridCol w="598320"/>
                <a:gridCol w="609480"/>
                <a:gridCol w="609840"/>
                <a:gridCol w="685800"/>
                <a:gridCol w="685800"/>
                <a:gridCol w="685800"/>
                <a:gridCol w="685800"/>
                <a:gridCol w="685800"/>
                <a:gridCol w="685800"/>
                <a:gridCol w="609480"/>
              </a:tblGrid>
              <a:tr h="111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凤仙花果实序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种子粒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平均粒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凤仙花果实中的平均种为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（  ？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Text Box 46"/>
          <p:cNvSpPr/>
          <p:nvPr/>
        </p:nvSpPr>
        <p:spPr>
          <a:xfrm>
            <a:off x="1828800" y="7621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凤仙花种子数量统计表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755640" y="5084640"/>
            <a:ext cx="777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请同学们阅读课本第</a:t>
            </a:r>
            <a:r>
              <a:rPr b="0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6</a:t>
            </a:r>
            <a:r>
              <a:rPr b="0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页的内容，想一想你能从书本上知道一些什么科学问题？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QQ截图20120303204308"/>
          <p:cNvPicPr/>
          <p:nvPr/>
        </p:nvPicPr>
        <p:blipFill>
          <a:blip r:embed="rId1"/>
          <a:stretch/>
        </p:blipFill>
        <p:spPr>
          <a:xfrm>
            <a:off x="468360" y="404640"/>
            <a:ext cx="8267760" cy="5204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3964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种子发芽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780000" y="2708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幼苗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020000" y="292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生长旺盛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29272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开花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2400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结果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植物的一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4920" y="249228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子发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050920" y="2565360"/>
            <a:ext cx="648000" cy="287280"/>
          </a:xfrm>
          <a:prstGeom prst="rightArrow">
            <a:avLst>
              <a:gd name="adj1" fmla="val 50000"/>
              <a:gd name="adj2" fmla="val 563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48436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幼苗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492360" y="2637000"/>
            <a:ext cx="648000" cy="287280"/>
          </a:xfrm>
          <a:prstGeom prst="rightArrow">
            <a:avLst>
              <a:gd name="adj1" fmla="val 50000"/>
              <a:gd name="adj2" fmla="val 563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95640" y="2492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生长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35640" y="2492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开花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948360" y="2492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5003640" y="2637000"/>
            <a:ext cx="648000" cy="287280"/>
          </a:xfrm>
          <a:prstGeom prst="rightArrow">
            <a:avLst>
              <a:gd name="adj1" fmla="val 50000"/>
              <a:gd name="adj2" fmla="val 563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6443640" y="2708280"/>
            <a:ext cx="647640" cy="287280"/>
          </a:xfrm>
          <a:prstGeom prst="rightArrow">
            <a:avLst>
              <a:gd name="adj1" fmla="val 50000"/>
              <a:gd name="adj2" fmla="val 5632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835280" y="1557360"/>
          <a:ext cx="5689440" cy="4176720"/>
        </p:xfrm>
        <a:graphic>
          <a:graphicData uri="http://schemas.openxmlformats.org/drawingml/2006/table">
            <a:tbl>
              <a:tblPr/>
              <a:tblGrid>
                <a:gridCol w="56894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华文细黑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1834920" y="1267920"/>
            <a:ext cx="360" cy="287640"/>
            <a:chOff x="1834920" y="1267920"/>
            <a:chExt cx="360" cy="287640"/>
          </a:xfrm>
        </p:grpSpPr>
        <p:sp>
          <p:nvSpPr>
            <p:cNvPr id="153" name="Line 22"/>
            <p:cNvSpPr/>
            <p:nvPr/>
          </p:nvSpPr>
          <p:spPr>
            <a:xfrm flipV="1">
              <a:off x="1835280" y="126792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 rot="10800000">
              <a:off x="1834920" y="1267920"/>
              <a:ext cx="36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524720" y="5734080"/>
            <a:ext cx="432000" cy="360"/>
            <a:chOff x="7524720" y="5734080"/>
            <a:chExt cx="432000" cy="360"/>
          </a:xfrm>
        </p:grpSpPr>
        <p:sp>
          <p:nvSpPr>
            <p:cNvPr id="156" name="Line 23"/>
            <p:cNvSpPr/>
            <p:nvPr/>
          </p:nvSpPr>
          <p:spPr>
            <a:xfrm>
              <a:off x="7524720" y="573408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7524720" y="5734080"/>
              <a:ext cx="4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58" name="Text Box 24"/>
          <p:cNvSpPr/>
          <p:nvPr/>
        </p:nvSpPr>
        <p:spPr>
          <a:xfrm>
            <a:off x="1547640" y="5734080"/>
            <a:ext cx="10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411280" y="580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298764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3635280" y="580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428472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485928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5940360" y="580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543564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644364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6948360" y="580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169236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7380360" y="58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周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1332000" y="5084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684360" y="112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厘米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2" name="Text Box 38"/>
          <p:cNvSpPr/>
          <p:nvPr/>
        </p:nvSpPr>
        <p:spPr>
          <a:xfrm>
            <a:off x="1258920" y="4581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1258920" y="4076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1258920" y="3500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1258920" y="2997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1258920" y="19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1258920" y="2492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cxnSp>
        <p:nvCxnSpPr>
          <p:cNvPr id="178" name="AutoShape 44"/>
          <p:cNvCxnSpPr/>
          <p:nvPr/>
        </p:nvCxnSpPr>
        <p:spPr>
          <a:xfrm>
            <a:off x="1834920" y="5470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grpSp>
        <p:nvGrpSpPr>
          <p:cNvPr id="179" name=""/>
          <p:cNvGrpSpPr/>
          <p:nvPr/>
        </p:nvGrpSpPr>
        <p:grpSpPr>
          <a:xfrm>
            <a:off x="1835280" y="5445000"/>
            <a:ext cx="720720" cy="217440"/>
            <a:chOff x="1835280" y="5445000"/>
            <a:chExt cx="720720" cy="217440"/>
          </a:xfrm>
        </p:grpSpPr>
        <p:sp>
          <p:nvSpPr>
            <p:cNvPr id="180" name="Line 45"/>
            <p:cNvSpPr/>
            <p:nvPr/>
          </p:nvSpPr>
          <p:spPr>
            <a:xfrm flipV="1">
              <a:off x="1835280" y="5445000"/>
              <a:ext cx="720720" cy="217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1835280" y="5445000"/>
              <a:ext cx="72072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82" name="Oval 46"/>
          <p:cNvSpPr/>
          <p:nvPr/>
        </p:nvSpPr>
        <p:spPr>
          <a:xfrm>
            <a:off x="1835280" y="5589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68360" y="5445000"/>
            <a:ext cx="360" cy="360"/>
            <a:chOff x="2268360" y="5445000"/>
            <a:chExt cx="360" cy="360"/>
          </a:xfrm>
        </p:grpSpPr>
        <p:sp>
          <p:nvSpPr>
            <p:cNvPr id="184" name="Line 47"/>
            <p:cNvSpPr/>
            <p:nvPr/>
          </p:nvSpPr>
          <p:spPr>
            <a:xfrm>
              <a:off x="2268360" y="544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2268360" y="5445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556000" y="5084280"/>
            <a:ext cx="576000" cy="360360"/>
            <a:chOff x="2556000" y="5084280"/>
            <a:chExt cx="576000" cy="360360"/>
          </a:xfrm>
        </p:grpSpPr>
        <p:sp>
          <p:nvSpPr>
            <p:cNvPr id="187" name="Line 48"/>
            <p:cNvSpPr/>
            <p:nvPr/>
          </p:nvSpPr>
          <p:spPr>
            <a:xfrm flipV="1">
              <a:off x="2556000" y="5084280"/>
              <a:ext cx="576000" cy="36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 rot="10800000">
              <a:off x="2556000" y="5084280"/>
              <a:ext cx="576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89" name="Oval 49"/>
          <p:cNvSpPr/>
          <p:nvPr/>
        </p:nvSpPr>
        <p:spPr>
          <a:xfrm>
            <a:off x="2484360" y="5373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32000" y="4797360"/>
            <a:ext cx="648000" cy="287280"/>
            <a:chOff x="3132000" y="4797360"/>
            <a:chExt cx="648000" cy="287280"/>
          </a:xfrm>
        </p:grpSpPr>
        <p:sp>
          <p:nvSpPr>
            <p:cNvPr id="191" name="Line 50"/>
            <p:cNvSpPr/>
            <p:nvPr/>
          </p:nvSpPr>
          <p:spPr>
            <a:xfrm flipV="1">
              <a:off x="3132000" y="4797360"/>
              <a:ext cx="648000" cy="2872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 rot="10800000">
              <a:off x="3132000" y="4797360"/>
              <a:ext cx="6480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500720" y="3573360"/>
            <a:ext cx="576000" cy="1008000"/>
            <a:chOff x="4500720" y="3573360"/>
            <a:chExt cx="576000" cy="1008000"/>
          </a:xfrm>
        </p:grpSpPr>
        <p:sp>
          <p:nvSpPr>
            <p:cNvPr id="194" name="Line 51"/>
            <p:cNvSpPr/>
            <p:nvPr/>
          </p:nvSpPr>
          <p:spPr>
            <a:xfrm flipV="1">
              <a:off x="4500720" y="3573360"/>
              <a:ext cx="576000" cy="1008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500720" y="3573360"/>
              <a:ext cx="57600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56360" y="3141360"/>
            <a:ext cx="1008000" cy="142920"/>
            <a:chOff x="6156360" y="3141360"/>
            <a:chExt cx="1008000" cy="142920"/>
          </a:xfrm>
        </p:grpSpPr>
        <p:sp>
          <p:nvSpPr>
            <p:cNvPr id="197" name="Line 52"/>
            <p:cNvSpPr/>
            <p:nvPr/>
          </p:nvSpPr>
          <p:spPr>
            <a:xfrm flipV="1">
              <a:off x="6156360" y="3141360"/>
              <a:ext cx="1008000" cy="1429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10800000">
              <a:off x="6156360" y="3141360"/>
              <a:ext cx="100800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076720" y="3284640"/>
            <a:ext cx="1008000" cy="288720"/>
            <a:chOff x="5076720" y="3284640"/>
            <a:chExt cx="1008000" cy="288720"/>
          </a:xfrm>
        </p:grpSpPr>
        <p:sp>
          <p:nvSpPr>
            <p:cNvPr id="200" name="Line 53"/>
            <p:cNvSpPr/>
            <p:nvPr/>
          </p:nvSpPr>
          <p:spPr>
            <a:xfrm flipV="1">
              <a:off x="5076720" y="3284640"/>
              <a:ext cx="1008000" cy="288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 rot="10800000">
              <a:off x="5076720" y="3284640"/>
              <a:ext cx="100800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202" name="Oval 54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3" name="Oval 55"/>
          <p:cNvSpPr/>
          <p:nvPr/>
        </p:nvSpPr>
        <p:spPr>
          <a:xfrm>
            <a:off x="7020000" y="306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4" name="Oval 56"/>
          <p:cNvSpPr/>
          <p:nvPr/>
        </p:nvSpPr>
        <p:spPr>
          <a:xfrm>
            <a:off x="5003640" y="35002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5" name="Oval 57"/>
          <p:cNvSpPr/>
          <p:nvPr/>
        </p:nvSpPr>
        <p:spPr>
          <a:xfrm>
            <a:off x="3059280" y="5013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780000" y="4581360"/>
            <a:ext cx="720720" cy="216000"/>
            <a:chOff x="3780000" y="4581360"/>
            <a:chExt cx="720720" cy="216000"/>
          </a:xfrm>
        </p:grpSpPr>
        <p:sp>
          <p:nvSpPr>
            <p:cNvPr id="207" name="Line 58"/>
            <p:cNvSpPr/>
            <p:nvPr/>
          </p:nvSpPr>
          <p:spPr>
            <a:xfrm flipV="1">
              <a:off x="3780000" y="4581360"/>
              <a:ext cx="720720" cy="216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 rot="10800000">
              <a:off x="3780000" y="4581360"/>
              <a:ext cx="72072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209" name="Oval 59"/>
          <p:cNvSpPr/>
          <p:nvPr/>
        </p:nvSpPr>
        <p:spPr>
          <a:xfrm>
            <a:off x="370836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0" name="Oval 60"/>
          <p:cNvSpPr/>
          <p:nvPr/>
        </p:nvSpPr>
        <p:spPr>
          <a:xfrm>
            <a:off x="4427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1" name="Text Box 61"/>
          <p:cNvSpPr/>
          <p:nvPr/>
        </p:nvSpPr>
        <p:spPr>
          <a:xfrm>
            <a:off x="2268360" y="476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凤仙花植株高度生长变化折线图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Text Box 62"/>
          <p:cNvSpPr/>
          <p:nvPr/>
        </p:nvSpPr>
        <p:spPr>
          <a:xfrm>
            <a:off x="1619280" y="6165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种子发芽期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3" name="Text Box 63"/>
          <p:cNvSpPr/>
          <p:nvPr/>
        </p:nvSpPr>
        <p:spPr>
          <a:xfrm>
            <a:off x="3059280" y="616572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幼苗期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4" name="Text Box 64"/>
          <p:cNvSpPr/>
          <p:nvPr/>
        </p:nvSpPr>
        <p:spPr>
          <a:xfrm>
            <a:off x="406728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生长旺盛期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5" name="Text Box 65"/>
          <p:cNvSpPr/>
          <p:nvPr/>
        </p:nvSpPr>
        <p:spPr>
          <a:xfrm>
            <a:off x="550872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花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6" name="Text Box 66"/>
          <p:cNvSpPr/>
          <p:nvPr/>
        </p:nvSpPr>
        <p:spPr>
          <a:xfrm>
            <a:off x="651672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果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文本框 8199"/>
          <p:cNvSpPr/>
          <p:nvPr/>
        </p:nvSpPr>
        <p:spPr>
          <a:xfrm>
            <a:off x="1978200" y="1049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" descr="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4562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2627280" y="0"/>
            <a:ext cx="3457440" cy="39888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凤仙花植株的各个组成部分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知道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71640" y="170028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凤仙花的生长过程包括：种子发芽期、幼苗期、生长旺盛期、开花期、结果期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凤仙花的各个组成部分有：根、茎、叶、花、果实、种子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凤仙花的生长发育所需要的条件有：阳光、土壤、适宜的水分和适当的温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11ED-0573-47C5-994F-F0BD9181A1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6408720" cy="33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这一单元的学习，我们除了以上的收获，你们还有其他收获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QQ截图20120303204308"/>
          <p:cNvPicPr/>
          <p:nvPr/>
        </p:nvPicPr>
        <p:blipFill>
          <a:blip r:embed="rId1"/>
          <a:stretch/>
        </p:blipFill>
        <p:spPr>
          <a:xfrm>
            <a:off x="468360" y="404640"/>
            <a:ext cx="8267760" cy="5204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53964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种子发芽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780000" y="2708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幼苗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020000" y="292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生长旺盛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29272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开花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12400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结果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凤仙花的生长发育所需要的条件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2920" y="2205000"/>
            <a:ext cx="4032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土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适宜的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适当的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播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播种方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想看到种子的萌发过程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可以怎样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（见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凤仙花是双子叶植物，它的种子由种皮和胚两部分组成。胚由胚根、胚芽和子叶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种子萌发过程中，子叶的作用是提供营养，植物的第一对叶子也就是种子里面的子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播种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选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要挑选那些饱满的、没有受过损伤的种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放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准备好花盆和土，把一块小瓦片放在花盆的出水孔上，然后放入适量的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用手指在土中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小坑，深度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，每个小坑里面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粒凤仙花种子，再用土盖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浇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往花盆中浇适量的水，使土壤湿润，将它放在温暖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68360" y="836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想看到种子的萌发过程，可以这样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透明玻璃杯的内壁垫几层纸，装进一些土壤，使纸巾贴住杯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把凤仙花种子放在杯壁和纸的中间（不同的方向都放置种子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往土壤中浇适量的水，不要让种子浸在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（发芽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播种后第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16956518"/>
          <p:cNvPicPr/>
          <p:nvPr/>
        </p:nvPicPr>
        <p:blipFill>
          <a:blip r:embed="rId1"/>
          <a:stretch/>
        </p:blipFill>
        <p:spPr>
          <a:xfrm>
            <a:off x="324000" y="1628640"/>
            <a:ext cx="5111640" cy="3967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435640" y="1557360"/>
            <a:ext cx="345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是凤仙花的第一对叶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叶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叶淡绿色，椭圆形，表面光滑、无明显叶脉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凤仙花种子萌发的过程中，子叶的作用是提供营养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Oval 6"/>
          <p:cNvSpPr/>
          <p:nvPr/>
        </p:nvSpPr>
        <p:spPr>
          <a:xfrm rot="1203600">
            <a:off x="1412640" y="2421000"/>
            <a:ext cx="2808000" cy="1655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长出第一对真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08720" y="1773360"/>
            <a:ext cx="338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叶张开约一周后长出真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真叶是凤仙花真正的叶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椭圆行，边缘锯齿状，淡绿色，有明显的叶脉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茎明显变粗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112" name="Picture 6" descr="116977241"/>
          <p:cNvPicPr/>
          <p:nvPr/>
        </p:nvPicPr>
        <p:blipFill>
          <a:blip r:embed="rId1"/>
          <a:stretch/>
        </p:blipFill>
        <p:spPr>
          <a:xfrm>
            <a:off x="395280" y="1628640"/>
            <a:ext cx="5111640" cy="4181760"/>
          </a:xfrm>
          <a:prstGeom prst="rect">
            <a:avLst/>
          </a:prstGeom>
          <a:ln w="0">
            <a:noFill/>
          </a:ln>
        </p:spPr>
      </p:pic>
      <p:sp>
        <p:nvSpPr>
          <p:cNvPr id="113" name="Oval 7"/>
          <p:cNvSpPr/>
          <p:nvPr/>
        </p:nvSpPr>
        <p:spPr>
          <a:xfrm rot="492000">
            <a:off x="2484360" y="2060640"/>
            <a:ext cx="503280" cy="172872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9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47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