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typ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B00E-759F-4D04-825E-8C7C7A074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E736-503A-417E-8221-0B8C6EE5C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93DC-12E1-49C5-ABB3-5FA527E34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CB5F-621B-45ED-9BE4-792104B37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51D90-41C8-4006-8123-9630527DB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9B9A5-425D-49D0-AE26-071F159FB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E64AA-99CD-4403-9961-86DB280B9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7C6A8-E60B-4DD6-A448-41B5FE76E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EB717-DEEB-46ED-A11E-2B448F2D5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D5D3B-A22C-4A8D-8C6F-D9C5EFF6E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2FBCF-9398-42F1-8B76-EA014DEB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02F1-0427-45AC-9C40-D2674926D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D4D1F-A980-4973-A236-BE3DF0F9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579C9-FFDE-4B6B-99BF-2AB7F30D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42F17-0B09-45C7-90FF-D80A465E5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53D78-55B2-4155-B9EC-C76D8B678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0C8F2-284A-4E59-B24D-406FD340E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6E96F-B336-4A25-9E20-EBFC935BB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9EC57-667D-472D-85D1-4971B1A09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17B9B-F99B-4A41-8F2A-D5D5DC5EE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CBC48-C6A6-4661-BB03-E2318811C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4EFAB-D012-42DE-BB10-65F4F953A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F6AC-D585-42C5-8EF4-1CEBEDB39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B7B47-57EF-47B1-AC57-9BD2D11D9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47C33-E243-4821-AC08-F07BD94D2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746AF-A6D4-4E0D-BB35-B32DE1E5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D546A-5E9B-4968-B680-D5B3BC321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96937-428E-4BCB-8EC3-97989BF27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16CC2-38FC-4F88-B7CB-C0CFDC66A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337FE-3638-4FA1-8368-DD1FF89C0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F832B-D172-472A-BDB3-FE535A155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B2773-92A8-4134-9D82-1CE0CAC2E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4F2D9-6827-4121-BAEE-7BF7653F5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C6EA-AA7A-4FD3-8621-3939F479B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190B8-4F3C-4478-A217-FD6F84BDA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4EFEC-79FA-444D-855B-B9BD21173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49758-4DB1-4458-BF3E-129AA7ACF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49A45-EDCD-463C-ACA1-3A5C0891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B0955-6CA0-49DF-A024-5938CEE2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A5C52-6BDE-411C-BCDC-BC7BA8A55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BE740-43CF-44B5-AD3F-82E21F694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A0F31-548D-452D-9692-5FCE087D5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EDCFE-E7E5-47DF-9813-DBB7B3D97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08055-2638-4483-916A-93C0E8800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DC72-6235-480B-8D62-49AF2F419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79C3C4-3E42-4393-8133-2ADA96A59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105F8C-080F-494E-B35A-4324ABC50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C1A3E-E1EE-4EB2-AA39-88DC612B5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32F1EA-3F76-4EBA-B061-88AE07139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C2853-7A7A-4D53-9B18-4FD64C152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198791-9F6A-44BD-8660-C24A0CC0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8CAB99-3519-49DF-B911-BBD1C48A0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C19C5B-A011-4062-9F61-C25BA9AC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4A4B75-1FF8-4A65-996B-E852CABD6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0F2D8-17F6-4C70-B17F-F31229969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8C1F-58DA-4386-97BE-08E917C47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457FDF-7483-4A1D-A3CE-FEDF00252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8E2E-77C3-4139-993A-638D6B12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183B-6FE2-492C-BD91-CCE1F55F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4B78-2724-4EA5-8748-5640B24C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0CABC-19C6-47BB-9B23-20B45C92A9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BBFB8-736A-46A6-B021-20AB49A850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9AAC3-2A45-4187-83FD-B531895187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19A54-B5DF-47EA-9F1A-D222E7F5A26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14B11-FA04-4F65-B054-A71B85558B0A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WordArt 2" descr=""/>
          <p:cNvPicPr/>
          <p:nvPr/>
        </p:nvPicPr>
        <p:blipFill>
          <a:blip r:embed="rId2"/>
          <a:stretch/>
        </p:blipFill>
        <p:spPr>
          <a:xfrm>
            <a:off x="768240" y="981000"/>
            <a:ext cx="7689960" cy="4191120"/>
          </a:xfrm>
          <a:prstGeom prst="rect">
            <a:avLst/>
          </a:prstGeom>
          <a:ln w="0">
            <a:noFill/>
          </a:ln>
        </p:spPr>
      </p:pic>
      <p:sp>
        <p:nvSpPr>
          <p:cNvPr id="20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）这件事对他来说（       ）很大，（       ）他绝对不会放弃，一定会想尽办法解决的。</a:t>
            </a:r>
            <a:endParaRPr b="0" lang="en-US" sz="2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0" y="2924280"/>
            <a:ext cx="91440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三、把你觉得课文中需要记住的语句抄写下来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四、背诵自己的喜欢的部分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矩形 7"/>
          <p:cNvSpPr/>
          <p:nvPr/>
        </p:nvSpPr>
        <p:spPr>
          <a:xfrm>
            <a:off x="641520" y="112536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2" descr="《为人民服务》插图"/>
          <p:cNvPicPr/>
          <p:nvPr/>
        </p:nvPicPr>
        <p:blipFill>
          <a:blip r:embed="rId1"/>
          <a:stretch/>
        </p:blipFill>
        <p:spPr>
          <a:xfrm>
            <a:off x="0" y="0"/>
            <a:ext cx="449568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3"/>
          <p:cNvSpPr/>
          <p:nvPr/>
        </p:nvSpPr>
        <p:spPr>
          <a:xfrm>
            <a:off x="4648320" y="430200"/>
            <a:ext cx="4495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宋体"/>
              </a:rPr>
              <a:t>张思德</a:t>
            </a:r>
            <a:r>
              <a:rPr b="1" lang="zh-CN" sz="3200" spc="-1" strike="noStrike">
                <a:solidFill>
                  <a:srgbClr val="0099ff"/>
                </a:solidFill>
                <a:latin typeface="宋体"/>
                <a:ea typeface="宋体"/>
              </a:rPr>
              <a:t>同志是中央警卫团的战士，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1933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宋体"/>
              </a:rPr>
              <a:t>年</a:t>
            </a:r>
            <a:r>
              <a:rPr b="1" lang="zh-CN" sz="3200" spc="-1" strike="noStrike">
                <a:solidFill>
                  <a:srgbClr val="0099ff"/>
                </a:solidFill>
                <a:latin typeface="宋体"/>
                <a:ea typeface="宋体"/>
              </a:rPr>
              <a:t>参加红军，经历过长征，负过伤。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1944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宋体"/>
              </a:rPr>
              <a:t>年</a:t>
            </a:r>
            <a:r>
              <a:rPr b="1" lang="zh-CN" sz="3200" spc="-1" strike="noStrike">
                <a:solidFill>
                  <a:srgbClr val="0099ff"/>
                </a:solidFill>
                <a:latin typeface="宋体"/>
                <a:ea typeface="宋体"/>
              </a:rPr>
              <a:t>因大生产运动的需要，被派去陕北安塞县山中烧炭，因炭窑崩塌不幸牺牲。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9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宋体"/>
              </a:rPr>
              <a:t>月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宋体"/>
              </a:rPr>
              <a:t>日</a:t>
            </a:r>
            <a:r>
              <a:rPr b="1" lang="zh-CN" sz="3200" spc="-1" strike="noStrike">
                <a:solidFill>
                  <a:srgbClr val="0099ff"/>
                </a:solidFill>
                <a:latin typeface="宋体"/>
                <a:ea typeface="宋体"/>
              </a:rPr>
              <a:t>，中央警卫团为他举行了追悼会。毛泽东主席在大会上作了著名的演讲，这就是我们今天要学习的</a:t>
            </a:r>
            <a:r>
              <a:rPr b="1" lang="en-US" sz="3200" spc="-1" strike="noStrike">
                <a:solidFill>
                  <a:srgbClr val="0099ff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0099ff"/>
                </a:solidFill>
                <a:latin typeface="宋体"/>
                <a:ea typeface="宋体"/>
              </a:rPr>
              <a:t>为人民服务</a:t>
            </a:r>
            <a:r>
              <a:rPr b="1" lang="en-US" sz="3200" spc="-1" strike="noStrike">
                <a:solidFill>
                  <a:srgbClr val="0099ff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0099ff"/>
                </a:solidFill>
                <a:latin typeface="宋体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2438280" y="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宋体"/>
              </a:rPr>
              <a:t>写作背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" descr="PM_001"/>
          <p:cNvPicPr/>
          <p:nvPr/>
        </p:nvPicPr>
        <p:blipFill>
          <a:blip r:embed="rId1"/>
          <a:stretch/>
        </p:blipFill>
        <p:spPr>
          <a:xfrm>
            <a:off x="0" y="0"/>
            <a:ext cx="9144000" cy="693252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3"/>
          <p:cNvSpPr/>
          <p:nvPr/>
        </p:nvSpPr>
        <p:spPr>
          <a:xfrm>
            <a:off x="380880" y="137160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彻</a:t>
            </a:r>
            <a:r>
              <a:rPr b="1" lang="en-US" sz="44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(ch</a:t>
            </a:r>
            <a:r>
              <a:rPr b="1" lang="en-US" sz="4400" spc="-1" strike="noStrike">
                <a:solidFill>
                  <a:srgbClr val="0099ff"/>
                </a:solidFill>
                <a:latin typeface="Times New Roman"/>
                <a:ea typeface="楷体_GB2312"/>
              </a:rPr>
              <a:t>è</a:t>
            </a:r>
            <a:r>
              <a:rPr b="1" lang="en-US" sz="44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2057400" y="609480"/>
            <a:ext cx="358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学习生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3059280" y="1484280"/>
            <a:ext cx="28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迁</a:t>
            </a:r>
            <a:r>
              <a:rPr b="1" lang="en-US" sz="44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(qiā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380880" y="2514600"/>
            <a:ext cx="2590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鸿</a:t>
            </a:r>
            <a:r>
              <a:rPr b="1" lang="en-US" sz="44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(h</a:t>
            </a:r>
            <a:r>
              <a:rPr b="1" lang="en-US" sz="4400" spc="-1" strike="noStrike">
                <a:solidFill>
                  <a:srgbClr val="0099ff"/>
                </a:solidFill>
                <a:latin typeface="Times New Roman"/>
                <a:ea typeface="楷体_GB2312"/>
              </a:rPr>
              <a:t>ó</a:t>
            </a:r>
            <a:r>
              <a:rPr b="1" lang="en-US" sz="44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n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7"/>
          <p:cNvSpPr/>
          <p:nvPr/>
        </p:nvSpPr>
        <p:spPr>
          <a:xfrm>
            <a:off x="3124080" y="2514600"/>
            <a:ext cx="228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旺</a:t>
            </a:r>
            <a:r>
              <a:rPr b="1" lang="en-US" sz="44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(w</a:t>
            </a:r>
            <a:r>
              <a:rPr b="1" lang="en-US" sz="4400" spc="-1" strike="noStrike">
                <a:solidFill>
                  <a:srgbClr val="0099ff"/>
                </a:solidFill>
                <a:latin typeface="Times New Roman"/>
                <a:ea typeface="楷体_GB2312"/>
              </a:rPr>
              <a:t>à</a:t>
            </a:r>
            <a:r>
              <a:rPr b="1" lang="en-US" sz="44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n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8"/>
          <p:cNvSpPr/>
          <p:nvPr/>
        </p:nvSpPr>
        <p:spPr>
          <a:xfrm>
            <a:off x="457200" y="3581280"/>
            <a:ext cx="2530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标</a:t>
            </a:r>
            <a:r>
              <a:rPr b="1" lang="en-US" sz="44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(biā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3200400" y="3581280"/>
            <a:ext cx="2523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炊</a:t>
            </a:r>
            <a:r>
              <a:rPr b="1" lang="en-US" sz="44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(chuī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533520" y="4648320"/>
            <a:ext cx="228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葬</a:t>
            </a:r>
            <a:r>
              <a:rPr b="1" lang="en-US" sz="44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(z</a:t>
            </a:r>
            <a:r>
              <a:rPr b="1" lang="en-US" sz="4400" spc="-1" strike="noStrike">
                <a:solidFill>
                  <a:srgbClr val="0099ff"/>
                </a:solidFill>
                <a:latin typeface="Times New Roman"/>
                <a:ea typeface="楷体_GB2312"/>
              </a:rPr>
              <a:t>à</a:t>
            </a:r>
            <a:r>
              <a:rPr b="1" lang="en-US" sz="44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n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文本框 8197"/>
          <p:cNvSpPr/>
          <p:nvPr/>
        </p:nvSpPr>
        <p:spPr>
          <a:xfrm>
            <a:off x="828720" y="609300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2" descr="PM_001"/>
          <p:cNvPicPr/>
          <p:nvPr/>
        </p:nvPicPr>
        <p:blipFill>
          <a:blip r:embed="rId1"/>
          <a:stretch/>
        </p:blipFill>
        <p:spPr>
          <a:xfrm>
            <a:off x="0" y="0"/>
            <a:ext cx="9144000" cy="693252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3"/>
          <p:cNvSpPr/>
          <p:nvPr/>
        </p:nvSpPr>
        <p:spPr>
          <a:xfrm>
            <a:off x="609480" y="2286000"/>
            <a:ext cx="586764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彻底 鸿毛 送葬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兴旺 目标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炊事员 司马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1828800" y="914400"/>
            <a:ext cx="358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学习词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1676520" y="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理解下面句子的意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0" y="76212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、我们这个队伍</a:t>
            </a:r>
            <a:r>
              <a:rPr b="1" lang="zh-CN" sz="3600" spc="-1" strike="noStrike" u="sng">
                <a:solidFill>
                  <a:srgbClr val="3333cc"/>
                </a:solidFill>
                <a:uFillTx/>
                <a:latin typeface="楷体_GB2312"/>
                <a:ea typeface="楷体_GB2312"/>
              </a:rPr>
              <a:t>完全</a:t>
            </a:r>
            <a:r>
              <a:rPr b="1" lang="zh-CN" sz="36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是为着解放人民的，是</a:t>
            </a:r>
            <a:r>
              <a:rPr b="1" lang="zh-CN" sz="3600" spc="-1" strike="noStrike" u="sng">
                <a:solidFill>
                  <a:srgbClr val="3333cc"/>
                </a:solidFill>
                <a:uFillTx/>
                <a:latin typeface="楷体_GB2312"/>
                <a:ea typeface="楷体_GB2312"/>
              </a:rPr>
              <a:t>彻底</a:t>
            </a:r>
            <a:r>
              <a:rPr b="1" lang="zh-CN" sz="36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地为人民的利益工作的。</a:t>
            </a:r>
            <a:r>
              <a:rPr b="0" lang="zh-CN" sz="2400" spc="-1" strike="noStrike">
                <a:solidFill>
                  <a:srgbClr val="ff99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0" y="2438280"/>
            <a:ext cx="899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、人总是要死的，但死的意义有不同</a:t>
            </a:r>
            <a:r>
              <a:rPr b="1" lang="zh-CN" sz="3600" spc="-1" strike="noStrike">
                <a:solidFill>
                  <a:srgbClr val="ff9900"/>
                </a:solidFill>
                <a:latin typeface="宋体"/>
                <a:ea typeface="宋体"/>
              </a:rPr>
              <a:t>。</a:t>
            </a:r>
            <a:r>
              <a:rPr b="1" lang="zh-CN" sz="36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0" y="358128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、人</a:t>
            </a:r>
            <a:r>
              <a:rPr b="1" lang="zh-CN" sz="3600" spc="-1" strike="noStrike" u="sng">
                <a:solidFill>
                  <a:srgbClr val="3333cc"/>
                </a:solidFill>
                <a:uFillTx/>
                <a:latin typeface="楷体_GB2312"/>
                <a:ea typeface="楷体_GB2312"/>
              </a:rPr>
              <a:t>固</a:t>
            </a:r>
            <a:r>
              <a:rPr b="1" lang="zh-CN" sz="36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有一死，</a:t>
            </a:r>
            <a:r>
              <a:rPr b="1" lang="zh-CN" sz="3600" spc="-1" strike="noStrike" u="sng">
                <a:solidFill>
                  <a:srgbClr val="3333cc"/>
                </a:solidFill>
                <a:uFillTx/>
                <a:latin typeface="楷体_GB2312"/>
                <a:ea typeface="楷体_GB2312"/>
              </a:rPr>
              <a:t>或</a:t>
            </a:r>
            <a:r>
              <a:rPr b="1" lang="zh-CN" sz="36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重</a:t>
            </a:r>
            <a:r>
              <a:rPr b="1" lang="zh-CN" sz="3600" spc="-1" strike="noStrike" u="sng">
                <a:solidFill>
                  <a:srgbClr val="3333cc"/>
                </a:solidFill>
                <a:uFillTx/>
                <a:latin typeface="楷体_GB2312"/>
                <a:ea typeface="楷体_GB2312"/>
              </a:rPr>
              <a:t>于</a:t>
            </a:r>
            <a:r>
              <a:rPr b="1" lang="zh-CN" sz="36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泰山，或轻于鸿毛。</a:t>
            </a:r>
            <a:r>
              <a:rPr b="0" lang="zh-CN" sz="2400" spc="-1" strike="noStrike">
                <a:solidFill>
                  <a:srgbClr val="ff99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0" y="487692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、只要我们为人民的利益</a:t>
            </a:r>
            <a:r>
              <a:rPr b="1" lang="zh-CN" sz="3600" spc="-1" strike="noStrike" u="sng">
                <a:solidFill>
                  <a:srgbClr val="3333cc"/>
                </a:solidFill>
                <a:uFillTx/>
                <a:latin typeface="楷体_GB2312"/>
                <a:ea typeface="楷体_GB2312"/>
              </a:rPr>
              <a:t>坚持好的</a:t>
            </a:r>
            <a:r>
              <a:rPr b="1" lang="zh-CN" sz="36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，为人民的利益</a:t>
            </a:r>
            <a:r>
              <a:rPr b="1" lang="zh-CN" sz="3600" spc="-1" strike="noStrike" u="sng">
                <a:solidFill>
                  <a:srgbClr val="3333cc"/>
                </a:solidFill>
                <a:uFillTx/>
                <a:latin typeface="楷体_GB2312"/>
                <a:ea typeface="楷体_GB2312"/>
              </a:rPr>
              <a:t>改正错的</a:t>
            </a:r>
            <a:r>
              <a:rPr b="1" lang="zh-CN" sz="36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，我们这个队伍就一定会兴旺起来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"/>
          <p:cNvSpPr/>
          <p:nvPr/>
        </p:nvSpPr>
        <p:spPr>
          <a:xfrm>
            <a:off x="0" y="30492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、因为我们是为人民服务的，所以，我们如果有缺点，就不怕别人批评指出。不管是什么人，谁向我们指出都行。只要你说得对，我们就改正。你说的办法对人民有好处，我们就照你的办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0" y="373392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、要奋斗就会有牺牲，死人的事情是经常发生的。但是我们想到人民的利益，想到大多数人民的痛苦，我们为人民而死，就是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死得其所</a:t>
            </a:r>
            <a:r>
              <a:rPr b="1" lang="zh-CN" sz="36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。</a:t>
            </a:r>
            <a:r>
              <a:rPr b="1" lang="zh-CN" sz="36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0" y="333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ff"/>
                </a:solidFill>
                <a:latin typeface="幼圆"/>
                <a:ea typeface="幼圆"/>
              </a:rPr>
              <a:t>    </a:t>
            </a:r>
            <a:r>
              <a:rPr b="1" lang="zh-CN" sz="3600" spc="-1" strike="noStrike">
                <a:solidFill>
                  <a:srgbClr val="9900ff"/>
                </a:solidFill>
                <a:latin typeface="幼圆"/>
                <a:ea typeface="幼圆"/>
              </a:rPr>
              <a:t>张思德为了人民的利益献出了宝贵的生命，但他为革命为人民奋斗一生的光辉事迹和高贵品质，却永世长存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80880" y="228600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板书设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1600200" y="3048120"/>
            <a:ext cx="75438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原因：革命队伍的宗旨、性质所决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不怕牺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做法    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不怕批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不怕困难、加强团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开追悼会的意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437920" y="4190760"/>
            <a:ext cx="686160" cy="533160"/>
            <a:chOff x="2437920" y="4190760"/>
            <a:chExt cx="686160" cy="533160"/>
          </a:xfrm>
        </p:grpSpPr>
        <p:sp>
          <p:nvSpPr>
            <p:cNvPr id="238" name="Line 5"/>
            <p:cNvSpPr/>
            <p:nvPr/>
          </p:nvSpPr>
          <p:spPr>
            <a:xfrm flipV="1">
              <a:off x="2438280" y="4190760"/>
              <a:ext cx="685800" cy="5331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 txBox="1"/>
            <p:nvPr/>
          </p:nvSpPr>
          <p:spPr>
            <a:xfrm rot="10800000">
              <a:off x="2437920" y="4190760"/>
              <a:ext cx="685800" cy="533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2514600" y="4800600"/>
            <a:ext cx="609480" cy="360"/>
            <a:chOff x="2514600" y="4800600"/>
            <a:chExt cx="609480" cy="360"/>
          </a:xfrm>
        </p:grpSpPr>
        <p:sp>
          <p:nvSpPr>
            <p:cNvPr id="241" name="Line 6"/>
            <p:cNvSpPr/>
            <p:nvPr/>
          </p:nvSpPr>
          <p:spPr>
            <a:xfrm>
              <a:off x="2514600" y="48006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 txBox="1"/>
            <p:nvPr/>
          </p:nvSpPr>
          <p:spPr>
            <a:xfrm>
              <a:off x="2514600" y="4800600"/>
              <a:ext cx="609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2438280" y="4952880"/>
            <a:ext cx="685800" cy="533520"/>
            <a:chOff x="2438280" y="4952880"/>
            <a:chExt cx="685800" cy="533520"/>
          </a:xfrm>
        </p:grpSpPr>
        <p:sp>
          <p:nvSpPr>
            <p:cNvPr id="244" name="Line 7"/>
            <p:cNvSpPr/>
            <p:nvPr/>
          </p:nvSpPr>
          <p:spPr>
            <a:xfrm>
              <a:off x="2438280" y="4952880"/>
              <a:ext cx="685800" cy="5335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 txBox="1"/>
            <p:nvPr/>
          </p:nvSpPr>
          <p:spPr>
            <a:xfrm>
              <a:off x="2438280" y="4952880"/>
              <a:ext cx="68580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Text Box 8"/>
          <p:cNvSpPr/>
          <p:nvPr/>
        </p:nvSpPr>
        <p:spPr>
          <a:xfrm>
            <a:off x="170280" y="3581280"/>
            <a:ext cx="127764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为人民服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文本框 8197"/>
          <p:cNvSpPr/>
          <p:nvPr/>
        </p:nvSpPr>
        <p:spPr>
          <a:xfrm>
            <a:off x="1908000" y="2133720"/>
            <a:ext cx="582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0" y="0"/>
            <a:ext cx="9144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Times New Roman"/>
                <a:ea typeface="华文彩云"/>
              </a:rPr>
              <a:t>轻松作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Times New Roman"/>
                <a:ea typeface="宋体"/>
              </a:rPr>
              <a:t>一、写出下列词语的反义词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困难（      ）完全（       ）支持（       ）光明（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兴旺（      ）批评（       ）集中（       ）痛苦（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0" y="2133720"/>
            <a:ext cx="91440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2b2b2"/>
                </a:solidFill>
                <a:latin typeface="Times New Roman"/>
                <a:ea typeface="宋体"/>
              </a:rPr>
              <a:t>二、选择关联词填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不管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……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都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……   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只要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……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就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……  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只有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……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才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只要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……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都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……  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虽然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……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但是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）不管是高级干部，还是普通群众，（       ）他做过违反法纪的事，（       ）要受到法律的惩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）（       ）人人都来关心班集体，我的班级（        ）一定能评上“文明班级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）（       ）付出辛勤的劳动，（        ）会有成功的收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）（       ）是什么，我们（        ）不能搞特殊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031B2-0672-4817-B1FE-CC6E310EE57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07:20:4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2:38Z</dcterms:modified>
  <cp:revision>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