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0F2-2925-4D19-B90F-8FE8BE87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8D0-530F-4EB1-A85D-A7BB87E9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A62-E7EF-4691-91FB-A6F602EA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618-22BC-4428-A075-E794C90E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9D06-8B18-4FFF-AC81-3AB2A80F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54E5-5A2C-4BE6-936C-2C4F923B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B14B-7BC2-4D1B-827C-05B43A2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E63D-A181-49F7-BC2D-7E483D98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CA99-DE72-42B5-B22B-7B36041F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75E3-A30E-43C6-8F6C-67FFF30A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9A8F-A576-4D79-9068-6E5D7615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74C-3E92-48FD-A914-63238152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BA5-38DF-488D-A8FE-CAF9975F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D011-3251-400B-99AB-D8089181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71B1-12C8-4A9C-8205-A559F939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C986-C9B7-4999-BBDC-FFA99267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21E3-BD9C-44E6-93C5-CE2E0642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827-5131-492A-B3AC-BC5D7B7B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2FE-65FB-43A2-A998-929836BC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090-DE05-40AE-8947-DEE0FA66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C0D-3527-4963-9C66-25C9F536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120-FFAD-4438-8B05-2EFFDE12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F79-DA7B-430C-B829-7650CC38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8CA-92DD-4C0D-A5B9-5644265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C333-6D3A-44E9-A0C8-EDD899BB57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7C6D-D861-40F6-9700-D317C9D0CC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3400"/>
                </a:solidFill>
                <a:latin typeface="华文新魏"/>
                <a:ea typeface="华文新魏"/>
              </a:rPr>
              <a:t>人教新课标  五年级品德与社会上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1619280" y="2637000"/>
            <a:ext cx="619272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是参与者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247120" y="1706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我们可以做什么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4" name="Picture 5" descr="E:\work\新课标配套课件全集\小学全集\mxy\品德与社会\五年级上（2）\我是参与者\p35_2.png"/>
          <p:cNvPicPr/>
          <p:nvPr/>
        </p:nvPicPr>
        <p:blipFill>
          <a:blip r:embed="rId2"/>
          <a:stretch/>
        </p:blipFill>
        <p:spPr>
          <a:xfrm>
            <a:off x="2362320" y="2362320"/>
            <a:ext cx="4457520" cy="4198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953160" y="5881680"/>
            <a:ext cx="124740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我是播音员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2247120" y="1706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我们可以做什么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8" name="Picture 5" descr="E:\work\新课标配套课件全集\小学全集\mxy\品德与社会\五年级上（2）\我是参与者\p35_3.png"/>
          <p:cNvPicPr/>
          <p:nvPr/>
        </p:nvPicPr>
        <p:blipFill>
          <a:blip r:embed="rId2"/>
          <a:stretch/>
        </p:blipFill>
        <p:spPr>
          <a:xfrm>
            <a:off x="2563920" y="2438280"/>
            <a:ext cx="3836880" cy="40388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3739320" y="5943600"/>
            <a:ext cx="16743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我是板报组成员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D253-C7B6-42B8-9136-A10CDDEDD0F1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E:\work\新课标配套课件全集\小学全集\mxy\品德与社会\五年级上（2）\我是参与者\主动献计献策.bmp"/>
          <p:cNvPicPr/>
          <p:nvPr/>
        </p:nvPicPr>
        <p:blipFill>
          <a:blip r:embed="rId1"/>
          <a:stretch/>
        </p:blipFill>
        <p:spPr>
          <a:xfrm>
            <a:off x="2050920" y="1052640"/>
            <a:ext cx="5315040" cy="397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work\新课标配套课件全集\小学全集\mxy\shui04.gif"/>
          <p:cNvPicPr/>
          <p:nvPr/>
        </p:nvPicPr>
        <p:blipFill>
          <a:blip r:embed="rId2"/>
          <a:stretch/>
        </p:blipFill>
        <p:spPr>
          <a:xfrm>
            <a:off x="468360" y="333360"/>
            <a:ext cx="2446200" cy="606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1736640" y="5254560"/>
            <a:ext cx="59436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看看班级、学校中的工作，哪些可以由我们直接参与？我们参与过其中的哪些工作？做得怎么样？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:\work\新课标配套课件全集\小学全集\mxy\shui01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79680" cy="549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048120" y="5643720"/>
            <a:ext cx="32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积极参加集体活动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2058840" y="1828800"/>
            <a:ext cx="50245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1676520" y="2514600"/>
            <a:ext cx="632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第五小队决定开展一次小队活动，去科技馆参观。可是活动那天，有三个队员没有参加。同学们对他们的做法不满，可是他们也有自己的理由……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13200" y="148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0" name="Picture 5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755640" y="333360"/>
            <a:ext cx="24354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2" name="Picture 6" descr="E:\work\新课标配套课件全集\小学全集\mxy\品德与社会\五年级上（2）\我是参与者\p34_1.png"/>
          <p:cNvPicPr/>
          <p:nvPr/>
        </p:nvPicPr>
        <p:blipFill>
          <a:blip r:embed="rId1"/>
          <a:stretch/>
        </p:blipFill>
        <p:spPr>
          <a:xfrm>
            <a:off x="1600200" y="2590920"/>
            <a:ext cx="2228760" cy="396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E:\work\新课标配套课件全集\小学全集\mxy\shui02.gif"/>
          <p:cNvPicPr/>
          <p:nvPr/>
        </p:nvPicPr>
        <p:blipFill>
          <a:blip r:embed="rId2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1"/>
          <p:cNvGrpSpPr/>
          <p:nvPr/>
        </p:nvGrpSpPr>
        <p:grpSpPr>
          <a:xfrm>
            <a:off x="4140360" y="1628640"/>
            <a:ext cx="3962160" cy="2133360"/>
            <a:chOff x="4140360" y="1628640"/>
            <a:chExt cx="3962160" cy="2133360"/>
          </a:xfrm>
        </p:grpSpPr>
        <p:sp>
          <p:nvSpPr>
            <p:cNvPr id="95" name="AutoShape 9"/>
            <p:cNvSpPr/>
            <p:nvPr/>
          </p:nvSpPr>
          <p:spPr>
            <a:xfrm>
              <a:off x="4140360" y="1628640"/>
              <a:ext cx="3962160" cy="213336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4444920" y="1780920"/>
              <a:ext cx="35053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上次队会我请假了，所以做出的决定跟我没关系。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97" name="文本框 8199"/>
          <p:cNvSpPr/>
          <p:nvPr/>
        </p:nvSpPr>
        <p:spPr>
          <a:xfrm>
            <a:off x="1981080" y="808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9" name="Picture 5" descr="E:\work\新课标配套课件全集\小学全集\mxy\品德与社会\五年级上（2）\我是参与者\p34_2.png"/>
          <p:cNvPicPr/>
          <p:nvPr/>
        </p:nvPicPr>
        <p:blipFill>
          <a:blip r:embed="rId1"/>
          <a:stretch/>
        </p:blipFill>
        <p:spPr>
          <a:xfrm>
            <a:off x="4191120" y="3048120"/>
            <a:ext cx="3714480" cy="3301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E:\work\新课标配套课件全集\小学全集\mxy\shui02.gif"/>
          <p:cNvPicPr/>
          <p:nvPr/>
        </p:nvPicPr>
        <p:blipFill>
          <a:blip r:embed="rId2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533520" y="2286000"/>
            <a:ext cx="4724280" cy="2362320"/>
            <a:chOff x="533520" y="2286000"/>
            <a:chExt cx="4724280" cy="2362320"/>
          </a:xfrm>
        </p:grpSpPr>
        <p:sp>
          <p:nvSpPr>
            <p:cNvPr id="102" name="AutoShape 8"/>
            <p:cNvSpPr/>
            <p:nvPr/>
          </p:nvSpPr>
          <p:spPr>
            <a:xfrm>
              <a:off x="533520" y="2286000"/>
              <a:ext cx="4724280" cy="2362320"/>
            </a:xfrm>
            <a:prstGeom prst="cloudCallout">
              <a:avLst>
                <a:gd name="adj1" fmla="val 40287"/>
                <a:gd name="adj2" fmla="val 5564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838080" y="2560680"/>
              <a:ext cx="41911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讨论的时候，我本来就不同意，谁同意谁去，我不同意，就不去。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5" name="Picture 5" descr="E:\work\新课标配套课件全集\小学全集\mxy\品德与社会\五年级上（2）\我是参与者\p34_3.png"/>
          <p:cNvPicPr/>
          <p:nvPr/>
        </p:nvPicPr>
        <p:blipFill>
          <a:blip r:embed="rId1"/>
          <a:stretch/>
        </p:blipFill>
        <p:spPr>
          <a:xfrm>
            <a:off x="5613480" y="2438280"/>
            <a:ext cx="2387520" cy="403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E:\work\新课标配套课件全集\小学全集\mxy\shui02.gif"/>
          <p:cNvPicPr/>
          <p:nvPr/>
        </p:nvPicPr>
        <p:blipFill>
          <a:blip r:embed="rId2"/>
          <a:stretch/>
        </p:blipFill>
        <p:spPr>
          <a:xfrm>
            <a:off x="900000" y="189000"/>
            <a:ext cx="24354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0"/>
          <p:cNvGrpSpPr/>
          <p:nvPr/>
        </p:nvGrpSpPr>
        <p:grpSpPr>
          <a:xfrm>
            <a:off x="609480" y="2286000"/>
            <a:ext cx="5029200" cy="2362320"/>
            <a:chOff x="609480" y="2286000"/>
            <a:chExt cx="5029200" cy="2362320"/>
          </a:xfrm>
        </p:grpSpPr>
        <p:sp>
          <p:nvSpPr>
            <p:cNvPr id="108" name="AutoShape 7"/>
            <p:cNvSpPr/>
            <p:nvPr/>
          </p:nvSpPr>
          <p:spPr>
            <a:xfrm>
              <a:off x="609480" y="2286000"/>
              <a:ext cx="5029200" cy="2362320"/>
            </a:xfrm>
            <a:prstGeom prst="cloudCallout">
              <a:avLst>
                <a:gd name="adj1" fmla="val 40879"/>
                <a:gd name="adj2" fmla="val 5564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762120" y="2514600"/>
              <a:ext cx="4572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活动那天，正好有人约我去踢球。我想，小队那么多人，缺我一个也没关系。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763640" y="3213000"/>
            <a:ext cx="6518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觉得他们说的有道理吗？想一想，集体做出的决定，是不是可以执行，也可以不执行？为什么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2" name="Picture 6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826920" y="69228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小蜜蜂"/>
          <p:cNvPicPr/>
          <p:nvPr/>
        </p:nvPicPr>
        <p:blipFill>
          <a:blip r:embed="rId2"/>
          <a:stretch/>
        </p:blipFill>
        <p:spPr>
          <a:xfrm>
            <a:off x="6924600" y="453384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27"/>
          <p:cNvSpPr/>
          <p:nvPr/>
        </p:nvSpPr>
        <p:spPr>
          <a:xfrm>
            <a:off x="2170440" y="1706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可以不参加吗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Rectangle 1028"/>
          <p:cNvSpPr/>
          <p:nvPr/>
        </p:nvSpPr>
        <p:spPr>
          <a:xfrm>
            <a:off x="1828800" y="2657520"/>
            <a:ext cx="5791320" cy="60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集体讨论的时候，我们有积极发表自己意见的权利和义务，经过民主决策出的行动计划，我们也有遵照执行的责任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6" name="Picture 1030" descr="E:\work\新课标配套课件全集\小学全集\mxy\shui02.gif"/>
          <p:cNvPicPr/>
          <p:nvPr/>
        </p:nvPicPr>
        <p:blipFill>
          <a:blip r:embed="rId2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E:\work\新课标配套课件全集\小学全集\mxy\shui02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2247120" y="1706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我们可以做什么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9" name="Picture 10" descr="E:\work\新课标配套课件全集\小学全集\mxy\品德与社会\五年级上（2）\我是参与者\p35_1.png"/>
          <p:cNvPicPr/>
          <p:nvPr/>
        </p:nvPicPr>
        <p:blipFill>
          <a:blip r:embed="rId2"/>
          <a:stretch/>
        </p:blipFill>
        <p:spPr>
          <a:xfrm>
            <a:off x="2438280" y="2286000"/>
            <a:ext cx="419112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3642480" y="5943600"/>
            <a:ext cx="188748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我当学校的值周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文本框 8199"/>
          <p:cNvSpPr/>
          <p:nvPr/>
        </p:nvSpPr>
        <p:spPr>
          <a:xfrm>
            <a:off x="2178000" y="808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0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13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