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breeze.wav" ContentType="audio/x-wav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1C6-AFD9-4D7C-819A-F56689F0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2D9-7240-464E-B27E-BEE980D2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DBC-9950-4BDD-A6EF-417EA55C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2B2-DD20-4850-9D56-F2DF547F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4EF2-FDF3-426C-A9A8-3A7407DA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0F50-8CFF-4B33-850F-4B43205A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A9B4-1DF7-4BF3-A94F-51587C9D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B724-65F3-4D5D-82AE-F3773499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6ABB-B191-4964-9011-928F8BB4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C2AF-DD0D-4816-A793-DA651592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2BFE-6BAA-4B6D-AF34-A3F6D9A1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D4C-9040-40CF-A505-55427D17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3F24-10D1-44A9-B30B-B8B54CEF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FBC9-3699-499A-B9BF-B0763F20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2850-FF7F-470B-B8B6-C63F432B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71D9-CB61-4129-8B36-3B26281F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2C58-9943-48AD-8812-A827AFE3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659-52EA-4279-BDD3-A1326703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C4B-7553-4E26-A1C8-8258816D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B0A-ABE2-4B3B-9099-CEE5DF9D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FE8-B8E1-46A4-A433-80D5A5FE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EEF-EE5C-4D28-9DDB-3C1DE20E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D91-945F-4A73-8480-0179312A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C6FF-8666-44DC-9057-43AD4DA9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3DB7-DA4E-4B6E-BF4B-CDED14656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5CC1-B737-4A33-A44C-46CE033AA3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62,9,+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Group 4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84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5" name="Group 6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86" name="Picture 7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AutoShape 8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" name="Rectangle 9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图片 1" descr=""/>
          <p:cNvPicPr/>
          <p:nvPr/>
        </p:nvPicPr>
        <p:blipFill>
          <a:blip r:embed="rId3"/>
          <a:stretch/>
        </p:blipFill>
        <p:spPr>
          <a:xfrm>
            <a:off x="1817640" y="2682720"/>
            <a:ext cx="5591160" cy="3448080"/>
          </a:xfrm>
          <a:prstGeom prst="rect">
            <a:avLst/>
          </a:prstGeom>
          <a:ln w="0">
            <a:noFill/>
          </a:ln>
        </p:spPr>
      </p:pic>
      <p:sp>
        <p:nvSpPr>
          <p:cNvPr id="90" name="WordArt 2"/>
          <p:cNvSpPr txBox="1"/>
          <p:nvPr/>
        </p:nvSpPr>
        <p:spPr>
          <a:xfrm>
            <a:off x="934920" y="1700280"/>
            <a:ext cx="727416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宪法是国家的根本大法课件</a:t>
            </a:r>
            <a:r>
              <a:rPr b="1" lang="en-US" sz="4000" spc="1" strike="noStrike">
                <a:ln w="324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下载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1400" y="293760"/>
            <a:ext cx="91440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六课　参与政治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6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66" name="Group 4"/>
              <p:cNvGrpSpPr/>
              <p:nvPr/>
            </p:nvGrpSpPr>
            <p:grpSpPr>
              <a:xfrm>
                <a:off x="0" y="0"/>
                <a:ext cx="9144000" cy="6856560"/>
                <a:chOff x="0" y="0"/>
                <a:chExt cx="9144000" cy="6856560"/>
              </a:xfrm>
            </p:grpSpPr>
            <p:pic>
              <p:nvPicPr>
                <p:cNvPr id="26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68" name="Group 6"/>
                <p:cNvGrpSpPr/>
                <p:nvPr/>
              </p:nvGrpSpPr>
              <p:grpSpPr>
                <a:xfrm>
                  <a:off x="0" y="0"/>
                  <a:ext cx="9144000" cy="1371600"/>
                  <a:chOff x="0" y="0"/>
                  <a:chExt cx="9144000" cy="1371600"/>
                </a:xfrm>
              </p:grpSpPr>
              <p:pic>
                <p:nvPicPr>
                  <p:cNvPr id="269" name="Picture 7" descr="未标题-1"/>
                  <p:cNvPicPr/>
                  <p:nvPr/>
                </p:nvPicPr>
                <p:blipFill>
                  <a:blip r:embed="rId2">
                    <a:lum contrast="6000"/>
                  </a:blip>
                  <a:stretch/>
                </p:blipFill>
                <p:spPr>
                  <a:xfrm>
                    <a:off x="0" y="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0" name="AutoShape 8"/>
                  <p:cNvSpPr/>
                  <p:nvPr/>
                </p:nvSpPr>
                <p:spPr>
                  <a:xfrm>
                    <a:off x="1371600" y="42840"/>
                    <a:ext cx="4191120" cy="990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Rectangle 9"/>
              <p:cNvSpPr/>
              <p:nvPr/>
            </p:nvSpPr>
            <p:spPr>
              <a:xfrm>
                <a:off x="0" y="1371600"/>
                <a:ext cx="9144000" cy="54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WordArt 10"/>
            <p:cNvSpPr txBox="1"/>
            <p:nvPr/>
          </p:nvSpPr>
          <p:spPr>
            <a:xfrm>
              <a:off x="1676520" y="22860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273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74" name="Group 12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275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6" name="Group 14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277" name="Picture 15" descr="未标题-1"/>
                <p:cNvPicPr/>
                <p:nvPr/>
              </p:nvPicPr>
              <p:blipFill>
                <a:blip r:embed="rId4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AutoShape 16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9" name="Rectangle 17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19"/>
          <p:cNvSpPr/>
          <p:nvPr/>
        </p:nvSpPr>
        <p:spPr>
          <a:xfrm>
            <a:off x="250920" y="15573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  <a:ea typeface="黑体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黑体"/>
              </a:rPr>
              <a:t>、宪法与普通法律相比，具有最高的法律效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0"/>
          <p:cNvGrpSpPr/>
          <p:nvPr/>
        </p:nvGrpSpPr>
        <p:grpSpPr>
          <a:xfrm>
            <a:off x="324000" y="4149720"/>
            <a:ext cx="8381880" cy="2300040"/>
            <a:chOff x="324000" y="4149720"/>
            <a:chExt cx="8381880" cy="2300040"/>
          </a:xfrm>
        </p:grpSpPr>
        <p:pic>
          <p:nvPicPr>
            <p:cNvPr id="282" name="Picture 21" descr="law"/>
            <p:cNvPicPr/>
            <p:nvPr/>
          </p:nvPicPr>
          <p:blipFill>
            <a:blip r:embed="rId5"/>
            <a:stretch/>
          </p:blipFill>
          <p:spPr>
            <a:xfrm>
              <a:off x="324000" y="4163760"/>
              <a:ext cx="1752480" cy="2286000"/>
            </a:xfrm>
            <a:prstGeom prst="rect">
              <a:avLst/>
            </a:prstGeom>
            <a:ln w="19080">
              <a:solidFill>
                <a:srgbClr val="ff6600"/>
              </a:solidFill>
              <a:miter/>
            </a:ln>
          </p:spPr>
        </p:pic>
        <p:sp>
          <p:nvSpPr>
            <p:cNvPr id="283" name="Text Box 22"/>
            <p:cNvSpPr/>
            <p:nvPr/>
          </p:nvSpPr>
          <p:spPr>
            <a:xfrm>
              <a:off x="2076480" y="4149720"/>
              <a:ext cx="6629400" cy="6426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宪法中规定：</a:t>
              </a:r>
              <a:r>
                <a:rPr b="1" lang="zh-CN" sz="36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一切法律、行政法规和地方性法规都不得同宪法相抵触，否则，就会因违宪而无效。  </a:t>
              </a:r>
              <a:r>
                <a:rPr b="1" lang="zh-CN" sz="2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23"/>
          <p:cNvSpPr/>
          <p:nvPr/>
        </p:nvSpPr>
        <p:spPr>
          <a:xfrm>
            <a:off x="395280" y="28526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姚体"/>
                <a:ea typeface="方正姚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所谓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法律效力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是指法律的强制性和约束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24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87" name="Group 3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288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9" name="Group 5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290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AutoShape 7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2" name="Rectangle 8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10"/>
          <p:cNvSpPr/>
          <p:nvPr/>
        </p:nvSpPr>
        <p:spPr>
          <a:xfrm>
            <a:off x="250920" y="1700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同普通法律相比，宪法制定和修改的程序更为严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324000" y="3213000"/>
            <a:ext cx="8610480" cy="1191240"/>
          </a:xfrm>
          <a:prstGeom prst="rect">
            <a:avLst/>
          </a:prstGeom>
          <a:noFill/>
          <a:ln w="7632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宪法的制定与修改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只能由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全国人民代表大会进行，宪法的制定要经过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起草、讨论、修改、审议通过等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程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12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97" name="Group 3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298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9" name="Group 5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300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1" name="AutoShape 7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2" name="Rectangle 8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9"/>
          <p:cNvSpPr/>
          <p:nvPr/>
        </p:nvSpPr>
        <p:spPr>
          <a:xfrm>
            <a:off x="304920" y="2286000"/>
            <a:ext cx="8229600" cy="1068840"/>
          </a:xfrm>
          <a:prstGeom prst="rect">
            <a:avLst/>
          </a:prstGeom>
          <a:noFill/>
          <a:ln w="7632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宪法的修改，由全国人民代表大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常务委员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或者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五分之一以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全国人民代表大会代表提议，并由全国人民代表大会以全体代表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分之二以上的多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304920" y="4876920"/>
            <a:ext cx="8305560" cy="581400"/>
          </a:xfrm>
          <a:prstGeom prst="rect">
            <a:avLst/>
          </a:prstGeom>
          <a:noFill/>
          <a:ln w="7632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普通法律的制定、修改，只需按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一般程序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由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半数以上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代表通过即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250920" y="1339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宪法制定和修改的程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WordArt 12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08" name="Group 3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309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0" name="Group 5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311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AutoShape 7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3" name="Rectangle 8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10"/>
          <p:cNvSpPr/>
          <p:nvPr/>
        </p:nvSpPr>
        <p:spPr>
          <a:xfrm>
            <a:off x="228600" y="16286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  <a:ea typeface="黑体"/>
              </a:rPr>
              <a:t>5</a:t>
            </a: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黑体"/>
              </a:rPr>
              <a:t>、宪法是一切组织和个人的根本活动准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1"/>
          <p:cNvGrpSpPr/>
          <p:nvPr/>
        </p:nvGrpSpPr>
        <p:grpSpPr>
          <a:xfrm>
            <a:off x="468360" y="2565360"/>
            <a:ext cx="8077320" cy="3035520"/>
            <a:chOff x="468360" y="2565360"/>
            <a:chExt cx="8077320" cy="3035520"/>
          </a:xfrm>
        </p:grpSpPr>
        <p:sp>
          <p:nvSpPr>
            <p:cNvPr id="316" name="Text Box 12"/>
            <p:cNvSpPr/>
            <p:nvPr/>
          </p:nvSpPr>
          <p:spPr>
            <a:xfrm>
              <a:off x="468360" y="25653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宪法规定：“任何组织或者个人都不得有超越宪法和法律的特权。”一切组织不论大小，在国家机关和社会中的地位如何；一切个人不论职位高低，功劳多大，都必须在宪法规定的范围内活动，不允许超出宪法之外，凌驾于宪法之上。否则，都必须予以追究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68360" y="5067360"/>
              <a:ext cx="7924680" cy="360"/>
              <a:chOff x="468360" y="5067360"/>
              <a:chExt cx="7924680" cy="360"/>
            </a:xfrm>
          </p:grpSpPr>
          <p:sp>
            <p:nvSpPr>
              <p:cNvPr id="318" name="Line 13"/>
              <p:cNvSpPr/>
              <p:nvPr/>
            </p:nvSpPr>
            <p:spPr>
              <a:xfrm>
                <a:off x="468360" y="5067360"/>
                <a:ext cx="7924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>
                <a:off x="468360" y="5067360"/>
                <a:ext cx="7924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44680" y="5600520"/>
              <a:ext cx="4267080" cy="360"/>
              <a:chOff x="544680" y="5600520"/>
              <a:chExt cx="4267080" cy="360"/>
            </a:xfrm>
          </p:grpSpPr>
          <p:sp>
            <p:nvSpPr>
              <p:cNvPr id="321" name="Line 14"/>
              <p:cNvSpPr/>
              <p:nvPr/>
            </p:nvSpPr>
            <p:spPr>
              <a:xfrm>
                <a:off x="544680" y="5600520"/>
                <a:ext cx="4267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544680" y="5600520"/>
                <a:ext cx="426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WordArt 15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9"/>
          <p:cNvSpPr txBox="1"/>
          <p:nvPr/>
        </p:nvSpPr>
        <p:spPr>
          <a:xfrm>
            <a:off x="971640" y="765000"/>
            <a:ext cx="33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课后小结：</a:t>
            </a:r>
            <a:endParaRPr b="1" lang="en-US" sz="44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468360" y="170028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从内容上看，宪法规定了国家生活中的根本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498600" y="2900520"/>
            <a:ext cx="771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从效力看，宪法具有最高得法律效力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2"/>
          <p:cNvSpPr/>
          <p:nvPr/>
        </p:nvSpPr>
        <p:spPr>
          <a:xfrm>
            <a:off x="539640" y="3789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从制定和修改的程序上看，宪法比普通更为严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17"/>
          <p:cNvSpPr txBox="1"/>
          <p:nvPr/>
        </p:nvSpPr>
        <p:spPr>
          <a:xfrm>
            <a:off x="755640" y="5084640"/>
            <a:ext cx="6858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所以说，宪法是国家的根本大法。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22222"/>
          <p:cNvPicPr/>
          <p:nvPr/>
        </p:nvPicPr>
        <p:blipFill>
          <a:blip r:embed="rId1"/>
          <a:srcRect l="0" t="0" r="2497" b="4084"/>
          <a:stretch/>
        </p:blipFill>
        <p:spPr>
          <a:xfrm>
            <a:off x="0" y="1523880"/>
            <a:ext cx="9524880" cy="41148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990720" y="4572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宪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981080" y="3429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刑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286000" y="4191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婚姻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819520" y="3429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选举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3962520" y="3124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环境保护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334120" y="4038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消费者权益保护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6400800" y="3124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继承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7315200" y="3048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教育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7162920" y="26668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未成年人保护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0" y="304920"/>
            <a:ext cx="6019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  <a:hlinkClick r:id="rId2"/>
              </a:rPr>
              <a:t>■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以宪法为基础和核心的法律体系示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4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42" name="Group 4"/>
              <p:cNvGrpSpPr/>
              <p:nvPr/>
            </p:nvGrpSpPr>
            <p:grpSpPr>
              <a:xfrm>
                <a:off x="0" y="0"/>
                <a:ext cx="9144000" cy="6856560"/>
                <a:chOff x="0" y="0"/>
                <a:chExt cx="9144000" cy="6856560"/>
              </a:xfrm>
            </p:grpSpPr>
            <p:pic>
              <p:nvPicPr>
                <p:cNvPr id="343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44" name="Group 6"/>
                <p:cNvGrpSpPr/>
                <p:nvPr/>
              </p:nvGrpSpPr>
              <p:grpSpPr>
                <a:xfrm>
                  <a:off x="0" y="0"/>
                  <a:ext cx="9144000" cy="1371600"/>
                  <a:chOff x="0" y="0"/>
                  <a:chExt cx="9144000" cy="1371600"/>
                </a:xfrm>
              </p:grpSpPr>
              <p:pic>
                <p:nvPicPr>
                  <p:cNvPr id="345" name="Picture 7" descr="未标题-1"/>
                  <p:cNvPicPr/>
                  <p:nvPr/>
                </p:nvPicPr>
                <p:blipFill>
                  <a:blip r:embed="rId2">
                    <a:lum contrast="6000"/>
                  </a:blip>
                  <a:stretch/>
                </p:blipFill>
                <p:spPr>
                  <a:xfrm>
                    <a:off x="0" y="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6" name="AutoShape 8"/>
                  <p:cNvSpPr/>
                  <p:nvPr/>
                </p:nvSpPr>
                <p:spPr>
                  <a:xfrm>
                    <a:off x="1371600" y="42840"/>
                    <a:ext cx="4191120" cy="990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7" name="Rectangle 9"/>
              <p:cNvSpPr/>
              <p:nvPr/>
            </p:nvSpPr>
            <p:spPr>
              <a:xfrm>
                <a:off x="0" y="1371600"/>
                <a:ext cx="9144000" cy="54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WordArt 10"/>
            <p:cNvSpPr txBox="1"/>
            <p:nvPr/>
          </p:nvSpPr>
          <p:spPr>
            <a:xfrm>
              <a:off x="1676520" y="22860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349" name="Text Box 11"/>
          <p:cNvSpPr/>
          <p:nvPr/>
        </p:nvSpPr>
        <p:spPr>
          <a:xfrm>
            <a:off x="468360" y="2444760"/>
            <a:ext cx="8280360" cy="31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我国义务教育法、未成年人保护法、国旗法等分别写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以宪法为根据制定本法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根据宪法，制定本法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，这表明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宪法包含了其他法律、法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宪法是普通法律的立法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宪法具有最高的法律效力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一切法律、法规都不得与宪法相抵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179280" y="155736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课堂练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（单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6443640" y="357336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5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54" name="Group 4"/>
              <p:cNvGrpSpPr/>
              <p:nvPr/>
            </p:nvGrpSpPr>
            <p:grpSpPr>
              <a:xfrm>
                <a:off x="0" y="0"/>
                <a:ext cx="9144000" cy="6856560"/>
                <a:chOff x="0" y="0"/>
                <a:chExt cx="9144000" cy="6856560"/>
              </a:xfrm>
            </p:grpSpPr>
            <p:pic>
              <p:nvPicPr>
                <p:cNvPr id="35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56" name="Group 6"/>
                <p:cNvGrpSpPr/>
                <p:nvPr/>
              </p:nvGrpSpPr>
              <p:grpSpPr>
                <a:xfrm>
                  <a:off x="0" y="0"/>
                  <a:ext cx="9144000" cy="1371600"/>
                  <a:chOff x="0" y="0"/>
                  <a:chExt cx="9144000" cy="1371600"/>
                </a:xfrm>
              </p:grpSpPr>
              <p:pic>
                <p:nvPicPr>
                  <p:cNvPr id="357" name="Picture 7" descr="未标题-1"/>
                  <p:cNvPicPr/>
                  <p:nvPr/>
                </p:nvPicPr>
                <p:blipFill>
                  <a:blip r:embed="rId2">
                    <a:lum contrast="6000"/>
                  </a:blip>
                  <a:stretch/>
                </p:blipFill>
                <p:spPr>
                  <a:xfrm>
                    <a:off x="0" y="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8" name="AutoShape 8"/>
                  <p:cNvSpPr/>
                  <p:nvPr/>
                </p:nvSpPr>
                <p:spPr>
                  <a:xfrm>
                    <a:off x="1371600" y="42840"/>
                    <a:ext cx="4191120" cy="990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9" name="Rectangle 9"/>
              <p:cNvSpPr/>
              <p:nvPr/>
            </p:nvSpPr>
            <p:spPr>
              <a:xfrm>
                <a:off x="0" y="1371600"/>
                <a:ext cx="9144000" cy="54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WordArt 10"/>
            <p:cNvSpPr txBox="1"/>
            <p:nvPr/>
          </p:nvSpPr>
          <p:spPr>
            <a:xfrm>
              <a:off x="1676520" y="22860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361" name="Text Box 11"/>
          <p:cNvSpPr/>
          <p:nvPr/>
        </p:nvSpPr>
        <p:spPr>
          <a:xfrm>
            <a:off x="539640" y="2116080"/>
            <a:ext cx="835344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  <a:ea typeface="黑体"/>
              </a:rPr>
              <a:t>        “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  <a:ea typeface="黑体"/>
              </a:rPr>
              <a:t>刑法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  <a:ea typeface="黑体"/>
              </a:rPr>
              <a:t>+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  <a:ea typeface="黑体"/>
              </a:rPr>
              <a:t>民法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  <a:ea typeface="黑体"/>
              </a:rPr>
              <a:t>+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  <a:ea typeface="黑体"/>
              </a:rPr>
              <a:t>义务教育法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  <a:ea typeface="黑体"/>
              </a:rPr>
              <a:t>+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  <a:ea typeface="黑体"/>
              </a:rPr>
              <a:t>未成年人保护法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  <a:ea typeface="黑体"/>
              </a:rPr>
              <a:t>+……=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  <a:ea typeface="黑体"/>
              </a:rPr>
              <a:t>宪法”的观点是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、正确的，因为普通法律必须依据宪法制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B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、错误的，因为宪法与普通法律的内容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C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、正确的，因为宪法具有最高的法律效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D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、错误的，因为宪法的制定和修改程序比普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      通法律更为严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179280" y="134136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课堂练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（单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4932360" y="2637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8197"/>
          <p:cNvSpPr/>
          <p:nvPr/>
        </p:nvSpPr>
        <p:spPr>
          <a:xfrm>
            <a:off x="1805040" y="618984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66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67" name="Group 4"/>
              <p:cNvGrpSpPr/>
              <p:nvPr/>
            </p:nvGrpSpPr>
            <p:grpSpPr>
              <a:xfrm>
                <a:off x="0" y="0"/>
                <a:ext cx="9144000" cy="6856560"/>
                <a:chOff x="0" y="0"/>
                <a:chExt cx="9144000" cy="6856560"/>
              </a:xfrm>
            </p:grpSpPr>
            <p:pic>
              <p:nvPicPr>
                <p:cNvPr id="368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69" name="Group 6"/>
                <p:cNvGrpSpPr/>
                <p:nvPr/>
              </p:nvGrpSpPr>
              <p:grpSpPr>
                <a:xfrm>
                  <a:off x="0" y="0"/>
                  <a:ext cx="9144000" cy="1371600"/>
                  <a:chOff x="0" y="0"/>
                  <a:chExt cx="9144000" cy="1371600"/>
                </a:xfrm>
              </p:grpSpPr>
              <p:pic>
                <p:nvPicPr>
                  <p:cNvPr id="370" name="Picture 7" descr="未标题-1"/>
                  <p:cNvPicPr/>
                  <p:nvPr/>
                </p:nvPicPr>
                <p:blipFill>
                  <a:blip r:embed="rId2">
                    <a:lum contrast="6000"/>
                  </a:blip>
                  <a:stretch/>
                </p:blipFill>
                <p:spPr>
                  <a:xfrm>
                    <a:off x="0" y="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1" name="AutoShape 8"/>
                  <p:cNvSpPr/>
                  <p:nvPr/>
                </p:nvSpPr>
                <p:spPr>
                  <a:xfrm>
                    <a:off x="1371600" y="42840"/>
                    <a:ext cx="4191120" cy="990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2" name="Rectangle 9"/>
              <p:cNvSpPr/>
              <p:nvPr/>
            </p:nvSpPr>
            <p:spPr>
              <a:xfrm>
                <a:off x="0" y="1371600"/>
                <a:ext cx="9144000" cy="54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WordArt 10"/>
            <p:cNvSpPr txBox="1"/>
            <p:nvPr/>
          </p:nvSpPr>
          <p:spPr>
            <a:xfrm>
              <a:off x="1676520" y="22860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374" name="Text Box 11"/>
          <p:cNvSpPr/>
          <p:nvPr/>
        </p:nvSpPr>
        <p:spPr>
          <a:xfrm>
            <a:off x="395280" y="2060640"/>
            <a:ext cx="83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胡锦涛在纪念现行宪法颁布实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周年大会上发表重要讲话指出，在全社会进一步树立宪法意识和宪法权威，切实保障宪法的贯彻实施。这是因为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宪法是国家的根本大法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依法治国的核心是依宪治国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增强公民的宪法意识是保障宪法实施的思想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宪法规定了政治经济生活的具体法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79280" y="1341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课堂练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3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6300720" y="3573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234E-6F16-4F05-BE9F-FD9DD33819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4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5" name="Group 4"/>
              <p:cNvGrpSpPr/>
              <p:nvPr/>
            </p:nvGrpSpPr>
            <p:grpSpPr>
              <a:xfrm>
                <a:off x="0" y="0"/>
                <a:ext cx="9144000" cy="6856560"/>
                <a:chOff x="0" y="0"/>
                <a:chExt cx="9144000" cy="6856560"/>
              </a:xfrm>
            </p:grpSpPr>
            <p:pic>
              <p:nvPicPr>
                <p:cNvPr id="96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" name="Group 6"/>
                <p:cNvGrpSpPr/>
                <p:nvPr/>
              </p:nvGrpSpPr>
              <p:grpSpPr>
                <a:xfrm>
                  <a:off x="0" y="0"/>
                  <a:ext cx="9144000" cy="1371600"/>
                  <a:chOff x="0" y="0"/>
                  <a:chExt cx="9144000" cy="1371600"/>
                </a:xfrm>
              </p:grpSpPr>
              <p:pic>
                <p:nvPicPr>
                  <p:cNvPr id="98" name="Picture 7" descr="未标题-1"/>
                  <p:cNvPicPr/>
                  <p:nvPr/>
                </p:nvPicPr>
                <p:blipFill>
                  <a:blip r:embed="rId2">
                    <a:lum contrast="6000"/>
                  </a:blip>
                  <a:stretch/>
                </p:blipFill>
                <p:spPr>
                  <a:xfrm>
                    <a:off x="0" y="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" name="AutoShape 8"/>
                  <p:cNvSpPr/>
                  <p:nvPr/>
                </p:nvSpPr>
                <p:spPr>
                  <a:xfrm>
                    <a:off x="1371600" y="42840"/>
                    <a:ext cx="4191120" cy="990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0" name="Rectangle 9"/>
              <p:cNvSpPr/>
              <p:nvPr/>
            </p:nvSpPr>
            <p:spPr>
              <a:xfrm>
                <a:off x="0" y="1371600"/>
                <a:ext cx="9144000" cy="54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WordArt 10"/>
            <p:cNvSpPr txBox="1"/>
            <p:nvPr/>
          </p:nvSpPr>
          <p:spPr>
            <a:xfrm>
              <a:off x="1676520" y="22860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02" name="Text Box 14"/>
          <p:cNvSpPr/>
          <p:nvPr/>
        </p:nvSpPr>
        <p:spPr>
          <a:xfrm>
            <a:off x="755640" y="162864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．阅读教材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P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，并思考：宪法与普通法律有不同吗？如果有，不同点表现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755640" y="3213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．如果把所有的法律比作由众多兵种组成的军队，那么宪法就是这支军队的最好统帅。这个比喻合适吗？你还能举出另一个比喻来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87280" y="4076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684360" y="4724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如果把所有法律比作一个配有多种乐器的交响乐队，那么宪法就是这个乐队的指挥。宪法是国家的根本大法，是治国安邦的总章程。依法治国的核心是依宪治国，宪法是实行依法治国的根本依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971640" y="2637000"/>
            <a:ext cx="408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1187280" y="25653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同，主要表现在内容和地位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83" name="Group 4"/>
              <p:cNvGrpSpPr/>
              <p:nvPr/>
            </p:nvGrpSpPr>
            <p:grpSpPr>
              <a:xfrm>
                <a:off x="0" y="0"/>
                <a:ext cx="9144000" cy="6856560"/>
                <a:chOff x="0" y="0"/>
                <a:chExt cx="9144000" cy="6856560"/>
              </a:xfrm>
            </p:grpSpPr>
            <p:pic>
              <p:nvPicPr>
                <p:cNvPr id="384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85" name="Group 6"/>
                <p:cNvGrpSpPr/>
                <p:nvPr/>
              </p:nvGrpSpPr>
              <p:grpSpPr>
                <a:xfrm>
                  <a:off x="0" y="0"/>
                  <a:ext cx="9144000" cy="1371600"/>
                  <a:chOff x="0" y="0"/>
                  <a:chExt cx="9144000" cy="1371600"/>
                </a:xfrm>
              </p:grpSpPr>
              <p:pic>
                <p:nvPicPr>
                  <p:cNvPr id="386" name="Picture 7" descr="未标题-1"/>
                  <p:cNvPicPr/>
                  <p:nvPr/>
                </p:nvPicPr>
                <p:blipFill>
                  <a:blip r:embed="rId2">
                    <a:lum contrast="6000"/>
                  </a:blip>
                  <a:stretch/>
                </p:blipFill>
                <p:spPr>
                  <a:xfrm>
                    <a:off x="0" y="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7" name="AutoShape 8"/>
                  <p:cNvSpPr/>
                  <p:nvPr/>
                </p:nvSpPr>
                <p:spPr>
                  <a:xfrm>
                    <a:off x="1371600" y="42840"/>
                    <a:ext cx="4191120" cy="990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Rectangle 9"/>
              <p:cNvSpPr/>
              <p:nvPr/>
            </p:nvSpPr>
            <p:spPr>
              <a:xfrm>
                <a:off x="0" y="1371600"/>
                <a:ext cx="9144000" cy="54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WordArt 10"/>
            <p:cNvSpPr txBox="1"/>
            <p:nvPr/>
          </p:nvSpPr>
          <p:spPr>
            <a:xfrm>
              <a:off x="1676520" y="22860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390" name="Text Box 12"/>
          <p:cNvSpPr/>
          <p:nvPr/>
        </p:nvSpPr>
        <p:spPr>
          <a:xfrm>
            <a:off x="179280" y="134136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课堂练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（多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684360" y="234936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5"/>
          <p:cNvSpPr/>
          <p:nvPr/>
        </p:nvSpPr>
        <p:spPr>
          <a:xfrm>
            <a:off x="684360" y="2349360"/>
            <a:ext cx="7559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宪法是国家根本大法的原因是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黑体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宪法规定了国家生活中的根本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黑体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宪法具有最高的法律效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宪法是其他法律实施的保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宪法制定和修改程序比普通法律严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17"/>
          <p:cNvSpPr txBox="1"/>
          <p:nvPr/>
        </p:nvSpPr>
        <p:spPr>
          <a:xfrm>
            <a:off x="6732720" y="1989000"/>
            <a:ext cx="7142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ABD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23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0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11" name="Group 4"/>
              <p:cNvGrpSpPr/>
              <p:nvPr/>
            </p:nvGrpSpPr>
            <p:grpSpPr>
              <a:xfrm>
                <a:off x="0" y="0"/>
                <a:ext cx="9144000" cy="6856560"/>
                <a:chOff x="0" y="0"/>
                <a:chExt cx="9144000" cy="6856560"/>
              </a:xfrm>
            </p:grpSpPr>
            <p:pic>
              <p:nvPicPr>
                <p:cNvPr id="112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3" name="Group 6"/>
                <p:cNvGrpSpPr/>
                <p:nvPr/>
              </p:nvGrpSpPr>
              <p:grpSpPr>
                <a:xfrm>
                  <a:off x="0" y="0"/>
                  <a:ext cx="9144000" cy="1371600"/>
                  <a:chOff x="0" y="0"/>
                  <a:chExt cx="9144000" cy="1371600"/>
                </a:xfrm>
              </p:grpSpPr>
              <p:pic>
                <p:nvPicPr>
                  <p:cNvPr id="114" name="Picture 7" descr="未标题-1"/>
                  <p:cNvPicPr/>
                  <p:nvPr/>
                </p:nvPicPr>
                <p:blipFill>
                  <a:blip r:embed="rId2">
                    <a:lum contrast="6000"/>
                  </a:blip>
                  <a:stretch/>
                </p:blipFill>
                <p:spPr>
                  <a:xfrm>
                    <a:off x="0" y="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5" name="AutoShape 8"/>
                  <p:cNvSpPr/>
                  <p:nvPr/>
                </p:nvSpPr>
                <p:spPr>
                  <a:xfrm>
                    <a:off x="1371600" y="42840"/>
                    <a:ext cx="4191120" cy="990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" name="Rectangle 9"/>
              <p:cNvSpPr/>
              <p:nvPr/>
            </p:nvSpPr>
            <p:spPr>
              <a:xfrm>
                <a:off x="0" y="1371600"/>
                <a:ext cx="9144000" cy="54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WordArt 10"/>
            <p:cNvSpPr txBox="1"/>
            <p:nvPr/>
          </p:nvSpPr>
          <p:spPr>
            <a:xfrm>
              <a:off x="1676520" y="22860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18" name="Tree"/>
          <p:cNvSpPr/>
          <p:nvPr/>
        </p:nvSpPr>
        <p:spPr>
          <a:xfrm>
            <a:off x="4419720" y="2514600"/>
            <a:ext cx="4647960" cy="4114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6153120" y="317196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基本法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776920" y="4281480"/>
            <a:ext cx="19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行政法规、规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514840" y="53960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地方性法规、自治条例、单行条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5"/>
          <p:cNvGrpSpPr/>
          <p:nvPr/>
        </p:nvGrpSpPr>
        <p:grpSpPr>
          <a:xfrm>
            <a:off x="5762520" y="1690560"/>
            <a:ext cx="2122200" cy="1143000"/>
            <a:chOff x="5762520" y="1690560"/>
            <a:chExt cx="2122200" cy="1143000"/>
          </a:xfrm>
        </p:grpSpPr>
        <p:sp>
          <p:nvSpPr>
            <p:cNvPr id="123" name="AutoShape 16"/>
            <p:cNvSpPr/>
            <p:nvPr/>
          </p:nvSpPr>
          <p:spPr>
            <a:xfrm>
              <a:off x="5762520" y="1690560"/>
              <a:ext cx="2122200" cy="1143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6420600" y="2171520"/>
              <a:ext cx="962280" cy="520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宪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18"/>
          <p:cNvSpPr/>
          <p:nvPr/>
        </p:nvSpPr>
        <p:spPr>
          <a:xfrm>
            <a:off x="324000" y="2060640"/>
            <a:ext cx="503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　　宪法在国家法律体系中具有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最高的</a:t>
            </a: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法律地位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7501320" y="1828800"/>
            <a:ext cx="1642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法 律 体 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539640" y="4581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宪法是制定其他法律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基础和依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9" name="Group 3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130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1" name="Group 5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132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AutoShape 7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" name="Rectangle 8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9"/>
          <p:cNvSpPr/>
          <p:nvPr/>
        </p:nvSpPr>
        <p:spPr>
          <a:xfrm>
            <a:off x="152280" y="1295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二、宪法具有最高的法律地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28600" y="1981080"/>
            <a:ext cx="82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、从规定的内容看：宪法规定了国家生活中带有全局性、根本性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2"/>
          <p:cNvGrpSpPr/>
          <p:nvPr/>
        </p:nvGrpSpPr>
        <p:grpSpPr>
          <a:xfrm>
            <a:off x="108000" y="3240000"/>
            <a:ext cx="4266720" cy="3313080"/>
            <a:chOff x="108000" y="3240000"/>
            <a:chExt cx="4266720" cy="3313080"/>
          </a:xfrm>
        </p:grpSpPr>
        <p:sp>
          <p:nvSpPr>
            <p:cNvPr id="138" name="AutoShape 13"/>
            <p:cNvSpPr/>
            <p:nvPr/>
          </p:nvSpPr>
          <p:spPr>
            <a:xfrm>
              <a:off x="108000" y="3392640"/>
              <a:ext cx="321480" cy="3160440"/>
            </a:xfrm>
            <a:custGeom>
              <a:avLst/>
              <a:gdLst>
                <a:gd name="textAreaLeft" fmla="*/ 205560 w 321480"/>
                <a:gd name="textAreaRight" fmla="*/ 321840 w 321480"/>
                <a:gd name="textAreaTop" fmla="*/ 82080 h 3160440"/>
                <a:gd name="textAreaBottom" fmla="*/ 3078360 h 31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>
              <a:off x="510120" y="3240000"/>
              <a:ext cx="3864600" cy="31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国家的性质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国体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国家的根本制度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国家的根本任务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国家的根本政治制度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国家的基本经济制度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5"/>
          <p:cNvSpPr/>
          <p:nvPr/>
        </p:nvSpPr>
        <p:spPr>
          <a:xfrm>
            <a:off x="3733920" y="3200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  <a:ea typeface="黑体"/>
              </a:rPr>
              <a:t>人民民主专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3733920" y="38098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  <a:ea typeface="黑体"/>
              </a:rPr>
              <a:t>社会主义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3505320" y="4540320"/>
            <a:ext cx="556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ahoma"/>
                <a:ea typeface="Tahoma"/>
              </a:rPr>
              <a:t>—</a:t>
            </a:r>
            <a:r>
              <a:rPr b="1" lang="zh-CN" sz="2600" spc="-1" strike="noStrike">
                <a:solidFill>
                  <a:srgbClr val="0000cc"/>
                </a:solidFill>
                <a:latin typeface="Tahoma"/>
                <a:ea typeface="黑体"/>
              </a:rPr>
              <a:t>集中力量进行社会主义现代化建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4267080" y="51055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  <a:ea typeface="黑体"/>
              </a:rPr>
              <a:t>人民代表大会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4267080" y="57913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公有制为主体，多种所有制经济共同发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20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7" name="Group 3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148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9" name="Group 5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150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AutoShape 7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Rectangle 8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9"/>
          <p:cNvSpPr/>
          <p:nvPr/>
        </p:nvSpPr>
        <p:spPr>
          <a:xfrm>
            <a:off x="179280" y="1700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普通法律只能规定国家和社会生活中某一方面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2"/>
          <p:cNvGrpSpPr/>
          <p:nvPr/>
        </p:nvGrpSpPr>
        <p:grpSpPr>
          <a:xfrm>
            <a:off x="250920" y="2565360"/>
            <a:ext cx="4038480" cy="3764160"/>
            <a:chOff x="250920" y="2565360"/>
            <a:chExt cx="4038480" cy="3764160"/>
          </a:xfrm>
        </p:grpSpPr>
        <p:sp>
          <p:nvSpPr>
            <p:cNvPr id="155" name="AutoShape 13"/>
            <p:cNvSpPr/>
            <p:nvPr/>
          </p:nvSpPr>
          <p:spPr>
            <a:xfrm>
              <a:off x="250920" y="2717640"/>
              <a:ext cx="304560" cy="3429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89280 h 3429000"/>
                <a:gd name="textAreaBottom" fmla="*/ 333972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631800" y="2565360"/>
              <a:ext cx="3657600" cy="37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刑法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民法通则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行政法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诉讼法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未成年人保护法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环境保护法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15"/>
          <p:cNvSpPr/>
          <p:nvPr/>
        </p:nvSpPr>
        <p:spPr>
          <a:xfrm>
            <a:off x="2050920" y="256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主要是管犯罪和刑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2268360" y="3213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主要是管公民人身关系和财产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050920" y="386064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主要是管各级政府怎样行使职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2050920" y="4508640"/>
            <a:ext cx="66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主要是管诉讼的程序问题（打官司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3419640" y="5157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主要保护未成年人合法权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2771640" y="580536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主要是管环境问题和环境保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21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5" name="Group 3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16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7" name="Group 5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168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AutoShape 7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Rectangle 8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WordArt 22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971640" y="1268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宪法与普通法律的关系（区别与联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0920" y="1844640"/>
          <a:ext cx="8280360" cy="4838760"/>
        </p:xfrm>
        <a:graphic>
          <a:graphicData uri="http://schemas.openxmlformats.org/drawingml/2006/table">
            <a:tbl>
              <a:tblPr/>
              <a:tblGrid>
                <a:gridCol w="1176480"/>
                <a:gridCol w="1395360"/>
                <a:gridCol w="2874960"/>
                <a:gridCol w="28335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宪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普通法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 row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主要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规定国家生活中最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根本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重要的问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规定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某一方面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问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法律效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是制定普通法律的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依据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具有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最高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法律效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依据宪法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制定，不得违宪，否则无效，应立即修改或废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制定修改程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普通法律更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严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严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相同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在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本质上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是一致的，都反映人民的意志和利益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0" y="0"/>
            <a:ext cx="9144000" cy="6669000"/>
            <a:chOff x="0" y="0"/>
            <a:chExt cx="9144000" cy="6669000"/>
          </a:xfrm>
        </p:grpSpPr>
        <p:grpSp>
          <p:nvGrpSpPr>
            <p:cNvPr id="175" name="Group 3"/>
            <p:cNvGrpSpPr/>
            <p:nvPr/>
          </p:nvGrpSpPr>
          <p:grpSpPr>
            <a:xfrm>
              <a:off x="0" y="0"/>
              <a:ext cx="9144000" cy="6667560"/>
              <a:chOff x="0" y="0"/>
              <a:chExt cx="9144000" cy="6667560"/>
            </a:xfrm>
          </p:grpSpPr>
          <p:pic>
            <p:nvPicPr>
              <p:cNvPr id="17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667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7" name="Group 5"/>
              <p:cNvGrpSpPr/>
              <p:nvPr/>
            </p:nvGrpSpPr>
            <p:grpSpPr>
              <a:xfrm>
                <a:off x="0" y="0"/>
                <a:ext cx="9144000" cy="1333440"/>
                <a:chOff x="0" y="0"/>
                <a:chExt cx="9144000" cy="1333440"/>
              </a:xfrm>
            </p:grpSpPr>
            <p:pic>
              <p:nvPicPr>
                <p:cNvPr id="178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3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" name="AutoShape 7"/>
                <p:cNvSpPr/>
                <p:nvPr/>
              </p:nvSpPr>
              <p:spPr>
                <a:xfrm>
                  <a:off x="1371600" y="41400"/>
                  <a:ext cx="4191120" cy="963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Rectangle 8"/>
            <p:cNvSpPr/>
            <p:nvPr/>
          </p:nvSpPr>
          <p:spPr>
            <a:xfrm>
              <a:off x="0" y="1333800"/>
              <a:ext cx="9144000" cy="533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10"/>
          <p:cNvSpPr/>
          <p:nvPr/>
        </p:nvSpPr>
        <p:spPr>
          <a:xfrm>
            <a:off x="1582560" y="1484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黑体"/>
              </a:rPr>
              <a:t>普通法律是根据什么建立起来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1"/>
          <p:cNvSpPr/>
          <p:nvPr/>
        </p:nvSpPr>
        <p:spPr>
          <a:xfrm flipH="1">
            <a:off x="0" y="1413000"/>
            <a:ext cx="1687680" cy="642960"/>
          </a:xfrm>
          <a:prstGeom prst="cloudCallout">
            <a:avLst>
              <a:gd name="adj1" fmla="val -59504"/>
              <a:gd name="adj2" fmla="val 95185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50920" y="14130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请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13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250920" y="2467080"/>
            <a:ext cx="8569080" cy="2226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民法通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条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根据宪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我国实际情况，总结民事活动的实践经验，制定本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民事诉讼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条 民事诉讼法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以宪法为依据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结合我国民事审判工作的经验和实际情况制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刑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条 为了处罚犯罪，保护人民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根据宪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结合我国同犯罪作斗争的经验及实际情况，制定本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教育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条 为了发展教育事业，提高全民族的素质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根据宪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制定本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7" name="Group 3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188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9" name="Group 5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190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AutoShape 7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2" name="Rectangle 8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10"/>
          <p:cNvSpPr/>
          <p:nvPr/>
        </p:nvSpPr>
        <p:spPr>
          <a:xfrm>
            <a:off x="685800" y="27432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　　普通法律是根据宪法制定的，是宪法的具体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1"/>
          <p:cNvGrpSpPr/>
          <p:nvPr/>
        </p:nvGrpSpPr>
        <p:grpSpPr>
          <a:xfrm>
            <a:off x="4356000" y="3352680"/>
            <a:ext cx="2086920" cy="1632960"/>
            <a:chOff x="4356000" y="3352680"/>
            <a:chExt cx="2086920" cy="1632960"/>
          </a:xfrm>
        </p:grpSpPr>
        <p:grpSp>
          <p:nvGrpSpPr>
            <p:cNvPr id="195" name="Group 12"/>
            <p:cNvGrpSpPr/>
            <p:nvPr/>
          </p:nvGrpSpPr>
          <p:grpSpPr>
            <a:xfrm>
              <a:off x="4356000" y="3428640"/>
              <a:ext cx="2086920" cy="1557000"/>
              <a:chOff x="4356000" y="3428640"/>
              <a:chExt cx="2086920" cy="15570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5504040" y="3428640"/>
                <a:ext cx="360" cy="914400"/>
                <a:chOff x="5504040" y="3428640"/>
                <a:chExt cx="360" cy="914400"/>
              </a:xfrm>
            </p:grpSpPr>
            <p:sp>
              <p:nvSpPr>
                <p:cNvPr id="197" name="Line 13"/>
                <p:cNvSpPr/>
                <p:nvPr/>
              </p:nvSpPr>
              <p:spPr>
                <a:xfrm>
                  <a:off x="5504040" y="3428640"/>
                  <a:ext cx="0" cy="91440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 txBox="1"/>
                <p:nvPr/>
              </p:nvSpPr>
              <p:spPr>
                <a:xfrm>
                  <a:off x="5504040" y="3428640"/>
                  <a:ext cx="36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Text Box 14"/>
              <p:cNvSpPr/>
              <p:nvPr/>
            </p:nvSpPr>
            <p:spPr>
              <a:xfrm>
                <a:off x="4356000" y="4343040"/>
                <a:ext cx="208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ahoma"/>
                    <a:ea typeface="黑体"/>
                  </a:rPr>
                  <a:t>“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Tahoma"/>
                    <a:ea typeface="黑体"/>
                  </a:rPr>
                  <a:t>母法”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773600" y="3352680"/>
              <a:ext cx="1356480" cy="360"/>
              <a:chOff x="4773600" y="3352680"/>
              <a:chExt cx="1356480" cy="360"/>
            </a:xfrm>
          </p:grpSpPr>
          <p:sp>
            <p:nvSpPr>
              <p:cNvPr id="201" name="Line 15"/>
              <p:cNvSpPr/>
              <p:nvPr/>
            </p:nvSpPr>
            <p:spPr>
              <a:xfrm>
                <a:off x="4773600" y="3352680"/>
                <a:ext cx="13564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4773600" y="3352680"/>
                <a:ext cx="1356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Group 16"/>
          <p:cNvGrpSpPr/>
          <p:nvPr/>
        </p:nvGrpSpPr>
        <p:grpSpPr>
          <a:xfrm>
            <a:off x="1547640" y="3352680"/>
            <a:ext cx="2314440" cy="1677240"/>
            <a:chOff x="1547640" y="3352680"/>
            <a:chExt cx="2314440" cy="1677240"/>
          </a:xfrm>
        </p:grpSpPr>
        <p:grpSp>
          <p:nvGrpSpPr>
            <p:cNvPr id="204" name="Group 17"/>
            <p:cNvGrpSpPr/>
            <p:nvPr/>
          </p:nvGrpSpPr>
          <p:grpSpPr>
            <a:xfrm>
              <a:off x="1648080" y="3428640"/>
              <a:ext cx="2011680" cy="1601280"/>
              <a:chOff x="1648080" y="3428640"/>
              <a:chExt cx="2011680" cy="160128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2654280" y="3428640"/>
                <a:ext cx="360" cy="990360"/>
                <a:chOff x="2654280" y="3428640"/>
                <a:chExt cx="360" cy="990360"/>
              </a:xfrm>
            </p:grpSpPr>
            <p:sp>
              <p:nvSpPr>
                <p:cNvPr id="206" name="Line 18"/>
                <p:cNvSpPr/>
                <p:nvPr/>
              </p:nvSpPr>
              <p:spPr>
                <a:xfrm>
                  <a:off x="2654280" y="3428640"/>
                  <a:ext cx="0" cy="99036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 txBox="1"/>
                <p:nvPr/>
              </p:nvSpPr>
              <p:spPr>
                <a:xfrm>
                  <a:off x="2654280" y="3428640"/>
                  <a:ext cx="360" cy="99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Text Box 19"/>
              <p:cNvSpPr/>
              <p:nvPr/>
            </p:nvSpPr>
            <p:spPr>
              <a:xfrm>
                <a:off x="1648080" y="4387320"/>
                <a:ext cx="201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ahoma"/>
                    <a:ea typeface="黑体"/>
                  </a:rPr>
                  <a:t>“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Tahoma"/>
                    <a:ea typeface="黑体"/>
                  </a:rPr>
                  <a:t>子法”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547640" y="3352680"/>
              <a:ext cx="2314440" cy="360"/>
              <a:chOff x="1547640" y="3352680"/>
              <a:chExt cx="2314440" cy="36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1547640" y="3352680"/>
                <a:ext cx="2314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1547640" y="3352680"/>
                <a:ext cx="2314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Text Box 21"/>
          <p:cNvSpPr/>
          <p:nvPr/>
        </p:nvSpPr>
        <p:spPr>
          <a:xfrm>
            <a:off x="762120" y="5226120"/>
            <a:ext cx="78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黑体"/>
              </a:rPr>
              <a:t>马克思说：“宪法是法律的法律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250920" y="1700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  <a:ea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黑体"/>
              </a:rPr>
              <a:t>、宪法是其他法律的立法基础和立法依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23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6" name="Group 3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217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8" name="Group 5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219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0" name="AutoShape 7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1" name="Rectangle 8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9"/>
          <p:cNvSpPr/>
          <p:nvPr/>
        </p:nvSpPr>
        <p:spPr>
          <a:xfrm>
            <a:off x="5003640" y="5373720"/>
            <a:ext cx="2927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兵役法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5076720" y="4365720"/>
            <a:ext cx="2783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劳动法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4788000" y="33577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教育法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2"/>
          <p:cNvGrpSpPr/>
          <p:nvPr/>
        </p:nvGrpSpPr>
        <p:grpSpPr>
          <a:xfrm>
            <a:off x="755640" y="2421000"/>
            <a:ext cx="7315560" cy="3785040"/>
            <a:chOff x="755640" y="2421000"/>
            <a:chExt cx="7315560" cy="3785040"/>
          </a:xfrm>
        </p:grpSpPr>
        <p:sp>
          <p:nvSpPr>
            <p:cNvPr id="226" name="Rectangle 13"/>
            <p:cNvSpPr/>
            <p:nvPr/>
          </p:nvSpPr>
          <p:spPr>
            <a:xfrm>
              <a:off x="755640" y="5164200"/>
              <a:ext cx="36576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公民有保卫祖国抵抗侵略的义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755640" y="4173840"/>
              <a:ext cx="36576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公民有劳动的权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755640" y="3157560"/>
              <a:ext cx="365760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公民有受教育的权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6"/>
            <p:cNvSpPr/>
            <p:nvPr/>
          </p:nvSpPr>
          <p:spPr>
            <a:xfrm>
              <a:off x="4413240" y="2421000"/>
              <a:ext cx="36576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普通法（子法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7"/>
            <p:cNvSpPr/>
            <p:nvPr/>
          </p:nvSpPr>
          <p:spPr>
            <a:xfrm>
              <a:off x="755640" y="2421000"/>
              <a:ext cx="36576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宪法（母法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55640" y="2421000"/>
              <a:ext cx="7315200" cy="360"/>
              <a:chOff x="755640" y="2421000"/>
              <a:chExt cx="7315200" cy="360"/>
            </a:xfrm>
          </p:grpSpPr>
          <p:sp>
            <p:nvSpPr>
              <p:cNvPr id="232" name="Line 18"/>
              <p:cNvSpPr/>
              <p:nvPr/>
            </p:nvSpPr>
            <p:spPr>
              <a:xfrm>
                <a:off x="755640" y="2421000"/>
                <a:ext cx="73152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755640" y="2421000"/>
                <a:ext cx="7315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55640" y="3157560"/>
              <a:ext cx="7315200" cy="360"/>
              <a:chOff x="755640" y="3157560"/>
              <a:chExt cx="7315200" cy="360"/>
            </a:xfrm>
          </p:grpSpPr>
          <p:sp>
            <p:nvSpPr>
              <p:cNvPr id="235" name="Line 19"/>
              <p:cNvSpPr/>
              <p:nvPr/>
            </p:nvSpPr>
            <p:spPr>
              <a:xfrm>
                <a:off x="755640" y="3157560"/>
                <a:ext cx="731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>
                <a:off x="755640" y="3157560"/>
                <a:ext cx="7315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755640" y="4173840"/>
              <a:ext cx="7315200" cy="360"/>
              <a:chOff x="755640" y="4173840"/>
              <a:chExt cx="7315200" cy="360"/>
            </a:xfrm>
          </p:grpSpPr>
          <p:sp>
            <p:nvSpPr>
              <p:cNvPr id="238" name="Line 20"/>
              <p:cNvSpPr/>
              <p:nvPr/>
            </p:nvSpPr>
            <p:spPr>
              <a:xfrm>
                <a:off x="755640" y="4173840"/>
                <a:ext cx="731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755640" y="4173840"/>
                <a:ext cx="7315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755640" y="5164200"/>
              <a:ext cx="7315200" cy="360"/>
              <a:chOff x="755640" y="5164200"/>
              <a:chExt cx="7315200" cy="360"/>
            </a:xfrm>
          </p:grpSpPr>
          <p:sp>
            <p:nvSpPr>
              <p:cNvPr id="241" name="Line 21"/>
              <p:cNvSpPr/>
              <p:nvPr/>
            </p:nvSpPr>
            <p:spPr>
              <a:xfrm>
                <a:off x="755640" y="5164200"/>
                <a:ext cx="731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755640" y="5164200"/>
                <a:ext cx="7315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755640" y="6205680"/>
              <a:ext cx="7315200" cy="360"/>
              <a:chOff x="755640" y="6205680"/>
              <a:chExt cx="7315200" cy="360"/>
            </a:xfrm>
          </p:grpSpPr>
          <p:sp>
            <p:nvSpPr>
              <p:cNvPr id="244" name="Line 22"/>
              <p:cNvSpPr/>
              <p:nvPr/>
            </p:nvSpPr>
            <p:spPr>
              <a:xfrm>
                <a:off x="755640" y="6205680"/>
                <a:ext cx="73152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755640" y="6205680"/>
                <a:ext cx="7315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413240" y="2421000"/>
              <a:ext cx="360" cy="3784680"/>
              <a:chOff x="4413240" y="2421000"/>
              <a:chExt cx="360" cy="3784680"/>
            </a:xfrm>
          </p:grpSpPr>
          <p:sp>
            <p:nvSpPr>
              <p:cNvPr id="247" name="Line 23"/>
              <p:cNvSpPr/>
              <p:nvPr/>
            </p:nvSpPr>
            <p:spPr>
              <a:xfrm>
                <a:off x="4413240" y="2421000"/>
                <a:ext cx="0" cy="378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>
                <a:off x="4413240" y="2421000"/>
                <a:ext cx="360" cy="378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8070840" y="2421000"/>
              <a:ext cx="360" cy="3784680"/>
              <a:chOff x="8070840" y="2421000"/>
              <a:chExt cx="360" cy="3784680"/>
            </a:xfrm>
          </p:grpSpPr>
          <p:sp>
            <p:nvSpPr>
              <p:cNvPr id="250" name="Line 24"/>
              <p:cNvSpPr/>
              <p:nvPr/>
            </p:nvSpPr>
            <p:spPr>
              <a:xfrm>
                <a:off x="8070840" y="2421000"/>
                <a:ext cx="0" cy="37846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8070840" y="2421000"/>
                <a:ext cx="360" cy="378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55640" y="4173840"/>
              <a:ext cx="360" cy="990360"/>
              <a:chOff x="755640" y="4173840"/>
              <a:chExt cx="360" cy="990360"/>
            </a:xfrm>
          </p:grpSpPr>
          <p:sp>
            <p:nvSpPr>
              <p:cNvPr id="253" name="Line 25"/>
              <p:cNvSpPr/>
              <p:nvPr/>
            </p:nvSpPr>
            <p:spPr>
              <a:xfrm>
                <a:off x="755640" y="4173840"/>
                <a:ext cx="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755640" y="4173840"/>
                <a:ext cx="36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55640" y="2421000"/>
              <a:ext cx="360" cy="1752840"/>
              <a:chOff x="755640" y="2421000"/>
              <a:chExt cx="360" cy="1752840"/>
            </a:xfrm>
          </p:grpSpPr>
          <p:sp>
            <p:nvSpPr>
              <p:cNvPr id="256" name="Line 26"/>
              <p:cNvSpPr/>
              <p:nvPr/>
            </p:nvSpPr>
            <p:spPr>
              <a:xfrm>
                <a:off x="755640" y="2421000"/>
                <a:ext cx="0" cy="17528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755640" y="2421000"/>
                <a:ext cx="360" cy="175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55640" y="5164200"/>
              <a:ext cx="360" cy="1041480"/>
              <a:chOff x="755640" y="5164200"/>
              <a:chExt cx="360" cy="1041480"/>
            </a:xfrm>
          </p:grpSpPr>
          <p:sp>
            <p:nvSpPr>
              <p:cNvPr id="259" name="Line 27"/>
              <p:cNvSpPr/>
              <p:nvPr/>
            </p:nvSpPr>
            <p:spPr>
              <a:xfrm>
                <a:off x="755640" y="5164200"/>
                <a:ext cx="0" cy="1041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755640" y="5164200"/>
                <a:ext cx="360" cy="104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Text Box 29"/>
          <p:cNvSpPr/>
          <p:nvPr/>
        </p:nvSpPr>
        <p:spPr>
          <a:xfrm>
            <a:off x="755640" y="1557360"/>
            <a:ext cx="67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黑体"/>
              </a:rPr>
              <a:t>普通法律是宪法的具体化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30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3" name="文本框 8197"/>
          <p:cNvSpPr/>
          <p:nvPr/>
        </p:nvSpPr>
        <p:spPr>
          <a:xfrm>
            <a:off x="1631880" y="137160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3:56:00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48:34Z</dcterms:modified>
  <cp:revision>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