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type.wav" ContentType="audio/x-wav"/>
  <Override PartName="/ppt/media/image13.png" ContentType="image/png"/>
  <Override PartName="/ppt/media/image11.jpeg" ContentType="image/jpeg"/>
  <Override PartName="/ppt/media/image19.gif" ContentType="image/gif"/>
  <Override PartName="/ppt/media/image1.png" ContentType="image/png"/>
  <Override PartName="/ppt/media/image2.jpeg" ContentType="image/jpeg"/>
  <Override PartName="/ppt/media/chimes.wav" ContentType="audio/x-wav"/>
  <Override PartName="/ppt/media/image16.jpeg" ContentType="image/jpeg"/>
  <Override PartName="/ppt/media/image3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EC3-D6BB-458B-8044-416ECC06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7C1-4701-41DF-BD87-7017A00F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B85-6432-4E97-97DA-0A4C6496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65A-46C4-4A90-B9C3-31A099BA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A307-5055-4A37-8CC2-3325F229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047A-EE10-4024-AC8C-B912B6EA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0846-7B86-4BE6-B147-D253D79D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4562-095A-4B8F-9EDC-B4422CE9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AC68-E3D2-4D8C-9764-C62322A0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F008-B196-4FFE-AF7F-C8A30863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CBD1-780E-4E9A-94EE-F7DED8F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EEF-FC7D-4EA7-9E2A-5681244C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8E3B-8588-4FCF-9EA5-8FB1319C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3068-BA56-4FAE-B392-6174D3EA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931F-310F-4398-839B-25CFB508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84D3-7BBB-4773-8DCD-AC0780EE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F115-468D-4E55-B810-556D3483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B63-5E71-4098-86D3-317A31A9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868-51FE-485F-AFED-8AC7056A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BBB-9323-4349-A8B6-3AFF7ECF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65B-079B-41F6-B460-F6DFAC1B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FAC-0DEA-46DF-BEF0-C2542DC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A10-C88B-4C52-90DE-5817B37A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841-CE54-42FE-9316-38E9D457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497B-B8F6-4BF7-A659-F9D31E41D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A0BA-ADA9-47EC-9BF1-AEED56D298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606600" y="1743120"/>
            <a:ext cx="796104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血流的管道—血管</a:t>
            </a:r>
            <a:r>
              <a:rPr b="1" lang="en-US" sz="4000" spc="1" strike="noStrike">
                <a:ln w="1260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ffff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922400" y="692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章    人体内物质的运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1041480" y="3429000"/>
            <a:ext cx="3744720" cy="2583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三种血管关系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返回图标"/>
          <p:cNvPicPr/>
          <p:nvPr/>
        </p:nvPicPr>
        <p:blipFill>
          <a:blip r:embed="rId2"/>
          <a:stretch/>
        </p:blipFill>
        <p:spPr>
          <a:xfrm>
            <a:off x="7848720" y="6226200"/>
            <a:ext cx="12445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676520" y="53341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血液流动方向示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血液流动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隶书"/>
              </a:rPr>
              <a:t>三种血管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125360"/>
          <a:ext cx="8713800" cy="5398920"/>
        </p:xfrm>
        <a:graphic>
          <a:graphicData uri="http://schemas.openxmlformats.org/drawingml/2006/table">
            <a:tbl>
              <a:tblPr/>
              <a:tblGrid>
                <a:gridCol w="1368360"/>
                <a:gridCol w="2376720"/>
                <a:gridCol w="2663640"/>
                <a:gridCol w="2305080"/>
              </a:tblGrid>
              <a:tr h="795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 </a:t>
                      </a: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血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定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结构特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血流速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动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2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静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毛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cc00"/>
                          </a:solidFill>
                          <a:latin typeface="Arial"/>
                          <a:ea typeface="隶书"/>
                        </a:rPr>
                        <a:t>血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30"/>
          <p:cNvSpPr/>
          <p:nvPr/>
        </p:nvSpPr>
        <p:spPr>
          <a:xfrm>
            <a:off x="1835280" y="213372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心脏       身体各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2268360" y="3933720"/>
            <a:ext cx="7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1763640" y="5013360"/>
            <a:ext cx="21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连接最小动脉和静脉的血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3635280" y="220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3924360" y="2205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4356000" y="198900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分布较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管壁厚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弹性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723600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7"/>
          <p:cNvSpPr/>
          <p:nvPr/>
        </p:nvSpPr>
        <p:spPr>
          <a:xfrm>
            <a:off x="4067280" y="342900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分布较浅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隶书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管壁薄、弹性小，有静脉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8"/>
          <p:cNvSpPr/>
          <p:nvPr/>
        </p:nvSpPr>
        <p:spPr>
          <a:xfrm>
            <a:off x="7236000" y="3645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4140360" y="508464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分布广泛，管壁非常薄、管内直径仅有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微米，只许红细胞单行通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7236000" y="544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最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43280" y="2492280"/>
            <a:ext cx="576360" cy="360"/>
            <a:chOff x="2843280" y="2492280"/>
            <a:chExt cx="576360" cy="360"/>
          </a:xfrm>
        </p:grpSpPr>
        <p:sp>
          <p:nvSpPr>
            <p:cNvPr id="154" name="Line 51"/>
            <p:cNvSpPr/>
            <p:nvPr/>
          </p:nvSpPr>
          <p:spPr>
            <a:xfrm>
              <a:off x="2843280" y="249228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843280" y="249228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52"/>
          <p:cNvSpPr/>
          <p:nvPr/>
        </p:nvSpPr>
        <p:spPr>
          <a:xfrm>
            <a:off x="1692360" y="3645000"/>
            <a:ext cx="187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身体各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心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8000" y="4653000"/>
            <a:ext cx="576360" cy="360"/>
            <a:chOff x="1908000" y="4653000"/>
            <a:chExt cx="576360" cy="360"/>
          </a:xfrm>
        </p:grpSpPr>
        <p:sp>
          <p:nvSpPr>
            <p:cNvPr id="158" name="Line 53"/>
            <p:cNvSpPr/>
            <p:nvPr/>
          </p:nvSpPr>
          <p:spPr>
            <a:xfrm>
              <a:off x="1908000" y="4653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8000" y="46530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438280" y="83808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达标检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143000" y="2514600"/>
            <a:ext cx="70866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观察小鱼尾鳍内的血液流动，看到毛细血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 ,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流速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细胞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通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334520" y="4900680"/>
            <a:ext cx="186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单排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657600" y="41911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最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400800" y="3276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最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xuegh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971800" y="4191120"/>
            <a:ext cx="1066680" cy="360"/>
            <a:chOff x="2971800" y="4191120"/>
            <a:chExt cx="1066680" cy="360"/>
          </a:xfrm>
        </p:grpSpPr>
        <p:sp>
          <p:nvSpPr>
            <p:cNvPr id="167" name="Line 3"/>
            <p:cNvSpPr/>
            <p:nvPr/>
          </p:nvSpPr>
          <p:spPr>
            <a:xfrm>
              <a:off x="2971800" y="4191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971800" y="41911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"/>
          <p:cNvSpPr/>
          <p:nvPr/>
        </p:nvSpPr>
        <p:spPr>
          <a:xfrm>
            <a:off x="2439720" y="37339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391520" y="4114800"/>
            <a:ext cx="1066680" cy="360"/>
            <a:chOff x="7391520" y="4114800"/>
            <a:chExt cx="1066680" cy="360"/>
          </a:xfrm>
        </p:grpSpPr>
        <p:sp>
          <p:nvSpPr>
            <p:cNvPr id="171" name="Line 5"/>
            <p:cNvSpPr/>
            <p:nvPr/>
          </p:nvSpPr>
          <p:spPr>
            <a:xfrm>
              <a:off x="7391520" y="4114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7391520" y="41148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6"/>
          <p:cNvSpPr/>
          <p:nvPr/>
        </p:nvSpPr>
        <p:spPr>
          <a:xfrm>
            <a:off x="8588160" y="36576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638680" y="4800600"/>
            <a:ext cx="360" cy="990720"/>
            <a:chOff x="5638680" y="4800600"/>
            <a:chExt cx="360" cy="990720"/>
          </a:xfrm>
        </p:grpSpPr>
        <p:sp>
          <p:nvSpPr>
            <p:cNvPr id="175" name="Line 7"/>
            <p:cNvSpPr/>
            <p:nvPr/>
          </p:nvSpPr>
          <p:spPr>
            <a:xfrm>
              <a:off x="5638680" y="4800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5638680" y="480060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8"/>
          <p:cNvSpPr/>
          <p:nvPr/>
        </p:nvSpPr>
        <p:spPr>
          <a:xfrm>
            <a:off x="5395680" y="58150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781320" y="3505320"/>
            <a:ext cx="305280" cy="457200"/>
            <a:chOff x="6781320" y="3505320"/>
            <a:chExt cx="305280" cy="457200"/>
          </a:xfrm>
        </p:grpSpPr>
        <p:sp>
          <p:nvSpPr>
            <p:cNvPr id="179" name="Line 9"/>
            <p:cNvSpPr/>
            <p:nvPr/>
          </p:nvSpPr>
          <p:spPr>
            <a:xfrm flipH="1">
              <a:off x="6781320" y="3505320"/>
              <a:ext cx="304920" cy="4572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781680" y="350532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962520" y="3581280"/>
            <a:ext cx="380880" cy="381240"/>
            <a:chOff x="3962520" y="3581280"/>
            <a:chExt cx="380880" cy="381240"/>
          </a:xfrm>
        </p:grpSpPr>
        <p:sp>
          <p:nvSpPr>
            <p:cNvPr id="182" name="Line 10"/>
            <p:cNvSpPr/>
            <p:nvPr/>
          </p:nvSpPr>
          <p:spPr>
            <a:xfrm>
              <a:off x="3962520" y="3581280"/>
              <a:ext cx="380880" cy="381240"/>
            </a:xfrm>
            <a:prstGeom prst="line">
              <a:avLst/>
            </a:prstGeom>
            <a:ln w="5724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962520" y="3581280"/>
              <a:ext cx="38088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1"/>
          <p:cNvSpPr/>
          <p:nvPr/>
        </p:nvSpPr>
        <p:spPr>
          <a:xfrm>
            <a:off x="533520" y="4572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读图（箭头为血流方向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1170720" y="21337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管；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管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血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340000" y="2060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静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227640" y="19890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动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1763640" y="278136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毛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30" descr="练习题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27"/>
          <p:cNvSpPr/>
          <p:nvPr/>
        </p:nvSpPr>
        <p:spPr>
          <a:xfrm>
            <a:off x="0" y="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习题精选 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32"/>
          <p:cNvSpPr/>
          <p:nvPr/>
        </p:nvSpPr>
        <p:spPr>
          <a:xfrm>
            <a:off x="900000" y="1557360"/>
            <a:ext cx="861084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体内二氧化碳扩散的方向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→组织细胞→肺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细胞→静脉血→肺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→静脉血→组织细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→组织细胞→静脉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33"/>
          <p:cNvSpPr/>
          <p:nvPr/>
        </p:nvSpPr>
        <p:spPr>
          <a:xfrm>
            <a:off x="6227640" y="16286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练习题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52280" y="990720"/>
            <a:ext cx="8610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血液与组织细胞之间进行物质交换的场所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毛细血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848720" y="990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28600" y="2590920"/>
            <a:ext cx="8915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静脉瓣的作用是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保护静脉血管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防止血液倒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速血液的流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血液对静脉壁的压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809880" y="2590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练习题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0" y="533520"/>
            <a:ext cx="8991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答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医院的护士为病人输液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常先用一根胶皮管扎紧病人的上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待前臂上的血管凸现出来才一针到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知道其中的道理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6320" y="274320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这时利用了静脉瓣防止血液倒流的原理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输液时通过采用静脉注射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当橡皮筋扎紧手腕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血液不能流向手臂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同时静脉瓣又阻止血液倒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这样血液就滞留在手臂的筋脉血管中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使血管鼓胀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便于扎针时准确到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8199"/>
          <p:cNvSpPr/>
          <p:nvPr/>
        </p:nvSpPr>
        <p:spPr>
          <a:xfrm>
            <a:off x="1700280" y="533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练习题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0" y="60948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是将血液从心脏输送到身体各部分的血管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一般分布在身体的表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和动脉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壁较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弹性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血液流动的快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是颜色暗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养料少的血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3"/>
          <p:cNvGrpSpPr/>
          <p:nvPr/>
        </p:nvGrpSpPr>
        <p:grpSpPr>
          <a:xfrm>
            <a:off x="5714640" y="2666880"/>
            <a:ext cx="305280" cy="304560"/>
            <a:chOff x="5714640" y="2666880"/>
            <a:chExt cx="305280" cy="304560"/>
          </a:xfrm>
        </p:grpSpPr>
        <p:grpSp>
          <p:nvGrpSpPr>
            <p:cNvPr id="205" name=""/>
            <p:cNvGrpSpPr/>
            <p:nvPr/>
          </p:nvGrpSpPr>
          <p:grpSpPr>
            <a:xfrm>
              <a:off x="5714640" y="2666880"/>
              <a:ext cx="305280" cy="304560"/>
              <a:chOff x="5714640" y="2666880"/>
              <a:chExt cx="305280" cy="304560"/>
            </a:xfrm>
          </p:grpSpPr>
          <p:sp>
            <p:nvSpPr>
              <p:cNvPr id="206" name="Line 11"/>
              <p:cNvSpPr/>
              <p:nvPr/>
            </p:nvSpPr>
            <p:spPr>
              <a:xfrm flipH="1">
                <a:off x="5714640" y="266688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5715000" y="266688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715000" y="2666880"/>
              <a:ext cx="304920" cy="304560"/>
              <a:chOff x="5715000" y="2666880"/>
              <a:chExt cx="304920" cy="304560"/>
            </a:xfrm>
          </p:grpSpPr>
          <p:sp>
            <p:nvSpPr>
              <p:cNvPr id="209" name="Line 12"/>
              <p:cNvSpPr/>
              <p:nvPr/>
            </p:nvSpPr>
            <p:spPr>
              <a:xfrm>
                <a:off x="5715000" y="266688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5715000" y="266688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14"/>
          <p:cNvGrpSpPr/>
          <p:nvPr/>
        </p:nvGrpSpPr>
        <p:grpSpPr>
          <a:xfrm>
            <a:off x="1066320" y="4419720"/>
            <a:ext cx="305280" cy="304560"/>
            <a:chOff x="1066320" y="4419720"/>
            <a:chExt cx="305280" cy="304560"/>
          </a:xfrm>
        </p:grpSpPr>
        <p:grpSp>
          <p:nvGrpSpPr>
            <p:cNvPr id="212" name=""/>
            <p:cNvGrpSpPr/>
            <p:nvPr/>
          </p:nvGrpSpPr>
          <p:grpSpPr>
            <a:xfrm>
              <a:off x="1066320" y="4419720"/>
              <a:ext cx="305280" cy="304560"/>
              <a:chOff x="1066320" y="4419720"/>
              <a:chExt cx="305280" cy="304560"/>
            </a:xfrm>
          </p:grpSpPr>
          <p:sp>
            <p:nvSpPr>
              <p:cNvPr id="213" name="Line 15"/>
              <p:cNvSpPr/>
              <p:nvPr/>
            </p:nvSpPr>
            <p:spPr>
              <a:xfrm flipH="1">
                <a:off x="1066320" y="441972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1066680" y="44197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066680" y="4419720"/>
              <a:ext cx="304920" cy="304560"/>
              <a:chOff x="1066680" y="4419720"/>
              <a:chExt cx="304920" cy="304560"/>
            </a:xfrm>
          </p:grpSpPr>
          <p:sp>
            <p:nvSpPr>
              <p:cNvPr id="216" name="Line 16"/>
              <p:cNvSpPr/>
              <p:nvPr/>
            </p:nvSpPr>
            <p:spPr>
              <a:xfrm>
                <a:off x="1066680" y="441972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1066680" y="441972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17"/>
          <p:cNvSpPr/>
          <p:nvPr/>
        </p:nvSpPr>
        <p:spPr>
          <a:xfrm>
            <a:off x="8381880" y="12193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6803640" y="5661000"/>
            <a:ext cx="305280" cy="304560"/>
            <a:chOff x="6803640" y="5661000"/>
            <a:chExt cx="305280" cy="304560"/>
          </a:xfrm>
        </p:grpSpPr>
        <p:grpSp>
          <p:nvGrpSpPr>
            <p:cNvPr id="220" name=""/>
            <p:cNvGrpSpPr/>
            <p:nvPr/>
          </p:nvGrpSpPr>
          <p:grpSpPr>
            <a:xfrm>
              <a:off x="6803640" y="5661000"/>
              <a:ext cx="305280" cy="304560"/>
              <a:chOff x="6803640" y="5661000"/>
              <a:chExt cx="305280" cy="304560"/>
            </a:xfrm>
          </p:grpSpPr>
          <p:sp>
            <p:nvSpPr>
              <p:cNvPr id="221" name="Line 20"/>
              <p:cNvSpPr/>
              <p:nvPr/>
            </p:nvSpPr>
            <p:spPr>
              <a:xfrm flipH="1">
                <a:off x="6803640" y="566100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6804000" y="566100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804000" y="5661000"/>
              <a:ext cx="304920" cy="304560"/>
              <a:chOff x="6804000" y="5661000"/>
              <a:chExt cx="304920" cy="304560"/>
            </a:xfrm>
          </p:grpSpPr>
          <p:sp>
            <p:nvSpPr>
              <p:cNvPr id="224" name="Line 21"/>
              <p:cNvSpPr/>
              <p:nvPr/>
            </p:nvSpPr>
            <p:spPr>
              <a:xfrm>
                <a:off x="6804000" y="5661000"/>
                <a:ext cx="30492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6804000" y="566100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练习题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8078760" y="16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0" y="162864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图是在显微镜观察到的蛙蹼内两种血管的血液流动情况。据图分析图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处血管各是什么血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://www.ljzx.yanb.cn/yuanjiao/kczy/05-06xia/sw/1/07/kebiao/renjiao/2/dxlt.files/image003.jpg"/>
          <p:cNvPicPr/>
          <p:nvPr/>
        </p:nvPicPr>
        <p:blipFill>
          <a:blip r:embed="rId2"/>
          <a:stretch/>
        </p:blipFill>
        <p:spPr>
          <a:xfrm>
            <a:off x="468360" y="2637000"/>
            <a:ext cx="4680000" cy="1800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0" y="115920"/>
            <a:ext cx="2665440" cy="1440000"/>
          </a:xfrm>
          <a:custGeom>
            <a:avLst/>
            <a:gdLst>
              <a:gd name="textAreaLeft" fmla="*/ 0 w 2665440"/>
              <a:gd name="textAreaRight" fmla="*/ 2665800 w 2665440"/>
              <a:gd name="textAreaTop" fmla="*/ 374400 h 1440000"/>
              <a:gd name="textAreaBottom" fmla="*/ 10656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755640" y="35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50072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68360" y="5461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习题设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066680" y="1916280"/>
            <a:ext cx="7086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我们身体不适去医院就诊，有时医生会让我们验血，必要时还需要输液治疗。是否注意到验血或输液时，针刺的部位一般在哪里？ 还有把脉的时候在什么部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533520" y="91440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想一想：</a:t>
            </a:r>
            <a:endParaRPr b="0" lang="en-US" sz="1800" spc="1" strike="noStrike">
              <a:ln w="12600">
                <a:solidFill>
                  <a:srgbClr val="ffff00"/>
                </a:solidFill>
                <a:round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0497-DDFB-42D7-A8EF-7F2E6EEC30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0120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609480" y="22096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心有多大舞台就有多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pic_1090426132"/>
          <p:cNvPicPr/>
          <p:nvPr/>
        </p:nvPicPr>
        <p:blipFill>
          <a:blip r:embed="rId2"/>
          <a:stretch/>
        </p:blipFill>
        <p:spPr>
          <a:xfrm>
            <a:off x="0" y="6095880"/>
            <a:ext cx="9220320" cy="7686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5"/>
          <p:cNvSpPr txBox="1"/>
          <p:nvPr/>
        </p:nvSpPr>
        <p:spPr>
          <a:xfrm>
            <a:off x="762120" y="609480"/>
            <a:ext cx="4419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送给学生的话：</a:t>
            </a:r>
            <a:endParaRPr b="1" lang="en-US" sz="4400" spc="-1" strike="noStrike">
              <a:ln w="0">
                <a:noFill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067840" y="364644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拼搏才会实现心中的梦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68360" y="160020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动脉的特点和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042920" y="189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学习内容</a:t>
            </a:r>
            <a:r>
              <a:rPr b="1" lang="en-US" sz="5400" spc="-1" strike="noStrike">
                <a:solidFill>
                  <a:srgbClr val="ff3300"/>
                </a:solidFill>
                <a:latin typeface="隶书"/>
                <a:ea typeface="隶书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-181080" y="256536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静脉的特点和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68360" y="3429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毛细血管的结构和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5651640" y="1844640"/>
            <a:ext cx="901440" cy="136440"/>
          </a:xfrm>
          <a:prstGeom prst="rightArrow">
            <a:avLst>
              <a:gd name="adj1" fmla="val 50000"/>
              <a:gd name="adj2" fmla="val 165080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5651640" y="2708280"/>
            <a:ext cx="901440" cy="187200"/>
          </a:xfrm>
          <a:prstGeom prst="rightArrow">
            <a:avLst>
              <a:gd name="adj1" fmla="val 50000"/>
              <a:gd name="adj2" fmla="val 120318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6084720" y="3716280"/>
            <a:ext cx="574920" cy="93600"/>
          </a:xfrm>
          <a:prstGeom prst="rightArrow">
            <a:avLst>
              <a:gd name="adj1" fmla="val 50000"/>
              <a:gd name="adj2" fmla="val 153472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6659640" y="1557360"/>
            <a:ext cx="1605960" cy="685800"/>
            <a:chOff x="6659640" y="1557360"/>
            <a:chExt cx="1605960" cy="685800"/>
          </a:xfrm>
        </p:grpSpPr>
        <p:sp>
          <p:nvSpPr>
            <p:cNvPr id="96" name="AutoShape 13"/>
            <p:cNvSpPr/>
            <p:nvPr/>
          </p:nvSpPr>
          <p:spPr>
            <a:xfrm>
              <a:off x="6659640" y="1557360"/>
              <a:ext cx="1511280" cy="685800"/>
            </a:xfrm>
            <a:custGeom>
              <a:avLst/>
              <a:gdLst>
                <a:gd name="textAreaLeft" fmla="*/ 44280 w 1511280"/>
                <a:gd name="textAreaRight" fmla="*/ 1467000 w 1511280"/>
                <a:gd name="textAreaTop" fmla="*/ 44280 h 685800"/>
                <a:gd name="textAreaBottom" fmla="*/ 641520 h 685800"/>
              </a:gdLst>
              <a:ahLst/>
              <a:rect l="textAreaLeft" t="textAreaTop" r="textAreaRight" b="textAreaBottom"/>
              <a:pathLst>
                <a:path w="47586" h="21600">
                  <a:moveTo>
                    <a:pt x="0" y="0"/>
                  </a:moveTo>
                  <a:lnTo>
                    <a:pt x="47586" y="0"/>
                  </a:lnTo>
                  <a:lnTo>
                    <a:pt x="47586" y="21600"/>
                  </a:lnTo>
                  <a:lnTo>
                    <a:pt x="0" y="21600"/>
                  </a:lnTo>
                  <a:close/>
                </a:path>
                <a:path fill="lightenLess" w="47586" h="21600">
                  <a:moveTo>
                    <a:pt x="0" y="0"/>
                  </a:moveTo>
                  <a:lnTo>
                    <a:pt x="47586" y="0"/>
                  </a:lnTo>
                  <a:lnTo>
                    <a:pt x="46186" y="1400"/>
                  </a:lnTo>
                  <a:lnTo>
                    <a:pt x="1400" y="1400"/>
                  </a:lnTo>
                  <a:close/>
                </a:path>
                <a:path fill="darken" w="47586" h="21600">
                  <a:moveTo>
                    <a:pt x="47586" y="0"/>
                  </a:moveTo>
                  <a:lnTo>
                    <a:pt x="47586" y="21600"/>
                  </a:lnTo>
                  <a:lnTo>
                    <a:pt x="46186" y="20200"/>
                  </a:lnTo>
                  <a:lnTo>
                    <a:pt x="46186" y="1400"/>
                  </a:lnTo>
                  <a:close/>
                </a:path>
                <a:path fill="darkenLess" w="47586" h="21600">
                  <a:moveTo>
                    <a:pt x="475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6186" y="20200"/>
                  </a:lnTo>
                  <a:close/>
                </a:path>
                <a:path fill="lighten" w="475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659640" y="1633680"/>
              <a:ext cx="160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’s go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6"/>
          <p:cNvGrpSpPr/>
          <p:nvPr/>
        </p:nvGrpSpPr>
        <p:grpSpPr>
          <a:xfrm>
            <a:off x="6659640" y="2492280"/>
            <a:ext cx="1605960" cy="685800"/>
            <a:chOff x="6659640" y="2492280"/>
            <a:chExt cx="1605960" cy="685800"/>
          </a:xfrm>
        </p:grpSpPr>
        <p:sp>
          <p:nvSpPr>
            <p:cNvPr id="99" name="AutoShape 27"/>
            <p:cNvSpPr/>
            <p:nvPr/>
          </p:nvSpPr>
          <p:spPr>
            <a:xfrm>
              <a:off x="6659640" y="2492280"/>
              <a:ext cx="1511280" cy="685800"/>
            </a:xfrm>
            <a:custGeom>
              <a:avLst/>
              <a:gdLst>
                <a:gd name="textAreaLeft" fmla="*/ 44280 w 1511280"/>
                <a:gd name="textAreaRight" fmla="*/ 1467000 w 1511280"/>
                <a:gd name="textAreaTop" fmla="*/ 44280 h 685800"/>
                <a:gd name="textAreaBottom" fmla="*/ 641520 h 685800"/>
              </a:gdLst>
              <a:ahLst/>
              <a:rect l="textAreaLeft" t="textAreaTop" r="textAreaRight" b="textAreaBottom"/>
              <a:pathLst>
                <a:path w="47586" h="21600">
                  <a:moveTo>
                    <a:pt x="0" y="0"/>
                  </a:moveTo>
                  <a:lnTo>
                    <a:pt x="47586" y="0"/>
                  </a:lnTo>
                  <a:lnTo>
                    <a:pt x="47586" y="21600"/>
                  </a:lnTo>
                  <a:lnTo>
                    <a:pt x="0" y="21600"/>
                  </a:lnTo>
                  <a:close/>
                </a:path>
                <a:path fill="lightenLess" w="47586" h="21600">
                  <a:moveTo>
                    <a:pt x="0" y="0"/>
                  </a:moveTo>
                  <a:lnTo>
                    <a:pt x="47586" y="0"/>
                  </a:lnTo>
                  <a:lnTo>
                    <a:pt x="46186" y="1400"/>
                  </a:lnTo>
                  <a:lnTo>
                    <a:pt x="1400" y="1400"/>
                  </a:lnTo>
                  <a:close/>
                </a:path>
                <a:path fill="darken" w="47586" h="21600">
                  <a:moveTo>
                    <a:pt x="47586" y="0"/>
                  </a:moveTo>
                  <a:lnTo>
                    <a:pt x="47586" y="21600"/>
                  </a:lnTo>
                  <a:lnTo>
                    <a:pt x="46186" y="20200"/>
                  </a:lnTo>
                  <a:lnTo>
                    <a:pt x="46186" y="1400"/>
                  </a:lnTo>
                  <a:close/>
                </a:path>
                <a:path fill="darkenLess" w="47586" h="21600">
                  <a:moveTo>
                    <a:pt x="475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6186" y="20200"/>
                  </a:lnTo>
                  <a:close/>
                </a:path>
                <a:path fill="lighten" w="475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659640" y="2568600"/>
              <a:ext cx="160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’s go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6659640" y="3357720"/>
            <a:ext cx="1605960" cy="685800"/>
            <a:chOff x="6659640" y="3357720"/>
            <a:chExt cx="1605960" cy="685800"/>
          </a:xfrm>
        </p:grpSpPr>
        <p:sp>
          <p:nvSpPr>
            <p:cNvPr id="102" name="AutoShape 30"/>
            <p:cNvSpPr/>
            <p:nvPr/>
          </p:nvSpPr>
          <p:spPr>
            <a:xfrm>
              <a:off x="6659640" y="3357720"/>
              <a:ext cx="1511280" cy="685800"/>
            </a:xfrm>
            <a:custGeom>
              <a:avLst/>
              <a:gdLst>
                <a:gd name="textAreaLeft" fmla="*/ 44280 w 1511280"/>
                <a:gd name="textAreaRight" fmla="*/ 1467000 w 1511280"/>
                <a:gd name="textAreaTop" fmla="*/ 44280 h 685800"/>
                <a:gd name="textAreaBottom" fmla="*/ 641520 h 685800"/>
              </a:gdLst>
              <a:ahLst/>
              <a:rect l="textAreaLeft" t="textAreaTop" r="textAreaRight" b="textAreaBottom"/>
              <a:pathLst>
                <a:path w="47586" h="21600">
                  <a:moveTo>
                    <a:pt x="0" y="0"/>
                  </a:moveTo>
                  <a:lnTo>
                    <a:pt x="47586" y="0"/>
                  </a:lnTo>
                  <a:lnTo>
                    <a:pt x="47586" y="21600"/>
                  </a:lnTo>
                  <a:lnTo>
                    <a:pt x="0" y="21600"/>
                  </a:lnTo>
                  <a:close/>
                </a:path>
                <a:path fill="lightenLess" w="47586" h="21600">
                  <a:moveTo>
                    <a:pt x="0" y="0"/>
                  </a:moveTo>
                  <a:lnTo>
                    <a:pt x="47586" y="0"/>
                  </a:lnTo>
                  <a:lnTo>
                    <a:pt x="46186" y="1400"/>
                  </a:lnTo>
                  <a:lnTo>
                    <a:pt x="1400" y="1400"/>
                  </a:lnTo>
                  <a:close/>
                </a:path>
                <a:path fill="darken" w="47586" h="21600">
                  <a:moveTo>
                    <a:pt x="47586" y="0"/>
                  </a:moveTo>
                  <a:lnTo>
                    <a:pt x="47586" y="21600"/>
                  </a:lnTo>
                  <a:lnTo>
                    <a:pt x="46186" y="20200"/>
                  </a:lnTo>
                  <a:lnTo>
                    <a:pt x="46186" y="1400"/>
                  </a:lnTo>
                  <a:close/>
                </a:path>
                <a:path fill="darkenLess" w="47586" h="21600">
                  <a:moveTo>
                    <a:pt x="4758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6186" y="20200"/>
                  </a:lnTo>
                  <a:close/>
                </a:path>
                <a:path fill="lighten" w="4758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1"/>
            <p:cNvSpPr/>
            <p:nvPr/>
          </p:nvSpPr>
          <p:spPr>
            <a:xfrm>
              <a:off x="6659640" y="3434040"/>
              <a:ext cx="160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’s go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609480" y="5335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脉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954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将血液从心脏输送到身体各部分去的血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0" y="2590920"/>
            <a:ext cx="3962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较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壁厚、弹性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内血流速度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GIF-217"/>
          <p:cNvPicPr/>
          <p:nvPr/>
        </p:nvPicPr>
        <p:blipFill>
          <a:blip r:embed="rId1"/>
          <a:stretch/>
        </p:blipFill>
        <p:spPr>
          <a:xfrm>
            <a:off x="0" y="60948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7"/>
          <p:cNvSpPr/>
          <p:nvPr/>
        </p:nvSpPr>
        <p:spPr>
          <a:xfrm>
            <a:off x="2209680" y="1066680"/>
            <a:ext cx="76212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33520" y="3124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1866960" y="26305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914400" y="51814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如：主动脉、肺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返回图标"/>
          <p:cNvPicPr/>
          <p:nvPr/>
        </p:nvPicPr>
        <p:blipFill>
          <a:blip r:embed="rId2"/>
          <a:stretch/>
        </p:blipFill>
        <p:spPr>
          <a:xfrm>
            <a:off x="7848720" y="6226200"/>
            <a:ext cx="1244520" cy="622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动脉和静脉的横切面"/>
          <p:cNvPicPr/>
          <p:nvPr/>
        </p:nvPicPr>
        <p:blipFill>
          <a:blip r:embed="rId3"/>
          <a:stretch/>
        </p:blipFill>
        <p:spPr>
          <a:xfrm>
            <a:off x="5486400" y="1752480"/>
            <a:ext cx="365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990720" y="457200"/>
            <a:ext cx="1447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静脉</a:t>
            </a:r>
            <a:endParaRPr b="1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pic>
        <p:nvPicPr>
          <p:cNvPr id="115" name="Picture 6" descr="GIF-218"/>
          <p:cNvPicPr/>
          <p:nvPr/>
        </p:nvPicPr>
        <p:blipFill>
          <a:blip r:embed="rId1"/>
          <a:stretch/>
        </p:blipFill>
        <p:spPr>
          <a:xfrm>
            <a:off x="228600" y="53352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2286000" y="914400"/>
            <a:ext cx="76212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954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将血液从身体各部分送回心脏的血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286000" y="2590920"/>
            <a:ext cx="685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较浅，通常看到的“青筋”就是静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壁薄、弹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内血流速度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搏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静脉瓣（四肢静脉的内表面，通常具有防止血液倒流的静脉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80880" y="3962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特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1828800" y="2666880"/>
            <a:ext cx="304920" cy="3200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静脉瓣活动示意图"/>
          <p:cNvPicPr/>
          <p:nvPr/>
        </p:nvPicPr>
        <p:blipFill>
          <a:blip r:embed="rId1"/>
          <a:stretch/>
        </p:blipFill>
        <p:spPr>
          <a:xfrm>
            <a:off x="2666880" y="533520"/>
            <a:ext cx="5791320" cy="5597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964080" y="1219320"/>
            <a:ext cx="1155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静脉瓣活动示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返回图标"/>
          <p:cNvPicPr/>
          <p:nvPr/>
        </p:nvPicPr>
        <p:blipFill>
          <a:blip r:embed="rId2"/>
          <a:stretch/>
        </p:blipFill>
        <p:spPr>
          <a:xfrm>
            <a:off x="7848720" y="6226200"/>
            <a:ext cx="12445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609480" y="533520"/>
            <a:ext cx="2133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毛细血管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812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连通于最小的动脉与静脉的血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GIF-219"/>
          <p:cNvPicPr/>
          <p:nvPr/>
        </p:nvPicPr>
        <p:blipFill>
          <a:blip r:embed="rId1"/>
          <a:stretch/>
        </p:blipFill>
        <p:spPr>
          <a:xfrm>
            <a:off x="152280" y="762120"/>
            <a:ext cx="609840" cy="7808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8"/>
          <p:cNvSpPr/>
          <p:nvPr/>
        </p:nvSpPr>
        <p:spPr>
          <a:xfrm>
            <a:off x="2819520" y="914400"/>
            <a:ext cx="76176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00200" y="289548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布广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壁非常薄、只有一层上皮细胞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内直径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—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微米，只许红细胞单    行通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注速度最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0" y="3886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特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219320" y="3124080"/>
            <a:ext cx="304560" cy="2438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毛细血管和红细胞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5410080" y="5562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毛细血管和红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血液与组织细胞之间的物质交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血液与组织细胞之间的物质交换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199"/>
          <p:cNvSpPr/>
          <p:nvPr/>
        </p:nvSpPr>
        <p:spPr>
          <a:xfrm>
            <a:off x="1781280" y="4618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00Z</dcterms:modified>
  <cp:revision>9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