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18.jpeg" ContentType="image/jpeg"/>
  <Override PartName="/ppt/media/image12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7.gif" ContentType="image/gif"/>
  <Override PartName="/ppt/media/image3.jpeg" ContentType="image/jpeg"/>
  <Override PartName="/ppt/media/drumroll.wav" ContentType="audio/x-wav"/>
  <Override PartName="/ppt/media/image16.jpeg" ContentType="image/jpeg"/>
  <Override PartName="/ppt/media/chimes.wav" ContentType="audio/x-wav"/>
  <Override PartName="/ppt/media/image13.gif" ContentType="image/gif"/>
  <Override PartName="/ppt/media/image1.gif" ContentType="image/gif"/>
  <Override PartName="/ppt/media/applause.wav" ContentType="audio/x-wav"/>
  <Override PartName="/ppt/media/glas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CD8-BE5A-44C6-84A0-1386D36B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B5C4-2758-41B0-9CB9-E0C65A45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183-B813-4D16-BF88-8DF7C54B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A42-8A69-477E-9C46-B42D8DA9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D2A6-FF40-4C65-B1E6-8700D1C6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5F4B-2176-4041-9741-B117BF77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8D39-F38A-4BC2-A329-F85B81CE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6717-9B4C-4F79-8401-BAFC41FC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A00E-3BB8-4555-99C1-CD85E418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7B6E-5204-4D6A-A13F-DDBA451E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7DBE-3DB8-4D2C-8C3D-3B472233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53C-24A5-45CC-997D-EFDD2EDF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6EB2-5A69-476D-95FC-5BAFFEDC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436E-8B10-401C-BDE5-F3E0F714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994E-CBE2-47DF-86F9-2209F9D9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E8BB-F34F-4A07-B636-840006D1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ADB7-85B3-407C-8D88-745A153E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661-8A3E-4B94-9B34-F651C8F5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86E-A94F-4EC6-8783-606FD46B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35A-77B7-4F27-9392-A80C5471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63D-1D90-4F0C-A7AD-4A53DD2B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3B04-A6F4-4C71-85EA-0E2D7605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6A0-B47F-47ED-B687-500C91B1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236A-6BDE-406E-B631-CABADE7E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69F1-6A7E-46EE-A349-5165C96A4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55B4-C4CA-4622-82BE-D0E2E3CAA8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1752480" y="1454040"/>
            <a:ext cx="5639040" cy="12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2.2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latin typeface="宋体"/>
              </a:rPr>
              <a:t>享受学习课件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4"/>
                  <a:srcRect/>
                  <a:stretch/>
                </a:blipFill>
                <a:latin typeface="宋体"/>
              </a:rPr>
              <a:t>模板免费下载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blipFill rotWithShape="0">
                <a:blip r:embed="rId5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190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8960" y="190476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个故事告诉我们什么道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040526037b_2"/>
          <p:cNvPicPr/>
          <p:nvPr/>
        </p:nvPicPr>
        <p:blipFill>
          <a:blip r:embed="rId1"/>
          <a:stretch/>
        </p:blipFill>
        <p:spPr>
          <a:xfrm>
            <a:off x="380880" y="533520"/>
            <a:ext cx="3962520" cy="419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印度童工的悲惨命运"/>
          <p:cNvPicPr/>
          <p:nvPr/>
        </p:nvPicPr>
        <p:blipFill>
          <a:blip r:embed="rId2"/>
          <a:stretch/>
        </p:blipFill>
        <p:spPr>
          <a:xfrm>
            <a:off x="4876920" y="533520"/>
            <a:ext cx="3809880" cy="4190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362600" y="49528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失学儿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938200" y="4952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印度童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BV-0415"/>
          <p:cNvPicPr/>
          <p:nvPr/>
        </p:nvPicPr>
        <p:blipFill>
          <a:blip r:embed="rId1"/>
          <a:stretch/>
        </p:blipFill>
        <p:spPr>
          <a:xfrm>
            <a:off x="0" y="228600"/>
            <a:ext cx="4495680" cy="4413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040302011b_2"/>
          <p:cNvPicPr/>
          <p:nvPr/>
        </p:nvPicPr>
        <p:blipFill>
          <a:blip r:embed="rId2"/>
          <a:stretch/>
        </p:blipFill>
        <p:spPr>
          <a:xfrm>
            <a:off x="4800600" y="0"/>
            <a:ext cx="396252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3047040" y="51055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渴望学习的孩子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哭泣的儿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哭泣的儿童"/>
          <p:cNvPicPr/>
          <p:nvPr/>
        </p:nvPicPr>
        <p:blipFill>
          <a:blip r:embed="rId1"/>
          <a:stretch/>
        </p:blipFill>
        <p:spPr>
          <a:xfrm>
            <a:off x="1066680" y="1295280"/>
            <a:ext cx="1097280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看了他们的遭遇后，你有什么感受？你觉得能够学习是一种享受、一种幸福还是一种痛苦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sms_5"/>
          <p:cNvPicPr/>
          <p:nvPr/>
        </p:nvPicPr>
        <p:blipFill>
          <a:blip r:embed="rId1"/>
          <a:stretch/>
        </p:blipFill>
        <p:spPr>
          <a:xfrm>
            <a:off x="7086600" y="5511960"/>
            <a:ext cx="1600200" cy="853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533520" y="3429000"/>
            <a:ext cx="8153280" cy="1630440"/>
          </a:xfrm>
          <a:prstGeom prst="rect">
            <a:avLst/>
          </a:prstGeom>
          <a:solidFill>
            <a:srgbClr val="ffff00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享有学习的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权利和机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多么令人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二、探索世界的奥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回忆你小时侯不能理解的问题，它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现在你明白了，你是什么时候懂得其原因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是怎样知道这些答案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不学习，你能知道答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埃及金字塔的建成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考古学家及科学家们研究推测，建造金字塔这样浩大的工程，至少须花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及许多工人的劳力才得以完成。通常一次都是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名工人一同工作，每三个月轮替一次，交换做着这极为辛苦又危险的劳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25764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ttp://www.zskxg.com/p-science/jingzhita002.JPG"/>
          <p:cNvPicPr/>
          <p:nvPr/>
        </p:nvPicPr>
        <p:blipFill>
          <a:blip r:embed="rId1"/>
          <a:stretch/>
        </p:blipFill>
        <p:spPr>
          <a:xfrm>
            <a:off x="4724280" y="762120"/>
            <a:ext cx="4419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埃及金字塔的建成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建金字塔所用的石块，有的就地取材，有的采自尼罗河西岸或亚斯文，然后再利用尼罗河以小船运至工地。由河岸到工地，劳工们需以劳力再加上铺在地面的树干，慢慢地拖至工地。建筑金字塔必须一层一层往上垒，所以工人们还得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搭建运建材的斜坡，然后再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的光阴将金字塔完成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25764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http://www.zskxg.com/p-science/jingzhita002.JPG"/>
          <p:cNvPicPr/>
          <p:nvPr/>
        </p:nvPicPr>
        <p:blipFill>
          <a:blip r:embed="rId1"/>
          <a:stretch/>
        </p:blipFill>
        <p:spPr>
          <a:xfrm>
            <a:off x="4724280" y="762120"/>
            <a:ext cx="4419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恐龙的灭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228960" y="609120"/>
            <a:ext cx="7086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学家们对此一直争论不休。有的说是地球在那个时候发生了地质上的造山运动，因为平地上长出许多高山来，沼泽便减少了，气候也变得不那么湿润温暖了。恐龙的呼吸器官不能适应干冷干热的空气，而且一到冬天，恐龙的食物也没有了，所以就走上了绝路。有的说是超新星爆发引起地球气候发生强烈变化，温度骤然升高后又降得很低的缘故。还有的说是恐龙吃了大量的有花植物，这些花中有很多毒素，恐龙又食量很大，所以中毒而死。证据是那个时候开始出现了有花植物。还有人别出心裁地说，是因为恐龙这种巨大的动物因吃的太多且不断放屁，向空中释放大量的甲烷气体。由于它们数量太多，生存时间又长，所以破坏了地球的臭氧层造成毁灭性气候。甚至还有人说是外星人跑到地球来猎取的结果，因为它们觉得恐龙肉特别好吃。证据是他们在北极发现的恐龙骨胳化石有像被激光切割的痕迹。总之，真可谓是五花八门，无奇不有。但是，普遍被大家认可的是陨石撞击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kl57"/>
          <p:cNvPicPr/>
          <p:nvPr/>
        </p:nvPicPr>
        <p:blipFill>
          <a:blip r:embed="rId1"/>
          <a:stretch/>
        </p:blipFill>
        <p:spPr>
          <a:xfrm>
            <a:off x="6629400" y="762120"/>
            <a:ext cx="2514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恐龙的灭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228960" y="609120"/>
            <a:ext cx="7086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科学家们对此一直争论不休。有的说是地球在那个时候发生了地质上的造山运动，因为平地上长出许多高山来，沼泽便减少了，气候也变得不那么湿润温暖了。恐龙的呼吸器官不能适应干冷干热的空气，而且一到冬天，恐龙的食物也没有了，所以就走上了绝路。有的说是超新星爆发引起地球气候发生强烈变化，温度骤然升高后又降得很低的缘故。还有的说是恐龙吃了大量的有花植物，这些花中有很多毒素，恐龙又食量很大，所以中毒而死。证据是那个时候开始出现了有花植物。总之，真可谓是五花八门，无奇不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kl57"/>
          <p:cNvPicPr/>
          <p:nvPr/>
        </p:nvPicPr>
        <p:blipFill>
          <a:blip r:embed="rId1"/>
          <a:stretch/>
        </p:blipFill>
        <p:spPr>
          <a:xfrm>
            <a:off x="6629400" y="762120"/>
            <a:ext cx="2514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304920" y="10666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一、学习新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04920" y="1981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二、做学习的管理者（学会学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62120" y="2819520"/>
            <a:ext cx="762624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、学会自主学习     </a:t>
            </a:r>
            <a:r>
              <a:rPr b="1" lang="en-US" sz="28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、提高学习效率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、科学安排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、根据自己的学习方式，结合老师的教学实际，找到适合自己的方法。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  <a:ea typeface="黑体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68360" y="5445000"/>
            <a:ext cx="706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三、了解自己的学习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0880" y="228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温习旧知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飞碟与外星人来自於何处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4419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自外星球∶这个说法较为大家所接受，宇宙千千万万亿个星体中，实难说明有生物的地方只有地球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自地底文明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0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美国作家首先提出地球中空的说法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5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巴西人休基宁正式提出飞碟来自地心的理论，认为地球内部住有文明程度比我们高的人类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自未来∶飞碟不是飞越空间而来的，而是超越时间而来的， 它是未来地球人的交通工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71484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http://news.china.com/zh_cn/focus/waixingren/model_images/10000426_modpic2.jpg"/>
          <p:cNvPicPr/>
          <p:nvPr/>
        </p:nvPicPr>
        <p:blipFill>
          <a:blip r:embed="rId1"/>
          <a:stretch/>
        </p:blipFill>
        <p:spPr>
          <a:xfrm>
            <a:off x="4267080" y="609480"/>
            <a:ext cx="4876920" cy="30481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371484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http://news.china.com/zh_cn/focus/waixingren/model_images/10000426_modpic3.jpg"/>
          <p:cNvPicPr/>
          <p:nvPr/>
        </p:nvPicPr>
        <p:blipFill>
          <a:blip r:embed="rId2"/>
          <a:stretch/>
        </p:blipFill>
        <p:spPr>
          <a:xfrm>
            <a:off x="4267080" y="365760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33520" y="7621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了解世界的奥秘，好奇心获得满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990720" y="3124080"/>
            <a:ext cx="1523880" cy="866880"/>
          </a:xfrm>
          <a:prstGeom prst="rightArrow">
            <a:avLst>
              <a:gd name="adj1" fmla="val 50000"/>
              <a:gd name="adj2" fmla="val 439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266280" y="3200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终身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523880" y="18284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苦：需要克服困难，刻苦努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315000" y="1752480"/>
            <a:ext cx="1826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享受学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是苦乐交织的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1447920" y="1905120"/>
            <a:ext cx="431640" cy="30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78480 h 3025800"/>
              <a:gd name="textAreaBottom" fmla="*/ 294732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9"/>
          <p:cNvSpPr txBox="1"/>
          <p:nvPr/>
        </p:nvSpPr>
        <p:spPr>
          <a:xfrm>
            <a:off x="900000" y="476280"/>
            <a:ext cx="2843280" cy="10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66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小结</a:t>
            </a:r>
            <a:endParaRPr b="1" lang="en-US" sz="1800" spc="1" strike="noStrike">
              <a:ln w="12600">
                <a:solidFill>
                  <a:srgbClr val="ff0066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2743200" y="2438280"/>
            <a:ext cx="457200" cy="2797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2720 h 2797200"/>
              <a:gd name="textAreaBottom" fmla="*/ 2724480 h 279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1447920" y="3657600"/>
            <a:ext cx="1218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3276720" y="2438280"/>
            <a:ext cx="5638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断发现自身潜能，不断超越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3276720" y="3352680"/>
            <a:ext cx="5638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享有学习的机会与权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3276720" y="4495680"/>
            <a:ext cx="5638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世界的奥秘，好奇心获得满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堂练习：最佳选择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88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以下情形中，能够让我们感受到学习的快乐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我们的好奇心在学习中得到满足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我们通过学习发现自己潜能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我们逐渐从学习中了解到世界奥秘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我们在学习中遇到难题无法解决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 ①②④        B. ②③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 ①③④        D. ①②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3048120" y="1600200"/>
            <a:ext cx="576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D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609480"/>
            <a:ext cx="83059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华人民共和国义务教育法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规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国家、社会、学校和家庭依法保障适龄儿童、少年接受义务教育的权利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说明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是我们享有的权利和机会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是法律规定的义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是失学者的一种快乐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是个人自愿的，不应该加以强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3"/>
          <p:cNvSpPr txBox="1"/>
          <p:nvPr/>
        </p:nvSpPr>
        <p:spPr>
          <a:xfrm>
            <a:off x="1523880" y="1905120"/>
            <a:ext cx="576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A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2" name="文本框 8199"/>
          <p:cNvSpPr/>
          <p:nvPr/>
        </p:nvSpPr>
        <p:spPr>
          <a:xfrm>
            <a:off x="2655720" y="2408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880" y="380520"/>
            <a:ext cx="83059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荀子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积跬步，无以至千里；不积小流，无以成江海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对我们初中学习生活的启示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应该把学习当成一种享受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握好初中学习生活，我们就无忧无虑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要注意方法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握好初中学习生活，不断地探索和发现将使我们终身受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3"/>
          <p:cNvSpPr txBox="1"/>
          <p:nvPr/>
        </p:nvSpPr>
        <p:spPr>
          <a:xfrm>
            <a:off x="3276720" y="1219320"/>
            <a:ext cx="576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D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之者不如好之者，好之者不如乐知者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说明要享受学习，很重要的一点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发现学习的苦与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道乐学的重要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掌握科学的学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中只有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3"/>
          <p:cNvSpPr txBox="1"/>
          <p:nvPr/>
        </p:nvSpPr>
        <p:spPr>
          <a:xfrm>
            <a:off x="1295280" y="1371600"/>
            <a:ext cx="576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B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CDA8-FCFA-4A0F-9B79-F7292B31A1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609480"/>
            <a:ext cx="83059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小林总是抱怨：上中学后，作业多、考试多，成绩还没有小学时候高，学习真是太苦了。要使小林改变这种态度，小林应该认识到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是一个探究和发现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过学习可以发现自身的潜能，获得一种超越自己的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本来就是这个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享有学习的机会本身就是一种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 ①②③       B. ①②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 ②③④       D. ①③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3"/>
          <p:cNvSpPr txBox="1"/>
          <p:nvPr/>
        </p:nvSpPr>
        <p:spPr>
          <a:xfrm>
            <a:off x="2286000" y="1752480"/>
            <a:ext cx="576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B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书山有路勤为径，</a:t>
            </a:r>
            <a:br>
              <a:rPr sz="5400"/>
            </a:b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学海无涯苦作舟。</a:t>
            </a:r>
            <a:br>
              <a:rPr sz="5400"/>
            </a:b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－－韩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9000"/>
            <a:ext cx="64767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不经一番寒彻骨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怎得梅花扑鼻香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－－裴　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3_1273579794vJj9_eps_thumb_m"/>
          <p:cNvPicPr/>
          <p:nvPr/>
        </p:nvPicPr>
        <p:blipFill>
          <a:blip r:embed="rId1"/>
          <a:stretch/>
        </p:blipFill>
        <p:spPr>
          <a:xfrm>
            <a:off x="609480" y="457200"/>
            <a:ext cx="2857680" cy="373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3_12732436014bKg_eps_thumb_m"/>
          <p:cNvPicPr/>
          <p:nvPr/>
        </p:nvPicPr>
        <p:blipFill>
          <a:blip r:embed="rId2"/>
          <a:stretch/>
        </p:blipFill>
        <p:spPr>
          <a:xfrm>
            <a:off x="5334120" y="3733920"/>
            <a:ext cx="3238560" cy="2590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6"/>
          <p:cNvSpPr/>
          <p:nvPr/>
        </p:nvSpPr>
        <p:spPr>
          <a:xfrm>
            <a:off x="5562720" y="1371600"/>
            <a:ext cx="2971800" cy="1828800"/>
          </a:xfrm>
          <a:prstGeom prst="wedgeRoundRectCallout">
            <a:avLst>
              <a:gd name="adj1" fmla="val -20888"/>
              <a:gd name="adj2" fmla="val 73439"/>
              <a:gd name="adj3" fmla="val 16667"/>
            </a:avLst>
          </a:prstGeom>
          <a:solidFill>
            <a:srgbClr val="ccff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715000" y="17524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别给我说学习的事，我们去打篮球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838080" y="4114800"/>
            <a:ext cx="3429000" cy="2057400"/>
          </a:xfrm>
          <a:prstGeom prst="wedgeRoundRectCallout">
            <a:avLst>
              <a:gd name="adj1" fmla="val -24907"/>
              <a:gd name="adj2" fmla="val 22685"/>
              <a:gd name="adj3" fmla="val 16667"/>
            </a:avLst>
          </a:prstGeom>
          <a:solidFill>
            <a:srgbClr val="ccff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219320" y="44956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你们先去吧，打篮球没有解数学题有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236196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2742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漫画中的人物对学习各持什么态度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信纸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294920" y="3200040"/>
            <a:ext cx="63248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黑体"/>
              </a:rPr>
              <a:t>学习是苦还是乐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花边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6"/>
          <p:cNvSpPr txBox="1"/>
          <p:nvPr/>
        </p:nvSpPr>
        <p:spPr>
          <a:xfrm>
            <a:off x="1371600" y="1600200"/>
            <a:ext cx="2895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各抒己见：</a:t>
            </a:r>
            <a:endParaRPr b="0" lang="en-US" sz="6000" spc="1" strike="noStrike">
              <a:ln w="12600">
                <a:solidFill>
                  <a:srgbClr val="eaeaea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3" name="Picture 7" descr="p21726"/>
          <p:cNvPicPr/>
          <p:nvPr/>
        </p:nvPicPr>
        <p:blipFill>
          <a:blip r:embed="rId3"/>
          <a:stretch/>
        </p:blipFill>
        <p:spPr>
          <a:xfrm>
            <a:off x="0" y="160020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一、学习中的苦与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总：学习对我们每个人来说，都是苦乐交织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苦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是一个探究和发现的过程，需要克服困难、刻苦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乐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这个过程中，我们不断发现自己的潜能，获得一种不断超越自己的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76212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故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有个小男孩嫌学习太苦、太累，书包太重，他希望什么事都不要做。在他的苦苦哀求下，小魔仙将他带到了一个地方，告诉他：“这里不用做任何事，不用背书、写作业，喜欢干什么就干什么。”小男孩高兴极了：“哇，这就是梦想中的天堂啊！”他不停地玩，不停地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57200" y="53352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许多天过去了，他开始厌倦这一切。他又找到小魔仙，央求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让我做一点事吗？哪怕是一点点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，这里没有任何事，一点点都没有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男孩只好继续吃、睡、玩，过了不久，他实在受不了了，哭者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再不让我做一点事，我宁愿下地狱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魔仙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里就是地狱啊，你以为它是天堂吗？这儿没有劳动，没有希望，没有前途，自然不会有乐趣和幸福了。什么也不做带来的心灵煎熬，其实是世界上最辛苦的事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3:50:4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19Z</dcterms:modified>
  <cp:revision>5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