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16.png" ContentType="image/pn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8E83-45C0-43BE-AC2A-3D2975C1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6EE9-25ED-4E61-B144-DFEDF1FD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926-DDC1-4705-B009-C700314F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189-7A25-4FB2-B0A3-B1B918B9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68BA-C22F-4E86-8754-815838F0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B730-0657-469C-A244-C1773F89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8606-3566-4277-8067-B7E78B28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707-3271-46F3-A910-D9A1DD55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ABB0-BE74-41A3-AF4C-009A9DC1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F9AF-A1A4-4B30-962D-7B2326EF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EDEB-BECF-438E-893B-CEA59CD8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587-7042-4DDF-B4F9-C538A957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76B9-C99B-4AC3-8E65-CEDBD189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F913-BF2B-4AD8-B731-4602A8AF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2F41-E692-4D75-93CB-C2B3A9BA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73D3-2D70-4E8C-8D1D-514AEE27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2B83-B798-4DC6-8B23-27FA8E22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F69DE-EF9D-43E3-A1DC-C53E7D5A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C3BCD-C8B2-420B-B722-CC9BEEEE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A3BA6-330F-47F1-BDAB-B3B56DDC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E24D-C3B6-4591-AE3E-2621E5A1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70CD-2ACE-4BFD-872B-862E5308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1F8-A812-4FE1-8BBB-52AB8A2B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82C5B-A500-4A00-9C55-93148614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A114-709A-4FDF-9730-B09150FD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23411-F597-4576-AEAB-3CFEA34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CB92B-26F0-44B0-8B0C-0D95317C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800BE-0B98-49D7-9ACB-4790167F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B04AC-7397-4D34-891D-78D7263D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7D6C-49A1-4BCC-B2AC-DBBCA3A3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645CB-BC5F-4B5C-990E-802A94FC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B68F-69F1-41EA-BB44-5220A70E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ED47-628D-4AEE-A300-ACDE49C8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A089-5BEF-46B7-9749-9B55883B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924FF-928D-480E-9139-4CB1C21F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0F4E-0DE9-4D4C-A445-62B62FF0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4C0B1-FCFA-4E2F-A0C1-2D8786B1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D5EE2-E65F-4C64-8893-435A431F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5CDF0-84BD-474F-8C5C-9B6E941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07729-39D6-474E-AC64-457A4A2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E477-4ED2-42FE-BCF3-62A74BE5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5196D-0064-408A-8BCA-C1CD63F1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C92DE-2F10-4AD9-B30B-53799639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6938-BE62-4ACD-A5BF-D56D227B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98D-758E-4ADE-96D1-FC9FEBEF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66C-7400-49F2-8D46-3A3E61C8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842-EBAA-487C-8BD4-C71EBA0F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E05-74EE-465F-95A1-A448ABBC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337C-8F48-48FF-849B-1D2932A223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962840" y="152280"/>
            <a:ext cx="360" cy="1524240"/>
            <a:chOff x="7962840" y="152280"/>
            <a:chExt cx="360" cy="1524240"/>
          </a:xfrm>
        </p:grpSpPr>
        <p:sp>
          <p:nvSpPr>
            <p:cNvPr id="42" name="Line 2"/>
            <p:cNvSpPr/>
            <p:nvPr/>
          </p:nvSpPr>
          <p:spPr>
            <a:xfrm>
              <a:off x="7962840" y="152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7962840" y="15228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12DB-0E62-485B-BB27-6B707730FF1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1" name="Oval 10"/>
            <p:cNvSpPr/>
            <p:nvPr/>
          </p:nvSpPr>
          <p:spPr>
            <a:xfrm>
              <a:off x="832140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2" name="Oval 11"/>
            <p:cNvSpPr/>
            <p:nvPr/>
          </p:nvSpPr>
          <p:spPr>
            <a:xfrm>
              <a:off x="848952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3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4" name="Oval 13"/>
            <p:cNvSpPr/>
            <p:nvPr/>
          </p:nvSpPr>
          <p:spPr>
            <a:xfrm>
              <a:off x="832140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5" name="Oval 14"/>
            <p:cNvSpPr/>
            <p:nvPr/>
          </p:nvSpPr>
          <p:spPr>
            <a:xfrm>
              <a:off x="848952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6" name="Oval 15"/>
            <p:cNvSpPr/>
            <p:nvPr/>
          </p:nvSpPr>
          <p:spPr>
            <a:xfrm>
              <a:off x="8657640" y="32004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7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8" name="Oval 17"/>
            <p:cNvSpPr/>
            <p:nvPr/>
          </p:nvSpPr>
          <p:spPr>
            <a:xfrm>
              <a:off x="832140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59" name="Oval 18"/>
            <p:cNvSpPr/>
            <p:nvPr/>
          </p:nvSpPr>
          <p:spPr>
            <a:xfrm>
              <a:off x="848952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0" name="Oval 19"/>
            <p:cNvSpPr/>
            <p:nvPr/>
          </p:nvSpPr>
          <p:spPr>
            <a:xfrm>
              <a:off x="8657640" y="488160"/>
              <a:ext cx="1195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1" name="Oval 20"/>
            <p:cNvSpPr/>
            <p:nvPr/>
          </p:nvSpPr>
          <p:spPr>
            <a:xfrm>
              <a:off x="8825760" y="488160"/>
              <a:ext cx="1195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2" name="Oval 21"/>
            <p:cNvSpPr/>
            <p:nvPr/>
          </p:nvSpPr>
          <p:spPr>
            <a:xfrm>
              <a:off x="8153280" y="655920"/>
              <a:ext cx="119880" cy="119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832140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8489520" y="65592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8657640" y="65592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815328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7" name="Oval 26"/>
            <p:cNvSpPr/>
            <p:nvPr/>
          </p:nvSpPr>
          <p:spPr>
            <a:xfrm>
              <a:off x="8321400" y="824040"/>
              <a:ext cx="119880" cy="119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8" name="Oval 27"/>
            <p:cNvSpPr/>
            <p:nvPr/>
          </p:nvSpPr>
          <p:spPr>
            <a:xfrm>
              <a:off x="8489520" y="82404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69" name="Oval 28"/>
            <p:cNvSpPr/>
            <p:nvPr/>
          </p:nvSpPr>
          <p:spPr>
            <a:xfrm>
              <a:off x="8657640" y="824040"/>
              <a:ext cx="11952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0" name="Oval 29"/>
            <p:cNvSpPr/>
            <p:nvPr/>
          </p:nvSpPr>
          <p:spPr>
            <a:xfrm>
              <a:off x="8825760" y="824040"/>
              <a:ext cx="1195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1" name="Oval 30"/>
            <p:cNvSpPr/>
            <p:nvPr/>
          </p:nvSpPr>
          <p:spPr>
            <a:xfrm>
              <a:off x="8153280" y="991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Oval 31"/>
            <p:cNvSpPr/>
            <p:nvPr/>
          </p:nvSpPr>
          <p:spPr>
            <a:xfrm>
              <a:off x="832140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489520" y="991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8657640" y="99180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815328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8321400" y="1159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489520" y="11595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8657640" y="115956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8321400" y="1327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8657640" y="1327680"/>
              <a:ext cx="1195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3222-ED9A-4988-9677-AAC7958407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7315200" y="1066680"/>
            <a:ext cx="360" cy="4496040"/>
            <a:chOff x="7315200" y="1066680"/>
            <a:chExt cx="360" cy="4496040"/>
          </a:xfrm>
        </p:grpSpPr>
        <p:sp>
          <p:nvSpPr>
            <p:cNvPr id="159" name="Line 2"/>
            <p:cNvSpPr/>
            <p:nvPr/>
          </p:nvSpPr>
          <p:spPr>
            <a:xfrm>
              <a:off x="7315200" y="10666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315200" y="1066680"/>
              <a:ext cx="360" cy="449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61" name="Group 8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2" name="Oval 9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4" name="Oval 11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5" name="Oval 12"/>
            <p:cNvSpPr/>
            <p:nvPr/>
          </p:nvSpPr>
          <p:spPr>
            <a:xfrm>
              <a:off x="749304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6" name="Oval 13"/>
            <p:cNvSpPr/>
            <p:nvPr/>
          </p:nvSpPr>
          <p:spPr>
            <a:xfrm>
              <a:off x="77770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7" name="Oval 14"/>
            <p:cNvSpPr/>
            <p:nvPr/>
          </p:nvSpPr>
          <p:spPr>
            <a:xfrm>
              <a:off x="8061480" y="32763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8" name="Oval 15"/>
            <p:cNvSpPr/>
            <p:nvPr/>
          </p:nvSpPr>
          <p:spPr>
            <a:xfrm>
              <a:off x="8345520" y="32763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9" name="Oval 16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0" name="Oval 17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1" name="Oval 18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2" name="Oval 19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3" name="Oval 20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4" name="Oval 21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5" name="Oval 22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6" name="Oval 23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7" name="Oval 24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8" name="Oval 25"/>
            <p:cNvSpPr/>
            <p:nvPr/>
          </p:nvSpPr>
          <p:spPr>
            <a:xfrm>
              <a:off x="749304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79" name="Oval 26"/>
            <p:cNvSpPr/>
            <p:nvPr/>
          </p:nvSpPr>
          <p:spPr>
            <a:xfrm>
              <a:off x="7777080" y="412740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0" name="Oval 27"/>
            <p:cNvSpPr/>
            <p:nvPr/>
          </p:nvSpPr>
          <p:spPr>
            <a:xfrm>
              <a:off x="806148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1" name="Oval 28"/>
            <p:cNvSpPr/>
            <p:nvPr/>
          </p:nvSpPr>
          <p:spPr>
            <a:xfrm>
              <a:off x="8345520" y="412740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2" name="Oval 29"/>
            <p:cNvSpPr/>
            <p:nvPr/>
          </p:nvSpPr>
          <p:spPr>
            <a:xfrm>
              <a:off x="8629560" y="412740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3" name="Oval 30"/>
            <p:cNvSpPr/>
            <p:nvPr/>
          </p:nvSpPr>
          <p:spPr>
            <a:xfrm>
              <a:off x="7493040" y="441144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4" name="Oval 31"/>
            <p:cNvSpPr/>
            <p:nvPr/>
          </p:nvSpPr>
          <p:spPr>
            <a:xfrm>
              <a:off x="77770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5" name="Oval 32"/>
            <p:cNvSpPr/>
            <p:nvPr/>
          </p:nvSpPr>
          <p:spPr>
            <a:xfrm>
              <a:off x="8061480" y="44114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6" name="Oval 33"/>
            <p:cNvSpPr/>
            <p:nvPr/>
          </p:nvSpPr>
          <p:spPr>
            <a:xfrm>
              <a:off x="8345520" y="44114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7" name="Oval 34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8" name="Oval 35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9" name="Oval 36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0" name="Oval 37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1" name="Oval 38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2" name="Oval 39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04920" y="2819520"/>
            <a:ext cx="8229600" cy="360"/>
            <a:chOff x="304920" y="2819520"/>
            <a:chExt cx="8229600" cy="360"/>
          </a:xfrm>
        </p:grpSpPr>
        <p:sp>
          <p:nvSpPr>
            <p:cNvPr id="194" name="Line 40"/>
            <p:cNvSpPr/>
            <p:nvPr/>
          </p:nvSpPr>
          <p:spPr>
            <a:xfrm>
              <a:off x="304920" y="2819520"/>
              <a:ext cx="8229600" cy="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304920" y="281952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BE82-B980-4CB7-8CC3-FA3346CAB82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WordArt 3"/>
          <p:cNvSpPr txBox="1"/>
          <p:nvPr/>
        </p:nvSpPr>
        <p:spPr>
          <a:xfrm>
            <a:off x="1432080" y="1989000"/>
            <a:ext cx="4025880" cy="8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校外探路课件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9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华文新魏"/>
                <a:ea typeface="华文新魏"/>
              </a:rPr>
              <a:t>三年级品德与社会下册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Oval 2"/>
          <p:cNvSpPr/>
          <p:nvPr/>
        </p:nvSpPr>
        <p:spPr>
          <a:xfrm>
            <a:off x="900000" y="765000"/>
            <a:ext cx="2592360" cy="64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看图填空：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619280" y="3141720"/>
            <a:ext cx="360" cy="1008000"/>
            <a:chOff x="1619280" y="3141720"/>
            <a:chExt cx="360" cy="1008000"/>
          </a:xfrm>
        </p:grpSpPr>
        <p:sp>
          <p:nvSpPr>
            <p:cNvPr id="264" name="Line 3"/>
            <p:cNvSpPr/>
            <p:nvPr/>
          </p:nvSpPr>
          <p:spPr>
            <a:xfrm>
              <a:off x="1619280" y="3141720"/>
              <a:ext cx="0" cy="100800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1619280" y="314172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619280" y="4149720"/>
            <a:ext cx="1081080" cy="360"/>
            <a:chOff x="1619280" y="4149720"/>
            <a:chExt cx="1081080" cy="360"/>
          </a:xfrm>
        </p:grpSpPr>
        <p:sp>
          <p:nvSpPr>
            <p:cNvPr id="267" name="Line 4"/>
            <p:cNvSpPr/>
            <p:nvPr/>
          </p:nvSpPr>
          <p:spPr>
            <a:xfrm>
              <a:off x="1619280" y="4149720"/>
              <a:ext cx="10810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1619280" y="41497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700000" y="3141720"/>
            <a:ext cx="360" cy="1008000"/>
            <a:chOff x="2700000" y="3141720"/>
            <a:chExt cx="360" cy="1008000"/>
          </a:xfrm>
        </p:grpSpPr>
        <p:sp>
          <p:nvSpPr>
            <p:cNvPr id="270" name="Line 5"/>
            <p:cNvSpPr/>
            <p:nvPr/>
          </p:nvSpPr>
          <p:spPr>
            <a:xfrm flipV="1">
              <a:off x="2700360" y="3141720"/>
              <a:ext cx="0" cy="100800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 rot="10800000">
              <a:off x="2700000" y="314172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619280" y="3141720"/>
            <a:ext cx="1081080" cy="360"/>
            <a:chOff x="1619280" y="3141720"/>
            <a:chExt cx="1081080" cy="360"/>
          </a:xfrm>
        </p:grpSpPr>
        <p:sp>
          <p:nvSpPr>
            <p:cNvPr id="273" name="Line 6"/>
            <p:cNvSpPr/>
            <p:nvPr/>
          </p:nvSpPr>
          <p:spPr>
            <a:xfrm>
              <a:off x="1619280" y="3141720"/>
              <a:ext cx="10810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619280" y="314172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700000" y="2133720"/>
            <a:ext cx="360" cy="1008000"/>
            <a:chOff x="2700000" y="2133720"/>
            <a:chExt cx="360" cy="1008000"/>
          </a:xfrm>
        </p:grpSpPr>
        <p:sp>
          <p:nvSpPr>
            <p:cNvPr id="276" name="Line 7"/>
            <p:cNvSpPr/>
            <p:nvPr/>
          </p:nvSpPr>
          <p:spPr>
            <a:xfrm flipV="1">
              <a:off x="2700360" y="2133720"/>
              <a:ext cx="0" cy="100800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 rot="10800000">
              <a:off x="2700000" y="213372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700360" y="2133720"/>
            <a:ext cx="1871640" cy="360"/>
            <a:chOff x="2700360" y="2133720"/>
            <a:chExt cx="1871640" cy="360"/>
          </a:xfrm>
        </p:grpSpPr>
        <p:sp>
          <p:nvSpPr>
            <p:cNvPr id="279" name="Line 8"/>
            <p:cNvSpPr/>
            <p:nvPr/>
          </p:nvSpPr>
          <p:spPr>
            <a:xfrm>
              <a:off x="2700360" y="2133720"/>
              <a:ext cx="187164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2700360" y="213372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81" name="AutoShape 9"/>
          <p:cNvSpPr/>
          <p:nvPr/>
        </p:nvSpPr>
        <p:spPr>
          <a:xfrm>
            <a:off x="1476360" y="4076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2556000" y="4076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2556000" y="3068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4" name="AutoShape 12"/>
          <p:cNvSpPr/>
          <p:nvPr/>
        </p:nvSpPr>
        <p:spPr>
          <a:xfrm>
            <a:off x="2556000" y="2060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AutoShape 13"/>
          <p:cNvSpPr/>
          <p:nvPr/>
        </p:nvSpPr>
        <p:spPr>
          <a:xfrm>
            <a:off x="4427640" y="2060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AutoShape 14"/>
          <p:cNvSpPr/>
          <p:nvPr/>
        </p:nvSpPr>
        <p:spPr>
          <a:xfrm>
            <a:off x="1476360" y="3068640"/>
            <a:ext cx="287280" cy="1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dc3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7" name="Text Box 15"/>
          <p:cNvSpPr/>
          <p:nvPr/>
        </p:nvSpPr>
        <p:spPr>
          <a:xfrm>
            <a:off x="858600" y="40370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科技馆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3007440" y="4005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新华书店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3039840" y="299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动物园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0" name="Text Box 18"/>
          <p:cNvSpPr/>
          <p:nvPr/>
        </p:nvSpPr>
        <p:spPr>
          <a:xfrm>
            <a:off x="910080" y="2924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学校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1" name="Text Box 19"/>
          <p:cNvSpPr/>
          <p:nvPr/>
        </p:nvSpPr>
        <p:spPr>
          <a:xfrm>
            <a:off x="1815840" y="19162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博物馆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2" name="Text Box 20"/>
          <p:cNvSpPr/>
          <p:nvPr/>
        </p:nvSpPr>
        <p:spPr>
          <a:xfrm>
            <a:off x="4911480" y="198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Times New Roman"/>
              </a:rPr>
              <a:t>电影院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3" name="Rectangle 21"/>
          <p:cNvSpPr/>
          <p:nvPr/>
        </p:nvSpPr>
        <p:spPr>
          <a:xfrm>
            <a:off x="468360" y="4654440"/>
            <a:ext cx="828180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动物园在新华书店的北边，科技馆在新华书店的            边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学校在科技馆的        边，在               的西边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博物馆在              的西边，在                                      的北边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、拉西要从学校到电影院，该怎么走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524720" y="5157720"/>
            <a:ext cx="719280" cy="360"/>
            <a:chOff x="7524720" y="5157720"/>
            <a:chExt cx="719280" cy="360"/>
          </a:xfrm>
        </p:grpSpPr>
        <p:sp>
          <p:nvSpPr>
            <p:cNvPr id="295" name="Line 22"/>
            <p:cNvSpPr/>
            <p:nvPr/>
          </p:nvSpPr>
          <p:spPr>
            <a:xfrm>
              <a:off x="7524720" y="5157720"/>
              <a:ext cx="7192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7524720" y="5157720"/>
              <a:ext cx="7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97" name="Text Box 23"/>
          <p:cNvSpPr/>
          <p:nvPr/>
        </p:nvSpPr>
        <p:spPr>
          <a:xfrm>
            <a:off x="7660440" y="4797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西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3132000" y="5445000"/>
            <a:ext cx="719280" cy="360"/>
            <a:chOff x="3132000" y="5445000"/>
            <a:chExt cx="719280" cy="360"/>
          </a:xfrm>
        </p:grpSpPr>
        <p:sp>
          <p:nvSpPr>
            <p:cNvPr id="299" name="Line 24"/>
            <p:cNvSpPr/>
            <p:nvPr/>
          </p:nvSpPr>
          <p:spPr>
            <a:xfrm>
              <a:off x="3132000" y="5445000"/>
              <a:ext cx="7192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3132000" y="5445000"/>
              <a:ext cx="7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861080" y="5445000"/>
            <a:ext cx="1008000" cy="360"/>
            <a:chOff x="4861080" y="5445000"/>
            <a:chExt cx="1008000" cy="360"/>
          </a:xfrm>
        </p:grpSpPr>
        <p:sp>
          <p:nvSpPr>
            <p:cNvPr id="302" name="Line 25"/>
            <p:cNvSpPr/>
            <p:nvPr/>
          </p:nvSpPr>
          <p:spPr>
            <a:xfrm>
              <a:off x="4861080" y="5445000"/>
              <a:ext cx="100800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861080" y="5445000"/>
              <a:ext cx="100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340000" y="5877000"/>
            <a:ext cx="866880" cy="360"/>
            <a:chOff x="2340000" y="5877000"/>
            <a:chExt cx="866880" cy="360"/>
          </a:xfrm>
        </p:grpSpPr>
        <p:sp>
          <p:nvSpPr>
            <p:cNvPr id="305" name="Line 26"/>
            <p:cNvSpPr/>
            <p:nvPr/>
          </p:nvSpPr>
          <p:spPr>
            <a:xfrm>
              <a:off x="2340000" y="5877000"/>
              <a:ext cx="86688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2340000" y="5877000"/>
              <a:ext cx="866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716360" y="5877000"/>
            <a:ext cx="2808360" cy="360"/>
            <a:chOff x="4716360" y="5877000"/>
            <a:chExt cx="2808360" cy="360"/>
          </a:xfrm>
        </p:grpSpPr>
        <p:sp>
          <p:nvSpPr>
            <p:cNvPr id="308" name="Line 27"/>
            <p:cNvSpPr/>
            <p:nvPr/>
          </p:nvSpPr>
          <p:spPr>
            <a:xfrm>
              <a:off x="4716360" y="5877000"/>
              <a:ext cx="2808360" cy="0"/>
            </a:xfrm>
            <a:prstGeom prst="line">
              <a:avLst/>
            </a:prstGeom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4716360" y="5877000"/>
              <a:ext cx="28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10" name="Text Box 28"/>
          <p:cNvSpPr/>
          <p:nvPr/>
        </p:nvSpPr>
        <p:spPr>
          <a:xfrm>
            <a:off x="3266280" y="501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北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1" name="Text Box 29"/>
          <p:cNvSpPr/>
          <p:nvPr/>
        </p:nvSpPr>
        <p:spPr>
          <a:xfrm>
            <a:off x="4901040" y="5086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动物园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2" name="Text Box 30"/>
          <p:cNvSpPr/>
          <p:nvPr/>
        </p:nvSpPr>
        <p:spPr>
          <a:xfrm>
            <a:off x="2381760" y="54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电影院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5350320" y="5445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动物园和新华书店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14" name="Picture 4" descr="12402415C2F30-434K2"/>
          <p:cNvPicPr/>
          <p:nvPr/>
        </p:nvPicPr>
        <p:blipFill>
          <a:blip r:embed="rId1"/>
          <a:stretch/>
        </p:blipFill>
        <p:spPr>
          <a:xfrm>
            <a:off x="6445080" y="765000"/>
            <a:ext cx="12034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D:\work\大全集\下学期送审\psd\品德与社会\02.gif"/>
          <p:cNvPicPr/>
          <p:nvPr/>
        </p:nvPicPr>
        <p:blipFill>
          <a:blip r:embed="rId1"/>
          <a:stretch/>
        </p:blipFill>
        <p:spPr>
          <a:xfrm>
            <a:off x="689040" y="1146240"/>
            <a:ext cx="2435040" cy="60624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2296440" y="1981080"/>
            <a:ext cx="44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总结怎样画路线图，并将自己的体会写出来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1119600" y="3070080"/>
            <a:ext cx="4099320" cy="2233080"/>
            <a:chOff x="1119600" y="3070080"/>
            <a:chExt cx="4099320" cy="2233080"/>
          </a:xfrm>
        </p:grpSpPr>
        <p:sp>
          <p:nvSpPr>
            <p:cNvPr id="318" name="Text Box 9"/>
            <p:cNvSpPr/>
            <p:nvPr/>
          </p:nvSpPr>
          <p:spPr>
            <a:xfrm>
              <a:off x="1138320" y="3070080"/>
              <a:ext cx="408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___________________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19" name="Text Box 10"/>
            <p:cNvSpPr/>
            <p:nvPr/>
          </p:nvSpPr>
          <p:spPr>
            <a:xfrm>
              <a:off x="1138320" y="3911760"/>
              <a:ext cx="408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___________________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320" name="Text Box 11"/>
            <p:cNvSpPr/>
            <p:nvPr/>
          </p:nvSpPr>
          <p:spPr>
            <a:xfrm>
              <a:off x="1119600" y="4782600"/>
              <a:ext cx="4080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、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___________________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21" name="Text Box 12"/>
          <p:cNvSpPr/>
          <p:nvPr/>
        </p:nvSpPr>
        <p:spPr>
          <a:xfrm>
            <a:off x="2052720" y="2997360"/>
            <a:ext cx="41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3400"/>
                </a:solidFill>
                <a:latin typeface="楷体_GB2312"/>
              </a:rPr>
              <a:t>辨认方向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1692360" y="4726080"/>
            <a:ext cx="41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3400"/>
                </a:solidFill>
                <a:latin typeface="楷体_GB2312"/>
              </a:rPr>
              <a:t>留心观察、作好记录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2052720" y="3860640"/>
            <a:ext cx="41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3400"/>
                </a:solidFill>
                <a:latin typeface="楷体_GB2312"/>
              </a:rPr>
              <a:t>设计图例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24" name="Picture 3" descr="BigPic_201046151156982"/>
          <p:cNvPicPr/>
          <p:nvPr/>
        </p:nvPicPr>
        <p:blipFill>
          <a:blip r:embed="rId2"/>
          <a:stretch/>
        </p:blipFill>
        <p:spPr>
          <a:xfrm>
            <a:off x="5364000" y="3070080"/>
            <a:ext cx="3225960" cy="314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669E-DB5F-490B-9BC2-FD7EB1847896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1763640" y="4221000"/>
            <a:ext cx="5473800" cy="11527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画一画你从学校回家的路线图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330" name="Picture 2" descr="BigPic_201046151217589"/>
          <p:cNvPicPr/>
          <p:nvPr/>
        </p:nvPicPr>
        <p:blipFill>
          <a:blip r:embed="rId1"/>
          <a:stretch/>
        </p:blipFill>
        <p:spPr>
          <a:xfrm>
            <a:off x="2340000" y="909720"/>
            <a:ext cx="4114800" cy="32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22"/>
          <p:cNvPicPr/>
          <p:nvPr/>
        </p:nvPicPr>
        <p:blipFill>
          <a:blip r:embed="rId1"/>
          <a:stretch/>
        </p:blipFill>
        <p:spPr>
          <a:xfrm>
            <a:off x="684360" y="622440"/>
            <a:ext cx="784836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222"/>
          <p:cNvPicPr/>
          <p:nvPr/>
        </p:nvPicPr>
        <p:blipFill>
          <a:blip r:embed="rId1"/>
          <a:stretch/>
        </p:blipFill>
        <p:spPr>
          <a:xfrm>
            <a:off x="612720" y="622440"/>
            <a:ext cx="792000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W020101024590484648712"/>
          <p:cNvPicPr/>
          <p:nvPr/>
        </p:nvPicPr>
        <p:blipFill>
          <a:blip r:embed="rId1"/>
          <a:stretch/>
        </p:blipFill>
        <p:spPr>
          <a:xfrm>
            <a:off x="684360" y="620640"/>
            <a:ext cx="7823160" cy="5616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4"/>
          <p:cNvSpPr/>
          <p:nvPr/>
        </p:nvSpPr>
        <p:spPr>
          <a:xfrm>
            <a:off x="2987640" y="292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47" name="Picture 2" descr="pic_220777"/>
          <p:cNvPicPr/>
          <p:nvPr/>
        </p:nvPicPr>
        <p:blipFill>
          <a:blip r:embed="rId1"/>
          <a:stretch/>
        </p:blipFill>
        <p:spPr>
          <a:xfrm>
            <a:off x="360360" y="2205000"/>
            <a:ext cx="8423280" cy="4464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755640" y="40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老师，我家的地址是从学校的南大门出发，然后朝东走，经过一座桥，沿着中山路向北走，经过农贸市场，电影院和少年宫，就到了中山路和人民路的交叉口，然后向东拐弯走向人民路，找到新华书店，书店对面的一幢五层大搂，我家就在二楼西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20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室。欢迎老师假期到我家做客。</a:t>
            </a:r>
            <a:endParaRPr b="1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9" name="文本框 8199"/>
          <p:cNvSpPr/>
          <p:nvPr/>
        </p:nvSpPr>
        <p:spPr>
          <a:xfrm>
            <a:off x="1816200" y="2143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2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614520" y="477720"/>
            <a:ext cx="7921440" cy="5904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包"/>
          <p:cNvPicPr/>
          <p:nvPr/>
        </p:nvPicPr>
        <p:blipFill>
          <a:blip r:embed="rId2"/>
          <a:stretch/>
        </p:blipFill>
        <p:spPr>
          <a:xfrm>
            <a:off x="2124000" y="2206800"/>
            <a:ext cx="1152720" cy="72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是"/>
          <p:cNvPicPr/>
          <p:nvPr/>
        </p:nvPicPr>
        <p:blipFill>
          <a:blip r:embed="rId3"/>
          <a:stretch/>
        </p:blipFill>
        <p:spPr>
          <a:xfrm>
            <a:off x="3349800" y="62244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少"/>
          <p:cNvPicPr/>
          <p:nvPr/>
        </p:nvPicPr>
        <p:blipFill>
          <a:blip r:embed="rId4"/>
          <a:stretch/>
        </p:blipFill>
        <p:spPr>
          <a:xfrm>
            <a:off x="7381800" y="3790800"/>
            <a:ext cx="1079640" cy="792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西松"/>
          <p:cNvPicPr/>
          <p:nvPr/>
        </p:nvPicPr>
        <p:blipFill>
          <a:blip r:embed="rId5"/>
          <a:stretch/>
        </p:blipFill>
        <p:spPr>
          <a:xfrm>
            <a:off x="4788000" y="3502080"/>
            <a:ext cx="1079280" cy="718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有"/>
          <p:cNvPicPr/>
          <p:nvPr/>
        </p:nvPicPr>
        <p:blipFill>
          <a:blip r:embed="rId6"/>
          <a:stretch/>
        </p:blipFill>
        <p:spPr>
          <a:xfrm>
            <a:off x="1403280" y="4221000"/>
            <a:ext cx="2095560" cy="12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pic_2207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D:\work\大全集\下学期送审\psd\品德与社会\02.gif"/>
          <p:cNvPicPr/>
          <p:nvPr/>
        </p:nvPicPr>
        <p:blipFill>
          <a:blip r:embed="rId1"/>
          <a:stretch/>
        </p:blipFill>
        <p:spPr>
          <a:xfrm>
            <a:off x="689040" y="1146240"/>
            <a:ext cx="2435040" cy="60624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3"/>
          <p:cNvSpPr/>
          <p:nvPr/>
        </p:nvSpPr>
        <p:spPr>
          <a:xfrm>
            <a:off x="1600200" y="2209680"/>
            <a:ext cx="4648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</a:rPr>
              <a:t>　　读读下面的路线图，看看读懂了什么，还有哪些不懂，大家一起来做一做。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60" name="Picture 4" descr="D:\小学数学\模版\a10.png"/>
          <p:cNvPicPr/>
          <p:nvPr/>
        </p:nvPicPr>
        <p:blipFill>
          <a:blip r:embed="rId2"/>
          <a:stretch/>
        </p:blipFill>
        <p:spPr>
          <a:xfrm>
            <a:off x="6708600" y="2895480"/>
            <a:ext cx="1368720" cy="3353040"/>
          </a:xfrm>
          <a:prstGeom prst="rect">
            <a:avLst/>
          </a:prstGeom>
          <a:ln w="0">
            <a:noFill/>
          </a:ln>
        </p:spPr>
      </p:pic>
      <p:sp>
        <p:nvSpPr>
          <p:cNvPr id="261" name="文本框 8199"/>
          <p:cNvSpPr/>
          <p:nvPr/>
        </p:nvSpPr>
        <p:spPr>
          <a:xfrm>
            <a:off x="977760" y="1752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2:51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02Z</dcterms:modified>
  <cp:revision>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