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18.jpeg" ContentType="image/jpeg"/>
  <Override PartName="/ppt/media/image6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BD5-DEA5-4C3A-AC97-20F86A1A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678-FFED-4C2B-B18E-0B232916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9B7-351D-4000-B904-AB9B4D9B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4A7-7E30-4E12-A5CD-645A7793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0960-8DC5-424D-97F3-A6319BB3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3EB7-CF1A-452B-8124-D26D7799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018C-46C6-4851-9438-E8C0F6B7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891D-E7C6-4452-B52C-51438F53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5D76-6A28-442B-B724-8CD931FA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18A4-527C-42C5-B9EF-6FAD268B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EA5F-6995-4A17-AC4D-5EA8E6C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E8C-1F5C-4B35-890D-78D3CF36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E6CB-DAB7-4C27-87C7-4952D277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667C-DD0B-42C4-843D-B62AB89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38AA-CCFE-4BB5-8D32-2217DE7C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F306-B7FE-463B-9B80-A42DDD37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CC94-28C3-4793-BE5C-CE331BEC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5507-5B7A-495F-80C2-6680E893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FB0B-DA0A-4B69-BEFB-9EFDD4B2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3030-ECCB-44C3-BDFD-4E0FC1C2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DC06-091F-45A0-873A-503CFEFF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977E-6D71-43EB-8DEB-430EB89A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D4D-05FA-409F-90A4-2FCC5A0E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DD93-D441-40B2-879C-29FACD6F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4D42E-96E2-4C7F-BF45-EC2307E0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59F5F-569D-430F-A0B9-B38D6098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CFC5-CD5C-4640-8871-AE7198B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3A1C-2729-4D4A-AA7A-826B779A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D4FB-2669-4CC9-A232-44DC9B6A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26DC-D0CF-480D-9B00-29E59AC6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3D5-49D9-4588-9791-C46DD670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DAD-5EBA-4820-AB9F-270358BA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EF7-08E9-4733-B4E8-C22F3319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EF6-7A5F-445A-BDC8-AB949842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307-7467-49C7-A711-F695CCE4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2E3-67CE-4EF7-9DED-640F80D2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8FCD-A2AB-4C35-A6CB-439846A9DA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B5DB-694D-44C6-B5E3-B94E419AB2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88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3375-93D3-4F6D-8C7A-136CA21E959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4d021099bbd785106f068c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250920" y="206064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次函数与二元一次方程组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026"/>
          <p:cNvSpPr/>
          <p:nvPr/>
        </p:nvSpPr>
        <p:spPr>
          <a:xfrm>
            <a:off x="324000" y="1197000"/>
            <a:ext cx="8388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图象法解二元一次方程组的一般步骤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两个方程化为一次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kx+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形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再把它们的图象画在同一直角坐标系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两直线交点的坐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9"/>
          <p:cNvSpPr/>
          <p:nvPr/>
        </p:nvSpPr>
        <p:spPr>
          <a:xfrm>
            <a:off x="971640" y="549360"/>
            <a:ext cx="70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例：一家电信公司给顾客提供两种上网收费方式：方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每分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的价格按上网时间计费；方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除收月基费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外再以每分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的价格按上网时间计费，如何选择收费方式能使上网者更合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30" descr=""/>
          <p:cNvPicPr/>
          <p:nvPr/>
        </p:nvPicPr>
        <p:blipFill>
          <a:blip r:embed="rId1"/>
          <a:stretch/>
        </p:blipFill>
        <p:spPr>
          <a:xfrm>
            <a:off x="1187280" y="2781360"/>
            <a:ext cx="4032360" cy="3325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32"/>
          <p:cNvSpPr/>
          <p:nvPr/>
        </p:nvSpPr>
        <p:spPr>
          <a:xfrm>
            <a:off x="684360" y="260280"/>
            <a:ext cx="7729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解法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设上网时间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，若按方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则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y=0.1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；若按方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则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y=0.05x+2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，在同一坐标系分别画出这两个函数的图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33"/>
          <p:cNvSpPr/>
          <p:nvPr/>
        </p:nvSpPr>
        <p:spPr>
          <a:xfrm>
            <a:off x="5148360" y="41497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两图象的交点坐标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657600" cy="3019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324000" y="4724280"/>
            <a:ext cx="85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答：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当一个月内上网时间少于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400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分时，选择方式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省钱；当上网时间等于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400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分时，选择方式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、方式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没有区别；当上网时间多于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400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分时，选择方式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省钱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9"/>
          <p:cNvGrpSpPr/>
          <p:nvPr/>
        </p:nvGrpSpPr>
        <p:grpSpPr>
          <a:xfrm>
            <a:off x="324000" y="333360"/>
            <a:ext cx="8229600" cy="1488960"/>
            <a:chOff x="324000" y="333360"/>
            <a:chExt cx="8229600" cy="1488960"/>
          </a:xfrm>
        </p:grpSpPr>
        <p:pic>
          <p:nvPicPr>
            <p:cNvPr id="166" name="Object 8" descr=""/>
            <p:cNvPicPr/>
            <p:nvPr/>
          </p:nvPicPr>
          <p:blipFill>
            <a:blip r:embed="rId2"/>
            <a:stretch/>
          </p:blipFill>
          <p:spPr>
            <a:xfrm>
              <a:off x="324000" y="637920"/>
              <a:ext cx="175248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Group 15"/>
            <p:cNvGrpSpPr/>
            <p:nvPr/>
          </p:nvGrpSpPr>
          <p:grpSpPr>
            <a:xfrm>
              <a:off x="2457720" y="333360"/>
              <a:ext cx="3200400" cy="1260360"/>
              <a:chOff x="2457720" y="333360"/>
              <a:chExt cx="3200400" cy="1260360"/>
            </a:xfrm>
          </p:grpSpPr>
          <p:pic>
            <p:nvPicPr>
              <p:cNvPr id="168" name="Object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990880" y="333360"/>
                <a:ext cx="2667240" cy="12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AutoShape 11"/>
              <p:cNvSpPr/>
              <p:nvPr/>
            </p:nvSpPr>
            <p:spPr>
              <a:xfrm>
                <a:off x="2457720" y="477720"/>
                <a:ext cx="304560" cy="914040"/>
              </a:xfrm>
              <a:custGeom>
                <a:avLst/>
                <a:gdLst>
                  <a:gd name="textAreaLeft" fmla="*/ 194760 w 304560"/>
                  <a:gd name="textAreaRight" fmla="*/ 304920 w 304560"/>
                  <a:gd name="textAreaTop" fmla="*/ 23760 h 914040"/>
                  <a:gd name="textAreaBottom" fmla="*/ 890280 h 91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6"/>
            <p:cNvGrpSpPr/>
            <p:nvPr/>
          </p:nvGrpSpPr>
          <p:grpSpPr>
            <a:xfrm>
              <a:off x="6343920" y="333360"/>
              <a:ext cx="2209680" cy="1488960"/>
              <a:chOff x="6343920" y="333360"/>
              <a:chExt cx="2209680" cy="1488960"/>
            </a:xfrm>
          </p:grpSpPr>
          <p:pic>
            <p:nvPicPr>
              <p:cNvPr id="171" name="Object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6801120" y="333360"/>
                <a:ext cx="1752480" cy="148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AutoShape 12"/>
              <p:cNvSpPr/>
              <p:nvPr/>
            </p:nvSpPr>
            <p:spPr>
              <a:xfrm>
                <a:off x="6343920" y="333360"/>
                <a:ext cx="380880" cy="1219320"/>
              </a:xfrm>
              <a:custGeom>
                <a:avLst/>
                <a:gdLst>
                  <a:gd name="textAreaLeft" fmla="*/ 243360 w 380880"/>
                  <a:gd name="textAreaRight" fmla="*/ 381240 w 38088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13"/>
            <p:cNvSpPr/>
            <p:nvPr/>
          </p:nvSpPr>
          <p:spPr>
            <a:xfrm>
              <a:off x="5734080" y="637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17"/>
          <p:cNvSpPr/>
          <p:nvPr/>
        </p:nvSpPr>
        <p:spPr>
          <a:xfrm>
            <a:off x="250920" y="191628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以图象交点坐标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250920" y="2565360"/>
            <a:ext cx="601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&lt;x&lt;4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.1x&lt;0.05x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=4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.1x=0.05x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&gt;4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.1x&gt;0.05x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508720" y="3068640"/>
            <a:ext cx="3276360" cy="23875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539640" y="260280"/>
            <a:ext cx="7920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法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设上网时间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，方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方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两种计费的差额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，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函数关系式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(0.05x+20)-0.1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简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－</a:t>
            </a: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0.05</a:t>
            </a:r>
            <a:r>
              <a:rPr b="1" i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+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3600360" cy="338904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8199"/>
          <p:cNvSpPr/>
          <p:nvPr/>
        </p:nvSpPr>
        <p:spPr>
          <a:xfrm>
            <a:off x="2038320" y="6297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79280" y="907920"/>
            <a:ext cx="896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小结</a:t>
            </a: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元一次方程（组）与一次函数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关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两个方面去看二元一次方程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方法：从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函数的观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认识问题、解决问题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图象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二元一次方程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9EFF-FC0A-4314-818B-35C1073367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95280" y="333360"/>
            <a:ext cx="8569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归纳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二元一次方程组与一次函数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个二元一次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方程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应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两个一次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于是也对应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两条直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角度看，二元一次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方程组的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是两直线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交点的坐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角度看，解方程组相当于考虑自变量为何值时两个函数的值相等，以及这个函数值是何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39640" y="476280"/>
            <a:ext cx="80647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探索二元一次方程与一次函数之间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元一次方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转化成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  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3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5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74170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5"/>
          <p:cNvGrpSpPr/>
          <p:nvPr/>
        </p:nvGrpSpPr>
        <p:grpSpPr>
          <a:xfrm>
            <a:off x="1116000" y="549360"/>
            <a:ext cx="7238880" cy="5288040"/>
            <a:chOff x="1116000" y="549360"/>
            <a:chExt cx="7238880" cy="528804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1116000" y="549360"/>
              <a:ext cx="7238880" cy="52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3"/>
            <p:cNvSpPr/>
            <p:nvPr/>
          </p:nvSpPr>
          <p:spPr>
            <a:xfrm>
              <a:off x="7821360" y="4588200"/>
              <a:ext cx="380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3630240" y="54936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900000" y="692280"/>
            <a:ext cx="7632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归纳：</a:t>
            </a: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二元一次方程与一次函数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每个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二元一次方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都对应着一个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一次函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于是也对应一条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直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直线上的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每个点的坐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都是对应的二元一次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方程的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87280" y="213372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同一坐标系中画出二元一次方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8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对应的直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观察：这两条直线有交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187280" y="62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探索二元一次方程组与一次函数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68360" y="2276640"/>
            <a:ext cx="781200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同一坐标系中画出二元一次方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8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对应的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：这两条直线有交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：这个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交点坐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方程组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ject 3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232000" cy="1233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68360" y="692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探索二元一次方程组与一次函数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Object 1029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416720" cy="163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30"/>
          <p:cNvSpPr/>
          <p:nvPr/>
        </p:nvSpPr>
        <p:spPr>
          <a:xfrm>
            <a:off x="971640" y="765000"/>
            <a:ext cx="76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探索二元一次方程组与一次函数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8199"/>
          <p:cNvSpPr/>
          <p:nvPr/>
        </p:nvSpPr>
        <p:spPr>
          <a:xfrm>
            <a:off x="1944720" y="4781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265800" cy="381636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3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5472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104292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利用函数图象解方程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ject 6" descr=""/>
          <p:cNvPicPr/>
          <p:nvPr/>
        </p:nvPicPr>
        <p:blipFill>
          <a:blip r:embed="rId1"/>
          <a:stretch/>
        </p:blipFill>
        <p:spPr>
          <a:xfrm>
            <a:off x="3276720" y="907920"/>
            <a:ext cx="2590560" cy="159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39640" y="234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由方程组得一次函数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+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3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1332000" y="2924280"/>
            <a:ext cx="3960720" cy="2927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"/>
          <p:cNvSpPr/>
          <p:nvPr/>
        </p:nvSpPr>
        <p:spPr>
          <a:xfrm>
            <a:off x="5292720" y="299736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图可知，两直线的交点坐标为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所以原方程组的解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ject 12" descr=""/>
          <p:cNvPicPr/>
          <p:nvPr/>
        </p:nvPicPr>
        <p:blipFill>
          <a:blip r:embed="rId3"/>
          <a:stretch/>
        </p:blipFill>
        <p:spPr>
          <a:xfrm>
            <a:off x="5580000" y="4941720"/>
            <a:ext cx="118764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5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20Z</dcterms:modified>
  <cp:revision>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