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type.wav" ContentType="audio/x-wav"/>
  <Override PartName="/ppt/media/image17.png" ContentType="image/png"/>
  <Override PartName="/ppt/media/image7.png" ContentType="image/png"/>
  <Override PartName="/ppt/media/image1.jpeg" ContentType="image/jpeg"/>
  <Override PartName="/ppt/media/cashreg.wav" ContentType="audio/x-wav"/>
  <Override PartName="/ppt/media/image12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1.jpeg" ContentType="image/jpeg"/>
  <Override PartName="/ppt/media/image23.jpeg" ContentType="image/jpeg"/>
  <Override PartName="/ppt/media/image2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D88-38AE-40FC-B14A-5FA34ACC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B58-7849-4ED2-8630-BFC9D8B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7A2-AAC5-43F7-8273-64638F6D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6E2-E2E6-4499-A5C5-28A8229D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6F9-140A-44E3-B234-46240435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F817-107B-433F-B5D3-E51B9A7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83CB-4563-410A-B393-59E567C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ECA6-3FBC-4500-9B3F-0E7D896A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1226-26A2-4865-8C56-91D7BD3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E2A7-90A1-4D5D-B95A-8B3CE42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A4DC-05E2-4C82-8269-2D7B49B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9B1-ED63-490A-A1FB-332B47B2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BB9-C3E3-4876-A9E3-1B7C751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8A7-0832-4198-A357-C175328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BE6B-70CA-48A6-B78F-863DA49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F6B3-60D5-42B2-86CA-30668A4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B617-EF5D-4B0B-9B91-6591883C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9CAF-E61F-468D-9E13-B64A3FFA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3B02-F33C-4B70-A49B-64183C8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99AC-72C1-4FEA-B846-F959489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7BF0-213E-499B-9D6D-5CF26B1B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8AB2-6412-4F80-A75F-47E4B4C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DA3-FFB3-4719-AC9E-243A361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A996-1E8D-40F9-ACBC-668C5E41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706C-30A8-4EC4-AF0E-4164E3C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655F-D4D6-4D83-97B5-FE5094C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29A5-C2C8-4930-90DD-159DB6C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6636-3F9D-4754-978D-4D79E98E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3A7E-BFDF-4427-9904-BC1626AF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50B3-BD90-42AD-AAEA-C6784435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706-11DC-45E2-9811-2ACB184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E98-18A8-46F4-B932-80D95E09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AF4-011B-4BB6-ABC0-6397D473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3C1-95A6-475D-BC43-280569A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815-0BF8-4451-A408-DA6F1B5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36-F516-4D37-8F0A-4C0EEA6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8F8-6568-4787-978C-B78759D6E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E15-088C-4129-8B9C-C44D87886C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A61-BC3C-426A-A559-F278B6C5B3F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2_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4" descr=""/>
          <p:cNvPicPr/>
          <p:nvPr/>
        </p:nvPicPr>
        <p:blipFill>
          <a:blip r:embed="rId2"/>
          <a:stretch/>
        </p:blipFill>
        <p:spPr>
          <a:xfrm>
            <a:off x="755640" y="2131920"/>
            <a:ext cx="7335720" cy="7016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心《背景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6"/>
          <p:cNvGrpSpPr/>
          <p:nvPr/>
        </p:nvGrpSpPr>
        <p:grpSpPr>
          <a:xfrm>
            <a:off x="838080" y="1981080"/>
            <a:ext cx="8047080" cy="866880"/>
            <a:chOff x="838080" y="1981080"/>
            <a:chExt cx="8047080" cy="866880"/>
          </a:xfrm>
        </p:grpSpPr>
        <p:sp>
          <p:nvSpPr>
            <p:cNvPr id="154" name="Rectangle 5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诗人用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移情于物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手法，借落花翻出新意，为我们展示了一个极为瑰丽的境界：在诗人看来，落花作为个体，它的生命是终止了；但一当它化作春泥，就能保护、滋养出新的花枝，它的生命就在下一代群体身上得以延续，体现出真正的生命价值－－终将孕育出一个繁花似锦、绚丽灿烂的春天！这分明是一首新生命的赞歌！ 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6" name="Rectangle 7"/>
          <p:cNvSpPr/>
          <p:nvPr/>
        </p:nvSpPr>
        <p:spPr>
          <a:xfrm>
            <a:off x="2286720" y="1371600"/>
            <a:ext cx="50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落红不是无情物，化做春泥更护花”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339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重点句赏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9" descr="荡秋千"/>
          <p:cNvPicPr/>
          <p:nvPr/>
        </p:nvPicPr>
        <p:blipFill>
          <a:blip r:embed="rId2"/>
          <a:stretch/>
        </p:blipFill>
        <p:spPr>
          <a:xfrm>
            <a:off x="0" y="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荡秋千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落花《荷》"/>
          <p:cNvPicPr/>
          <p:nvPr/>
        </p:nvPicPr>
        <p:blipFill>
          <a:blip r:embed="rId4"/>
          <a:stretch/>
        </p:blipFill>
        <p:spPr>
          <a:xfrm>
            <a:off x="533520" y="4267080"/>
            <a:ext cx="8305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971640" y="1844640"/>
            <a:ext cx="741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主题意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国家民族的那份执著的忠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甘于沉沦，为国家民族贡献力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牺牲自己，培养后人的无私奉献精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红”的形象，就成了崇高献身精神的象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26" descr="作品《龚"/>
          <p:cNvPicPr/>
          <p:nvPr/>
        </p:nvPicPr>
        <p:blipFill>
          <a:blip r:embed="rId1"/>
          <a:stretch/>
        </p:blipFill>
        <p:spPr>
          <a:xfrm>
            <a:off x="2050920" y="549360"/>
            <a:ext cx="4876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Picture 3" descr="ziri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468360" y="51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浩荡离愁白日斜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1702-01b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7254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900000" y="404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吟鞭东指即天涯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484360" y="1700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吟鞭东指即天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403280" y="270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离京标志着龚自珍政治生涯的终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1403280" y="371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离愁别绪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回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喜悦交织一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4" descr="102543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-677160" y="620640"/>
            <a:ext cx="200916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bf7ff"/>
                </a:solidFill>
                <a:latin typeface="Arial"/>
              </a:rPr>
              <a:t>落红不是无情物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7" name="Picture 3" descr="102710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7134840" y="0"/>
            <a:ext cx="20091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落红不是无情物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0" name="Picture 3" descr="无标题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971640" y="90792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化作春泥更护花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满载离愁，远归故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比落红，仍可护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508720" y="191628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归乡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仍心系报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5219640" y="198900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-1189080" y="3284640"/>
            <a:ext cx="849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句：落红不是无情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465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意思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回乡，仍思为国效力，希望有新奉献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5640" y="476280"/>
            <a:ext cx="820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已亥杂诗（其五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龚自珍</a:t>
            </a:r>
            <a:br>
              <a:rPr sz="36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浩荡离愁白日斜，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吟鞭东指即天涯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落红不是无情物，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化做春泥更护花。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以下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4200" y="19177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诗人犹豫孤独和悲壮豪迈复杂心情交织一起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虽辞官，但仍关心国家前途命运的诗词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写了几种心境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4312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116000" y="292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浩荡离愁白日斜，吟鞭东指即天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472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红不是无情物，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79280" y="6021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离别忧伤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回归的愉快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积极的人生态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B023-2ACD-49B6-818B-5A47214706BB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古代诗人描写落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一种是怨啼鸟，怪东风，叹年华，面对落花嘘唏感叹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流水落花春去也，天上人间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李煜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花自飘零水自流，一种相思，两处闲愁”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－李清照；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侬今葬花人笑痴，他年葬侬知是谁？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林黛玉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另一种把落花作为自然景物来描写，其中不少昂扬向上的精神。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落春仍在”“夜来风雨声，花落知多少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孟浩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9"/>
          <p:cNvSpPr/>
          <p:nvPr/>
        </p:nvSpPr>
        <p:spPr>
          <a:xfrm>
            <a:off x="247680" y="1244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Picture 2" descr="龚其人"/>
          <p:cNvPicPr/>
          <p:nvPr/>
        </p:nvPicPr>
        <p:blipFill>
          <a:blip r:embed="rId1"/>
          <a:stretch/>
        </p:blipFill>
        <p:spPr>
          <a:xfrm>
            <a:off x="4114800" y="228600"/>
            <a:ext cx="4721400" cy="12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龚像"/>
          <p:cNvPicPr/>
          <p:nvPr/>
        </p:nvPicPr>
        <p:blipFill>
          <a:blip r:embed="rId2"/>
          <a:stretch/>
        </p:blipFill>
        <p:spPr>
          <a:xfrm>
            <a:off x="0" y="914400"/>
            <a:ext cx="281952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6"/>
          <p:cNvGrpSpPr/>
          <p:nvPr/>
        </p:nvGrpSpPr>
        <p:grpSpPr>
          <a:xfrm>
            <a:off x="2819520" y="1600200"/>
            <a:ext cx="6324480" cy="3784680"/>
            <a:chOff x="2819520" y="1600200"/>
            <a:chExt cx="6324480" cy="3784680"/>
          </a:xfrm>
        </p:grpSpPr>
        <p:sp>
          <p:nvSpPr>
            <p:cNvPr id="131" name="Rectangle 5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1792--1841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） 清思想家、文学家。浙江仁和（今杭州）人。道光进士，官礼部主事。学务博览，重经世济民。主张从事政治和经济改革，以解决当时日益深入的社会危机，并热切要求抵抗资本主义国家的经济和军事侵略，维护国家主权。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通经致用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今文经学派的重要人物。并强调万事万物都处于变化之中。所作诗文，极力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更法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改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，深刻揭露清王朝统治的腐朽，反映社会阶级矛盾的日益尖锐，洋溢着受国热情。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明良论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病梅馆记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文，和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己亥杂诗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·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九州生气恃风雷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诗篇，皆为其代表作。散文奥博纵横，自成一家，诗尤瑰丽奇肆，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之称。著有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自珍全集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。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北龚纪馆"/>
          <p:cNvPicPr/>
          <p:nvPr/>
        </p:nvPicPr>
        <p:blipFill>
          <a:blip r:embed="rId1"/>
          <a:stretch/>
        </p:blipFill>
        <p:spPr>
          <a:xfrm>
            <a:off x="4724280" y="304920"/>
            <a:ext cx="4267440" cy="632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龚纪錧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5033520" y="685800"/>
            <a:ext cx="60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龚自珍纪念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172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北　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143000" y="5638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浙　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3" descr="115681_1056797156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26B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落红不是无情物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落》书"/>
          <p:cNvPicPr/>
          <p:nvPr/>
        </p:nvPicPr>
        <p:blipFill>
          <a:blip r:embed="rId2"/>
          <a:stretch/>
        </p:blipFill>
        <p:spPr>
          <a:xfrm>
            <a:off x="6629400" y="304920"/>
            <a:ext cx="251460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4"/>
          <p:cNvSpPr/>
          <p:nvPr/>
        </p:nvSpPr>
        <p:spPr>
          <a:xfrm>
            <a:off x="1476360" y="4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26028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浩荡：广阔深远的样子，也就是浩茫之意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白日斜：夕阳西下的黄昏时分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吟鞭：即马鞭；作者在途中，一边策马行进，一边吟诗，故言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东指：出城门向东；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天涯：原意是天边，此指遥远的地方。 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落红：落花，作者自况。龚自珍因被迫辞官回乡，故自比为落花。后一“花”字，当指一代新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356000" y="83664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译诗、诗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]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满怀离愁而对夕阳西下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鸣鞭东指从此浪迹天涯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凋落的花朵仍然有情有意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化作春泥培育出新的鲜花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95640" y="494172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已亥杂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浩荡离愁白日斜，吟鞭东指即天涯。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　　　　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落红不是无情物，化做春泥更护花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u=2239864145,3216131111&amp;gp=3"/>
          <p:cNvPicPr/>
          <p:nvPr/>
        </p:nvPicPr>
        <p:blipFill>
          <a:blip r:embed="rId1"/>
          <a:stretch/>
        </p:blipFill>
        <p:spPr>
          <a:xfrm>
            <a:off x="4062240" y="228600"/>
            <a:ext cx="4929480" cy="6477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27800" y="762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浩荡离愁白日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17002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浩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字，极为凝练地写出离愁的深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强化了诗人离京时的眷恋、怅惘、失落、孤独的种种情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95280" y="486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白日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三字一笔勾勒景物，以夕阳西沉、暮色苍茫的气氛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7:00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15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