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CC0-F44B-4F1A-9AC7-26032ECF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4AA-FF7D-4620-B027-47D4878C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F56-8A92-43AA-8E8B-6684458C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AEB-17AA-461E-9123-0A44A0B2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0DFF-0C7A-4E1C-BCCE-E4528B44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EAEB-2DBD-42BF-AA4F-7D6A8E67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7A8F-C835-441C-B17E-18F500C0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DB62-3894-4F73-90A1-4FD8C012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761D-5E66-41DA-BEE5-E9F0C5CC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D997-D112-4E41-A981-3852C31D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FDF2-3A86-4A8C-B4B9-78B3BA52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A47-AD4F-48F1-A2F4-F62C867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CC60-4D2F-4740-9D45-2BD3599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9C95-4627-4E8F-AF87-2DA5F52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35D5-C33C-4BE8-896F-B866A802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956A-B6DC-45E0-B12C-14FB40AC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4E47-205C-4312-BB63-D86972FA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004-0CC7-42B7-8A81-E3649ACC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3D6-873D-4663-AF05-DC68EFF6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245-F018-4293-9428-B973F17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DF6-7DEA-4024-ABEE-7C691704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80B-3894-46BB-A8F8-E58DC613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139-8B2D-4D01-802A-3EAA356B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BD9-7DC0-4DCE-8D4E-6CBFBE09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CF1-AA54-4AA1-B670-3BC7FD3CA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8884-006D-4E47-BF60-A37AC05D41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a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Text Box 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754760" cy="6998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9372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梁国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有一户姓杨的人家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家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有个九岁的儿子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非常聪明。一天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君平来拜见他的父亲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恰巧他父亲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家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孔君平就把这个孩子叫了出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孩子给孔君平端来水果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其中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孔君平指着杨梅给孩子看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并说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是你家的水果。”孩子马上答道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可没听说孔雀是先生您家的鸟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1" descr="1"/>
          <p:cNvPicPr/>
          <p:nvPr/>
        </p:nvPicPr>
        <p:blipFill>
          <a:blip r:embed="rId2"/>
          <a:stretch/>
        </p:blipFill>
        <p:spPr>
          <a:xfrm>
            <a:off x="0" y="0"/>
            <a:ext cx="8991720" cy="6743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1143000" y="144792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熟读而精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81080" y="266688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杨氏之子的回答妙在哪里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图片1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4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447920" y="1676520"/>
            <a:ext cx="769608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孔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指以示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曰：“此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是君家果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应声答曰：“未闻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孔雀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是夫子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禽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杨氏之子的言外之意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您认为杨梅是我家的水果，那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孔雀不是您家的鸟，那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250920" y="2276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风趣机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0920" y="386064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想：孔君平听了孩子的话会是什么反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26920" y="47628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9280" y="4762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说杨氏之子是个什么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梁国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杨氏子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九岁，甚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聪慧。孔君平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诣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其父，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在，乃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呼儿出。为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设果，果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杨梅。孔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指以示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曰：“此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君家果。”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应声答曰：“未闻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孔雀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夫子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禽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79280" y="18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隶书"/>
              </a:rPr>
              <a:t>美美地读一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3ED4-4CAC-43BB-A8E6-DB8828FA12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619280" y="69228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拓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有关于言语表达的小故事（广告词、对联、歇后语等）吗？和同学们交流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3880" y="45720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03280" y="36450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东坡难对的千古绝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西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锡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锡壶掉西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惜乎锡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03280" y="5157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逢甲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家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子遇甲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佳姿家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634032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yang2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5560" y="0"/>
            <a:ext cx="47527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杨氏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梁国杨氏子九岁，甚聪惠。孔君平诣其父，父不在，乃呼儿出。为设果，果有杨梅。孔指以示儿曰：“此是君家果。”儿应声答曰：“未闻孔雀是夫子家禽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2920" y="1700280"/>
            <a:ext cx="712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桥梁     优惠     造诣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乃至     子曰     家禽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762120" y="17524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4000" y="47628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梁国杨氏子九岁，甚聪惠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2781360"/>
            <a:ext cx="4262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惠：同“慧”，智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8199"/>
          <p:cNvSpPr/>
          <p:nvPr/>
        </p:nvSpPr>
        <p:spPr>
          <a:xfrm>
            <a:off x="395280" y="115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1981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5280" y="260280"/>
            <a:ext cx="49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孔君平诣其父，父不在，乃呼儿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3657600"/>
            <a:ext cx="4648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诣：拜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乃：就，于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4000" y="33336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为设果，果有杨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700280"/>
            <a:ext cx="53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）为（  ）设果，果有杨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468360" y="476280"/>
            <a:ext cx="3809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设果，果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儿）为（孔）设果，果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设：摆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39640" y="54936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孔指以示儿曰：“此是君家果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50920" y="2781360"/>
            <a:ext cx="3581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：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曰：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95280" y="404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儿应声答曰：“未闻孔雀是夫子家禽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24000" y="3141720"/>
            <a:ext cx="3581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未：没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夫子：旧时对学者或老师的尊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8199"/>
          <p:cNvSpPr/>
          <p:nvPr/>
        </p:nvSpPr>
        <p:spPr>
          <a:xfrm>
            <a:off x="97164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27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48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