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032-5DB5-4C9A-90A4-6074B5D3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0A8A-4081-401F-8164-6A4B276C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0073-1657-4373-AABC-9ACB8797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251-7C90-4D2E-A77F-CD209E0C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7EF1-EAE1-481E-94BF-4D8757C8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3CA0-03C5-4C2C-89D3-9A8AC2E8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3CEF-75AF-41BF-A322-8C244520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9FAD-2700-4D5E-A4A0-17D51949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AE00-EF14-4CA1-9B22-FA4848A0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964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A191-3F51-49C1-A82D-16CD9B63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62F6-78ED-40B9-A629-47A54628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9C6-E4BA-42C8-BA4D-2D617A19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A3DD-9AA7-47C5-8B89-243FD0E0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1DAD-8648-4DA1-B48C-EF1DECAF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722D-9431-4F6D-AF8D-50632107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CA11-DEDE-42A2-B632-BAC3E72A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411F-D5C3-4AE2-B3B4-8A5BD41E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C7CDF-4377-4054-94CB-46484484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1B3A2-3F37-474D-9895-574DCE5B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C943C-621C-440E-A1B4-3F498244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25C43-A448-4A0B-8B31-1FB3243D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720A2-7588-4621-9931-CB87B6E4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438-0938-4126-9479-1C75C033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964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B51AE-5F10-466C-A536-2C288814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9273B-22FA-47A7-83CD-E1FE8699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50DF8-8A6C-42C7-A62E-510BCEB4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CC435-E233-4740-8FFE-10DBDAC8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96688-8DFE-4B6A-A89D-C1739EF7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00B85-CFA5-43E4-B79E-C1AEB046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8E95C-7AFD-4D3A-A93E-0810C239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A29-2DDC-4310-A457-296FD887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39C1-3CE2-4145-959C-C5F0DCE5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877C-984A-4784-976C-451E99FD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A250-AF9C-48CB-90B4-1D7227EA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FFBF-7B28-4082-BCF8-F843B1D8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5773-A36C-4547-9A92-FDA9D784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图片1"/>
          <p:cNvPicPr/>
          <p:nvPr/>
        </p:nvPicPr>
        <p:blipFill>
          <a:blip r:embed="rId2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6295-C33D-4866-B4C3-E90062E9B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4447-8A38-4ED7-919E-9DA877E9FA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图片1"/>
          <p:cNvPicPr/>
          <p:nvPr/>
        </p:nvPicPr>
        <p:blipFill>
          <a:blip r:embed="rId2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4284720" y="0"/>
            <a:ext cx="21589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6D96-86F9-4AF9-A46A-976446324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92280" y="1382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天的生活用水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" descr=""/>
          <p:cNvPicPr/>
          <p:nvPr/>
        </p:nvPicPr>
        <p:blipFill>
          <a:blip r:embed="rId1"/>
          <a:stretch/>
        </p:blipFill>
        <p:spPr>
          <a:xfrm>
            <a:off x="2236680" y="2852640"/>
            <a:ext cx="4516560" cy="293220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24000" y="105264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于人口迅速增长、环境污染和全球气候变暖，世界人均供水量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以来开始减少，而且持续下降。目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大陆面临淡水资源不足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个国家严重缺水，其中最严重的国家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个。预计未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全球人均供水量还将减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8200"/>
          <p:cNvSpPr/>
          <p:nvPr/>
        </p:nvSpPr>
        <p:spPr>
          <a:xfrm>
            <a:off x="1292400" y="4419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制定我的节水计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约用水，从我做起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AA9C-EFE8-424D-A43A-B9DFC7092E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的节水计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淋浴时，抓紧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把洗脸水存起来，用于冲厕所、拖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淡水是我们人类和其他生物生存的必需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是地球上的淡水资源十分有限，地球上的多数地区缺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一天要用掉多少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用哪些节约用水的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一天用了多少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184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拧开水龙头，水哗哗地流出来，我们每天都在用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估计一下，我一天要用掉多少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4000" y="4365720"/>
          <a:ext cx="8362800" cy="1887480"/>
        </p:xfrm>
        <a:graphic>
          <a:graphicData uri="http://schemas.openxmlformats.org/drawingml/2006/table">
            <a:tbl>
              <a:tblPr/>
              <a:tblGrid>
                <a:gridCol w="1655640"/>
                <a:gridCol w="852480"/>
                <a:gridCol w="836640"/>
                <a:gridCol w="835200"/>
                <a:gridCol w="838080"/>
                <a:gridCol w="836640"/>
                <a:gridCol w="836640"/>
                <a:gridCol w="834840"/>
                <a:gridCol w="83664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早上刷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早上洗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上午喝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估计用水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未标题-32"/>
          <p:cNvPicPr/>
          <p:nvPr/>
        </p:nvPicPr>
        <p:blipFill>
          <a:blip r:embed="rId1"/>
          <a:stretch/>
        </p:blipFill>
        <p:spPr>
          <a:xfrm>
            <a:off x="4788000" y="3908520"/>
            <a:ext cx="4356000" cy="2949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395280" y="764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查看家里的水表，我们一家一天要用掉多少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一天的用水量除以家里的人口数，就是一个人一天的平均用水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未标题-31"/>
          <p:cNvPicPr/>
          <p:nvPr/>
        </p:nvPicPr>
        <p:blipFill>
          <a:blip r:embed="rId2"/>
          <a:stretch/>
        </p:blipFill>
        <p:spPr>
          <a:xfrm>
            <a:off x="0" y="3068640"/>
            <a:ext cx="6048360" cy="341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用水量的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开着水龙头刷一次牙用多少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未标题-33"/>
          <p:cNvPicPr/>
          <p:nvPr/>
        </p:nvPicPr>
        <p:blipFill>
          <a:blip r:embed="rId1"/>
          <a:stretch/>
        </p:blipFill>
        <p:spPr>
          <a:xfrm>
            <a:off x="2124000" y="3141720"/>
            <a:ext cx="4781520" cy="321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539640" y="836640"/>
            <a:ext cx="8229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用杯子接水刷一次牙用多少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未标题-34"/>
          <p:cNvPicPr/>
          <p:nvPr/>
        </p:nvPicPr>
        <p:blipFill>
          <a:blip r:embed="rId1"/>
          <a:stretch/>
        </p:blipFill>
        <p:spPr>
          <a:xfrm>
            <a:off x="1692360" y="2276640"/>
            <a:ext cx="4895640" cy="3342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未标题-35"/>
          <p:cNvPicPr/>
          <p:nvPr/>
        </p:nvPicPr>
        <p:blipFill>
          <a:blip r:embed="rId1"/>
          <a:stretch/>
        </p:blipFill>
        <p:spPr>
          <a:xfrm>
            <a:off x="611280" y="1771560"/>
            <a:ext cx="7848360" cy="5086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324000" y="83664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还有什么原因使不同家庭之间一天的用水量不相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未标题-36"/>
          <p:cNvPicPr/>
          <p:nvPr/>
        </p:nvPicPr>
        <p:blipFill>
          <a:blip r:embed="rId1"/>
          <a:stretch/>
        </p:blipFill>
        <p:spPr>
          <a:xfrm>
            <a:off x="1116000" y="1197000"/>
            <a:ext cx="6343560" cy="459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未标题-37"/>
          <p:cNvPicPr/>
          <p:nvPr/>
        </p:nvPicPr>
        <p:blipFill>
          <a:blip r:embed="rId1"/>
          <a:stretch/>
        </p:blipFill>
        <p:spPr>
          <a:xfrm>
            <a:off x="1403280" y="1341360"/>
            <a:ext cx="5915160" cy="468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06:36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1:16Z</dcterms:modified>
  <cp:revision>33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