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3B17-8FE1-4D30-8F64-0405DBA8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0089-1AD1-41DB-A947-4A490FAB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031-8582-4AAC-B2B3-6C15A120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732-481F-43D0-90BD-B2092FC8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F269-0CC6-4025-9C22-C29A56E0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4F0A-8550-422E-A88A-6542C908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A1A4-226B-4D4B-8E62-E09E7752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35B3-2CDC-4733-8F42-2AEA4D00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743F-8CAF-40D5-9267-66B19D86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D490-DCE0-4A03-BD86-6E01D6FE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B4C8-645E-4809-A75A-33EBF1DF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AAC7-AA0B-4604-A368-EE7126AB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00D1-0BB8-44FA-B8D1-CF73178E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8346-9AEA-457C-B0D4-6FDF691C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777A-6939-4612-B83A-F177D88E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8877-F861-4700-8CFA-C977835D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816F-CAB1-4CE3-A2FC-68556497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EC7E4-EF20-4A58-98E4-3B5D7CF7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C3919-D588-4788-B515-0AD78065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76AAB-270A-455A-A334-D683D3CD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6D571-EF9F-4727-A15F-46340719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76CF9-588D-44D7-ABAC-620AAEB1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383-EEF4-46A4-AC87-C74C37C6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8D1BE-2B25-4241-BE48-D34B7E9D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B5AEE-6851-4542-A3DA-D2C41057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49403-8966-4518-BAED-FC4CD192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F7BCC-2654-4510-9CA5-32FDC0C3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E3484-8910-4E4E-8B05-878DB018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5B79-7E3C-424A-A312-ECD983EB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9B53C-CC90-454A-B6C2-13558D44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ED03-7E86-4AF1-B054-9540336B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4F0A-1514-48D8-8165-C7423105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910-AD43-49F2-AD55-4E22517B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7BD-574D-4B79-8198-B8EAD5F2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972D-4F27-4479-9B6C-EF8C5FD3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A59-DA76-4A9C-8623-127916DA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2857-B25C-405F-BDB2-461D1ED1A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7579-FA9E-44AE-8F16-528FB8B032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117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D363-2CD7-4294-80D8-3F6CC680F1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277,21,&#24187;&#28783;&#29255; 21" TargetMode="External"/><Relationship Id="rId2" Type="http://schemas.openxmlformats.org/officeDocument/2006/relationships/hyperlink" Target="285,23,&#24187;&#28783;&#29255; 23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70,5,&#24187;&#28783;&#29255; 5" TargetMode="External"/><Relationship Id="rId2" Type="http://schemas.openxmlformats.org/officeDocument/2006/relationships/hyperlink" Target="271,14,&#24187;&#28783;&#29255; 14" TargetMode="External"/><Relationship Id="rId3" Type="http://schemas.openxmlformats.org/officeDocument/2006/relationships/hyperlink" Target="271,14,&#24187;&#28783;&#29255; 14" TargetMode="External"/><Relationship Id="rId4" Type="http://schemas.openxmlformats.org/officeDocument/2006/relationships/hyperlink" Target="271,14,&#24187;&#28783;&#29255; 14" TargetMode="External"/><Relationship Id="rId5" Type="http://schemas.openxmlformats.org/officeDocument/2006/relationships/hyperlink" Target="271,14,&#24187;&#28783;&#29255; 14" TargetMode="External"/><Relationship Id="rId6" Type="http://schemas.openxmlformats.org/officeDocument/2006/relationships/hyperlink" Target="276,15,&#24187;&#28783;&#29255; 15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193824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图片 1" descr=""/>
          <p:cNvPicPr/>
          <p:nvPr/>
        </p:nvPicPr>
        <p:blipFill>
          <a:blip r:embed="rId1"/>
          <a:srcRect l="10259" t="0" r="14592" b="0"/>
          <a:stretch/>
        </p:blipFill>
        <p:spPr>
          <a:xfrm>
            <a:off x="249120" y="128520"/>
            <a:ext cx="4546800" cy="604836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文本框 1"/>
          <p:cNvSpPr/>
          <p:nvPr/>
        </p:nvSpPr>
        <p:spPr>
          <a:xfrm>
            <a:off x="2340000" y="40464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宋体"/>
              </a:rPr>
              <a:t>鱼我所欲也课件</a:t>
            </a:r>
            <a:r>
              <a:rPr b="0" lang="en-US" sz="4000" spc="-1" strike="noStrike">
                <a:solidFill>
                  <a:srgbClr val="808000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808000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004-1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004-2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005-2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006-1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3"/>
          <p:cNvSpPr/>
          <p:nvPr/>
        </p:nvSpPr>
        <p:spPr>
          <a:xfrm>
            <a:off x="8381880" y="632448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3005640" y="304920"/>
            <a:ext cx="270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《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孟子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》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简介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533520" y="1600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《</a:t>
            </a:r>
            <a:r>
              <a:rPr b="0" lang="zh-CN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孟子</a:t>
            </a:r>
            <a:r>
              <a:rPr b="0" lang="en-US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》</a:t>
            </a:r>
            <a:r>
              <a:rPr b="0" lang="zh-CN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是先秦诸子杰出的散文著作，内容包括孟子的政治学说、政治活动、哲学思想和个性修养。</a:t>
            </a:r>
            <a:r>
              <a:rPr b="0" lang="en-US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《</a:t>
            </a:r>
            <a:r>
              <a:rPr b="0" lang="zh-CN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孟子</a:t>
            </a:r>
            <a:r>
              <a:rPr b="0" lang="en-US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》</a:t>
            </a:r>
            <a:r>
              <a:rPr b="0" lang="zh-CN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与</a:t>
            </a:r>
            <a:r>
              <a:rPr b="0" lang="en-US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《</a:t>
            </a:r>
            <a:r>
              <a:rPr b="0" lang="zh-CN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论语</a:t>
            </a:r>
            <a:r>
              <a:rPr b="0" lang="en-US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》</a:t>
            </a:r>
            <a:r>
              <a:rPr b="0" lang="zh-CN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同是语录体散文，但与</a:t>
            </a:r>
            <a:r>
              <a:rPr b="0" lang="en-US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《</a:t>
            </a:r>
            <a:r>
              <a:rPr b="0" lang="zh-CN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论语</a:t>
            </a:r>
            <a:r>
              <a:rPr b="0" lang="en-US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》</a:t>
            </a:r>
            <a:r>
              <a:rPr b="0" lang="zh-CN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相比，它篇幅较长，内容也更具体，描绘也更细致。</a:t>
            </a:r>
            <a:r>
              <a:rPr b="0" lang="en-US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《</a:t>
            </a:r>
            <a:r>
              <a:rPr b="0" lang="zh-CN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孟子</a:t>
            </a:r>
            <a:r>
              <a:rPr b="0" lang="en-US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》</a:t>
            </a:r>
            <a:r>
              <a:rPr b="0" lang="zh-CN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比喻准确形象，语言犀利酣畅，感情洋溢饱满，说理深刻透彻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Object 5" descr=""/>
          <p:cNvPicPr/>
          <p:nvPr/>
        </p:nvPicPr>
        <p:blipFill>
          <a:blip r:embed="rId2"/>
          <a:stretch/>
        </p:blipFill>
        <p:spPr>
          <a:xfrm>
            <a:off x="7010280" y="6019920"/>
            <a:ext cx="1219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1066680" y="11430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孟子的哲学思想属于主观唯心主义，最具代表性的是他的“性善论”，认为人生来就有善良的本性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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他说：“人性之善也，犹水之就下也。人无有不善，水无有不下。”还说：“恻隐之心，仁也；羞恶之心，义也；恭敬之心，礼也；是非之心，智也。仁义礼智，非由外铄（给与）我也，我固有之也。”孟子的人性说中有合理的成分，他特别强调后天环境和教育对人的影响，以及自我修养的作用。认为“逸居而无教，则近于禽兽”，“生于忧患，死于安乐”；要求人们反躬自求，“养浩然之气”，做到“舍生取义”，“富贵不能淫，贫贱不能移，威武不能屈”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922760" y="3049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性善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Object 4" descr=""/>
          <p:cNvPicPr/>
          <p:nvPr/>
        </p:nvPicPr>
        <p:blipFill>
          <a:blip r:embed="rId1"/>
          <a:stretch/>
        </p:blipFill>
        <p:spPr>
          <a:xfrm>
            <a:off x="7696080" y="6019920"/>
            <a:ext cx="1219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26"/>
          <p:cNvSpPr/>
          <p:nvPr/>
        </p:nvSpPr>
        <p:spPr>
          <a:xfrm>
            <a:off x="324000" y="0"/>
            <a:ext cx="867564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词语解释资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丧 ： 丢掉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辟：通“避”，躲避。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箪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豆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蹴：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ù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脚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不屑： 因轻视不敢接受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万钟：这里指高位厚禄。钟，古代的一种量器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何加：有什么益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》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得：通“德”恩惠，这里是感激的意思 。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乡：通“向”，从前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补充注释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兼：同时得到（有几样东西）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甚：超过、厉害。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恶：（ｗ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ù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讨厌，憎恨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本心：本来的心愿。这里指本性，“良心”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文本框 8198"/>
          <p:cNvSpPr/>
          <p:nvPr/>
        </p:nvSpPr>
        <p:spPr>
          <a:xfrm>
            <a:off x="2050920" y="549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26"/>
          <p:cNvSpPr/>
          <p:nvPr/>
        </p:nvSpPr>
        <p:spPr>
          <a:xfrm>
            <a:off x="755640" y="762120"/>
            <a:ext cx="8159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翻译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鱼，我所欲也，熊掌，亦我所欲也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鱼，是我喜爱的东西，熊掌，也是我喜爱的东西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二者不可得兼，舍鱼而取熊掌者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（如果）两种东西不能同时得到，（那么），（我要）舍弃鱼而选取熊掌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，亦我所欲也，义，亦我所欲也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生命也是我喜爱的东西，正义也是我喜爱的东西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二者不可得兼，舍生而取义者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（如果）两种东西不能同时得到，（那么），（我要）舍弃生命而选取正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027"/>
          <p:cNvSpPr/>
          <p:nvPr/>
        </p:nvSpPr>
        <p:spPr>
          <a:xfrm>
            <a:off x="914400" y="419112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457200" y="22860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亦我所欲，所欲有甚于生者，故不为苟得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生命也使我喜爱的东西，（然而）我喜爱的东西还有比生命更为重要的，所以我不去干苟且偷生的事情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死亦我所恶ｗ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所恶有甚于死者，故患有所不避也。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死亡也（是）我厌恶的事情，（但我）所厌恶的，还有比死亡更为厉害的，所以祸患（我）也有不躲避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539640" y="3357720"/>
            <a:ext cx="837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使人之所欲莫甚于生，则凡可以得生者何不用也？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如果人们喜爱的没有比生命更重要的，那么一切可以用来保全生命的方法（有）什么不可以采用呢？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人之所恶莫甚于死者，则凡可以避患者何不为也？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如果人们厌恶的事情没有比死亡更厉害的，那么一切可以用来躲避祸患（而保全性命）的手段（有）什么不能做（的）呢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304920" y="68580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由是则生而有不用也；由是则可以避患而有不为也。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按照这些方法去做就（可以）生存，然而却有人不采用它；按照这些方法去做就（可以）躲避祸患，然而却有人不采用它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故所欲有甚于生者，所恶有甚于死者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所以（人们）所喜爱的东西有比生命更（重要的）， （人们）厌恶的事情有比死亡更厉害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非独贤者有是心也，人皆有之，贤者能勿丧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不仅仅贤德的人有这种思想，人人都有这种思想，（只不过）贤德的人能够（坚守这种品德）使它不致丧失罢了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371600" y="609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目的要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143000" y="1905120"/>
            <a:ext cx="7461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认识孟子“舍生取义”思想的进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性，历史的局限性和现实意义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懂得拥护正义，坚持真理比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命更重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学习本文比喻恰当，对比鲜明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说理透辟的论证方法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了解孟轲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孟子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1116000" y="1125360"/>
            <a:ext cx="7523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第一部分（从开头至“贤者能勿丧耳”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由设喻引出“舍生取义”的论点，并说明“义”的美德就是人所固有的。舍生取义是人的“本心”。（比喻论证、对比论证、道理论证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371600" y="3808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课文分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135080" y="3679920"/>
            <a:ext cx="775800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第二部分（从“一箪食”至结尾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舍生取义就是丧失“本心”，人应该保有本心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 不能“见利忘义”，否则就是失掉了人所固有的“羞恶之心”。（举例论证、对比论证，道理论证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7696080" y="47242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1447920" y="762120"/>
            <a:ext cx="74674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层（从开头至“舍生而取义者也”）以鱼与熊掌不可得兼而取熊掌为喻，引出生与义不可得兼则“舍生取义”的论点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二层（从“生亦我所欲”至“是故所欲有甚于生者，所恶有甚于死者。”）对自己的论点“舍生取义”是人的“本心”的进一步论证。先正面再反面分析阐发自己的观点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292320" y="914400"/>
            <a:ext cx="8506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分析第一部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762120" y="609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三层（本段最后一句）作者得出结论：其实人都有向善之心，之所以贤者才能做到“舍生取义”是因为贤者能够保持“本心”而已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77724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026"/>
          <p:cNvSpPr/>
          <p:nvPr/>
        </p:nvSpPr>
        <p:spPr>
          <a:xfrm>
            <a:off x="762120" y="45720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箪食，一豆羹，得之则生，弗得则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一筐饭食，一碗汤，得到它就能活下去，得不到它就要死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尔而与之，行道之人弗受；蹴尔而与之，乞人不屑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（然而如果）轻蔑地呵叱着给别人（吃），（饥饿的）过路人也不会接受；（如果）用脚践踏过再给人（吃），（即使）乞丐（也）不愿意（接受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万钟则不辨礼义而受之，万钟于我何加焉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万钟的俸禄如果不分辨（是否符合）礼义就接受它，（这）万钟的俸禄对于我（有）什么益处呢？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文本框 8198"/>
          <p:cNvSpPr/>
          <p:nvPr/>
        </p:nvSpPr>
        <p:spPr>
          <a:xfrm>
            <a:off x="2916360" y="1413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179280" y="115920"/>
            <a:ext cx="896472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宫室之美，妻妾之奉，所识穷乏者得我与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是为了宫室的华美，妻妾的侍奉，所认识的贫困的人感激我（的恩德）（而接受它）吗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乡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身死而不受，今为宫室之美为之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从前（我）为了“礼义”宁愿死也不肯接受（施舍），现在却为了宫室的华美而接受了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乡为身死而不受，今为妻妾之奉为之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从前（我）为了“礼义”宁愿死也不肯接受（施舍），现在为了（能有）妻妾的待奉（而）接受了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乡为身死而不受，今为所识穷乏者得我而为之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从前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（我）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为了“礼义”宁愿死也不肯接受（施舍），现在（却）为了所认识的贫困的人感激我（的恩德）而接受了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亦不可以已乎？此之谓失其本心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这种（做法）不也是可以停止了吗？（如果这样做了）这就叫做丧失了人的本性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8305920" y="6477120"/>
            <a:ext cx="533160" cy="152280"/>
          </a:xfrm>
          <a:custGeom>
            <a:avLst/>
            <a:gdLst>
              <a:gd name="textAreaLeft" fmla="*/ 9720 w 533160"/>
              <a:gd name="textAreaRight" fmla="*/ 523440 w 53316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75498" h="21600">
                <a:moveTo>
                  <a:pt x="0" y="0"/>
                </a:moveTo>
                <a:lnTo>
                  <a:pt x="75498" y="0"/>
                </a:lnTo>
                <a:lnTo>
                  <a:pt x="75498" y="21600"/>
                </a:lnTo>
                <a:lnTo>
                  <a:pt x="0" y="21600"/>
                </a:lnTo>
                <a:close/>
              </a:path>
              <a:path fill="lightenLess" w="75498" h="21600">
                <a:moveTo>
                  <a:pt x="0" y="0"/>
                </a:moveTo>
                <a:lnTo>
                  <a:pt x="75498" y="0"/>
                </a:lnTo>
                <a:lnTo>
                  <a:pt x="74098" y="1400"/>
                </a:lnTo>
                <a:lnTo>
                  <a:pt x="1400" y="1400"/>
                </a:lnTo>
                <a:close/>
              </a:path>
              <a:path fill="darken" w="75498" h="21600">
                <a:moveTo>
                  <a:pt x="75498" y="0"/>
                </a:moveTo>
                <a:lnTo>
                  <a:pt x="75498" y="21600"/>
                </a:lnTo>
                <a:lnTo>
                  <a:pt x="74098" y="20200"/>
                </a:lnTo>
                <a:lnTo>
                  <a:pt x="74098" y="1400"/>
                </a:lnTo>
                <a:close/>
              </a:path>
              <a:path fill="darkenLess" w="75498" h="21600">
                <a:moveTo>
                  <a:pt x="75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98" y="20200"/>
                </a:lnTo>
                <a:close/>
              </a:path>
              <a:path fill="lighten" w="75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98" h="21600">
                <a:moveTo>
                  <a:pt x="30743" y="10800"/>
                </a:moveTo>
                <a:lnTo>
                  <a:pt x="44756" y="3794"/>
                </a:lnTo>
                <a:lnTo>
                  <a:pt x="44756" y="17806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1042920" y="0"/>
            <a:ext cx="7423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二部分：举例论证论点，人应该保有“本心”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层（从“一箪食”至“乞人不屑也”）          从正面举例论证不能见  利忘义。“一箪食”、“一豆羹”关系到人的生死，但若用无礼的方式施舍，就是路人、乞丐也不接受。这一事例充分证明，最普通的人也有羞恶之心，宁愿饿死而不失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68640" y="533520"/>
            <a:ext cx="850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分析第二部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1F8D-3CD2-4A7A-BD42-BDBB8DC4605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1676520" y="189000"/>
            <a:ext cx="67816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层（从“万钟则不辨礼义而受之”至“是亦不可以已乎”）从反面举例论证不能见利忘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首先指出一些显贵的人“不辨礼义”就接受优厚俸禄。紧接着以一个反问句，说明他们接受的原因是利欲熏心，为私利所蔽。然后用三个排比今昔对比，批判他们重利轻义、见利忘义的行为。“是亦不可以已乎”是一句反问，更增加了批判的力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三层（最后一句）与第一部分结束相呼应，人应该保有本心。 “本心”就是人原来固有的“羞恶之心”，也就是“义”、“善”的本性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838080" y="1219320"/>
            <a:ext cx="80773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要点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 介绍孟子和他的“性善说”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、第一段从正反两方面论述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“舍生取义”的道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难点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设喻和对比论证方法的运用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、最后一段中的几个疑问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295280" y="838080"/>
            <a:ext cx="25909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1"/>
              </a:rPr>
              <a:t>有关作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040480" y="2133720"/>
            <a:ext cx="2034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2"/>
              </a:rPr>
              <a:t>有关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3"/>
              </a:rPr>
              <a:t>《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4"/>
              </a:rPr>
              <a:t>孟子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5"/>
              </a:rPr>
              <a:t>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910160" y="3429000"/>
            <a:ext cx="2259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6"/>
              </a:rPr>
              <a:t>有关“性善说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7772400" y="609588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380880" y="533520"/>
            <a:ext cx="83059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4a3e"/>
                </a:solidFill>
                <a:latin typeface="Times New Roman"/>
                <a:ea typeface="隶书"/>
              </a:rPr>
              <a:t>孟子，名轲，字子舆，战国时邹人。他受业于孔子的孙子子思的弟子，是儒家继孔子之后又一位重要的代表人物，后称为“亚圣”。孟子生于战国诸侯混战最激烈的时期，他提出“民贵君轻”、对人民作一定的让步、反对掠夺性战争等主张。为此，他到各国去游说诸侯，反对“霸道”，提倡以“仁”“义”为中心的“仁政”、“王道”。他继承和发扬了孔子的思想，希望能够在诸侯中选出一位王天下的君主。由于他的这些主张与当时激烈混战的社会状况不符，所以均未被统治者所采纳。孟子退而与弟子著书，遂成</a:t>
            </a:r>
            <a:r>
              <a:rPr b="0" lang="en-US" sz="3200" spc="-1" strike="noStrike">
                <a:solidFill>
                  <a:srgbClr val="4e4a3e"/>
                </a:solidFill>
                <a:latin typeface="Times New Roman"/>
                <a:ea typeface="隶书"/>
              </a:rPr>
              <a:t>《</a:t>
            </a:r>
            <a:r>
              <a:rPr b="0" lang="zh-CN" sz="3200" spc="-1" strike="noStrike">
                <a:solidFill>
                  <a:srgbClr val="4e4a3e"/>
                </a:solidFill>
                <a:latin typeface="Times New Roman"/>
                <a:ea typeface="隶书"/>
              </a:rPr>
              <a:t>孟子</a:t>
            </a:r>
            <a:r>
              <a:rPr b="0" lang="en-US" sz="3200" spc="-1" strike="noStrike">
                <a:solidFill>
                  <a:srgbClr val="4e4a3e"/>
                </a:solidFill>
                <a:latin typeface="Times New Roman"/>
                <a:ea typeface="隶书"/>
              </a:rPr>
              <a:t>》</a:t>
            </a:r>
            <a:r>
              <a:rPr b="0" lang="zh-CN" sz="3200" spc="-1" strike="noStrike">
                <a:solidFill>
                  <a:srgbClr val="4e4a3e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5"/>
          <p:cNvSpPr/>
          <p:nvPr/>
        </p:nvSpPr>
        <p:spPr>
          <a:xfrm>
            <a:off x="529272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2" descr="002-1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002-2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003-1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003-2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53440"/>
          </a:xfrm>
          <a:prstGeom prst="rect">
            <a:avLst/>
          </a:prstGeom>
          <a:ln w="0">
            <a:noFill/>
          </a:ln>
        </p:spPr>
      </p:pic>
      <p:sp>
        <p:nvSpPr>
          <p:cNvPr id="204" name="文本框 8198"/>
          <p:cNvSpPr/>
          <p:nvPr/>
        </p:nvSpPr>
        <p:spPr>
          <a:xfrm>
            <a:off x="2484360" y="4005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2T02:27:1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36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