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B13A-C58E-4CBA-9324-D40A6935E7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A227-A3D7-4097-9F20-62ADA6283B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5DD-D9B5-4116-9D43-18AB8D1C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B99-6FE7-4201-AB6E-7E38BA41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A7A-9C0F-46A5-B983-4EF364D1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15A-F5A7-46CE-9613-D5B1C6B4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095-D0F7-4905-84DA-F58220C1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106-57E7-4A82-B8FF-5DC39941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809-8D6A-4B7A-8614-AFD609E0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469-0649-4D33-BE5A-778761A7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A39-2BA7-4543-AF51-746F68C4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D8A-3C6E-477F-AB86-D2E92B17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690-6D0D-4618-913F-83965816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5AE-684C-4D3C-9FC6-6C05603C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E3DF-F4C7-4F6A-843C-E45920B00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971640" y="907920"/>
            <a:ext cx="748800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找找单位“</a:t>
            </a: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”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42784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26"/>
          <p:cNvSpPr/>
          <p:nvPr/>
        </p:nvSpPr>
        <p:spPr>
          <a:xfrm>
            <a:off x="1554120" y="681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042920" y="4762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面各题应把什么看作单位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76360" y="1628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甲的           是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4427640" y="1844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643280" y="134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0" y="1916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124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547640" y="2997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乙是甲的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5292720" y="3284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508720" y="27082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5508720" y="32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19280" y="443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乙的         相当于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4067280" y="4724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211640" y="4149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4119480" y="4640400"/>
            <a:ext cx="8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619280" y="5661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宽是长的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4932360" y="5950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5292720" y="537372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5292720" y="5805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3059280" y="2276640"/>
            <a:ext cx="576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3851280" y="3645000"/>
            <a:ext cx="576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2987640" y="5013360"/>
            <a:ext cx="6476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5"/>
          <p:cNvSpPr/>
          <p:nvPr/>
        </p:nvSpPr>
        <p:spPr>
          <a:xfrm>
            <a:off x="3995640" y="6237360"/>
            <a:ext cx="5050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258920" y="69228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丽比小华重         。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5651640" y="98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867280" y="476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5867280" y="1052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187280" y="206064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杨树比柳树多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5796000" y="234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5940360" y="1773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012000" y="242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1116000" y="3429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汽车行了全程的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630072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516720" y="3284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516720" y="3860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116000" y="49417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项工程每天完成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637236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516720" y="4653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6372360" y="5373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4211640" y="1268280"/>
            <a:ext cx="792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>
            <a:off x="4067280" y="2637000"/>
            <a:ext cx="72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4427640" y="4005360"/>
            <a:ext cx="8650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4"/>
          <p:cNvSpPr/>
          <p:nvPr/>
        </p:nvSpPr>
        <p:spPr>
          <a:xfrm>
            <a:off x="2627280" y="5516640"/>
            <a:ext cx="1728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763640" y="1125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足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1403280" y="2276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篮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349236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637236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6372360" y="278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>
            <a:off x="70930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637236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6372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6372360" y="2349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9"/>
          <p:cNvGrpSpPr/>
          <p:nvPr/>
        </p:nvGrpSpPr>
        <p:grpSpPr>
          <a:xfrm>
            <a:off x="3492360" y="620640"/>
            <a:ext cx="2880000" cy="863640"/>
            <a:chOff x="3492360" y="620640"/>
            <a:chExt cx="2880000" cy="863640"/>
          </a:xfrm>
        </p:grpSpPr>
        <p:sp>
          <p:nvSpPr>
            <p:cNvPr id="103" name="Line 7"/>
            <p:cNvSpPr/>
            <p:nvPr/>
          </p:nvSpPr>
          <p:spPr>
            <a:xfrm>
              <a:off x="4211640" y="14130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349236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493236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1"/>
            <p:cNvSpPr/>
            <p:nvPr/>
          </p:nvSpPr>
          <p:spPr>
            <a:xfrm>
              <a:off x="565164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>
              <a:off x="637236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37"/>
            <p:cNvGrpSpPr/>
            <p:nvPr/>
          </p:nvGrpSpPr>
          <p:grpSpPr>
            <a:xfrm>
              <a:off x="3492360" y="620640"/>
              <a:ext cx="2879640" cy="863640"/>
              <a:chOff x="3492360" y="620640"/>
              <a:chExt cx="2879640" cy="863640"/>
            </a:xfrm>
          </p:grpSpPr>
          <p:sp>
            <p:nvSpPr>
              <p:cNvPr id="109" name="Line 5"/>
              <p:cNvSpPr/>
              <p:nvPr/>
            </p:nvSpPr>
            <p:spPr>
              <a:xfrm>
                <a:off x="3493800" y="1484280"/>
                <a:ext cx="7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213080" y="1484280"/>
                <a:ext cx="7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0"/>
              <p:cNvSpPr/>
              <p:nvPr/>
            </p:nvSpPr>
            <p:spPr>
              <a:xfrm>
                <a:off x="4933800" y="1484280"/>
                <a:ext cx="7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2"/>
              <p:cNvSpPr/>
              <p:nvPr/>
            </p:nvSpPr>
            <p:spPr>
              <a:xfrm>
                <a:off x="5653080" y="1484280"/>
                <a:ext cx="71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27"/>
              <p:cNvSpPr/>
              <p:nvPr/>
            </p:nvSpPr>
            <p:spPr>
              <a:xfrm rot="16200000">
                <a:off x="4752000" y="-279000"/>
                <a:ext cx="360360" cy="2879640"/>
              </a:xfrm>
              <a:custGeom>
                <a:avLst/>
                <a:gdLst>
                  <a:gd name="textAreaLeft" fmla="*/ 0 w 360360"/>
                  <a:gd name="textAreaRight" fmla="*/ 129960 w 360360"/>
                  <a:gd name="textAreaTop" fmla="*/ 74880 h 2879640"/>
                  <a:gd name="textAreaBottom" fmla="*/ 2804760 h 28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28"/>
              <p:cNvSpPr/>
              <p:nvPr/>
            </p:nvSpPr>
            <p:spPr>
              <a:xfrm>
                <a:off x="4357440" y="620640"/>
                <a:ext cx="129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个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30"/>
          <p:cNvSpPr/>
          <p:nvPr/>
        </p:nvSpPr>
        <p:spPr>
          <a:xfrm>
            <a:off x="4788000" y="1700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8"/>
          <p:cNvGrpSpPr/>
          <p:nvPr/>
        </p:nvGrpSpPr>
        <p:grpSpPr>
          <a:xfrm>
            <a:off x="3492360" y="1952640"/>
            <a:ext cx="3600720" cy="1189080"/>
            <a:chOff x="3492360" y="1952640"/>
            <a:chExt cx="3600720" cy="1189080"/>
          </a:xfrm>
        </p:grpSpPr>
        <p:sp>
          <p:nvSpPr>
            <p:cNvPr id="117" name="Line 15"/>
            <p:cNvSpPr/>
            <p:nvPr/>
          </p:nvSpPr>
          <p:spPr>
            <a:xfrm>
              <a:off x="3492360" y="2781360"/>
              <a:ext cx="28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9"/>
            <p:cNvSpPr/>
            <p:nvPr/>
          </p:nvSpPr>
          <p:spPr>
            <a:xfrm rot="16200000">
              <a:off x="4986360" y="458640"/>
              <a:ext cx="612720" cy="3600720"/>
            </a:xfrm>
            <a:custGeom>
              <a:avLst/>
              <a:gdLst>
                <a:gd name="textAreaLeft" fmla="*/ 0 w 612720"/>
                <a:gd name="textAreaRight" fmla="*/ 221040 w 612720"/>
                <a:gd name="textAreaTop" fmla="*/ 93600 h 3600720"/>
                <a:gd name="textAreaBottom" fmla="*/ 3507120 h 36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1"/>
            <p:cNvSpPr/>
            <p:nvPr/>
          </p:nvSpPr>
          <p:spPr>
            <a:xfrm rot="5400000">
              <a:off x="6588000" y="2636640"/>
              <a:ext cx="289080" cy="72072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32"/>
          <p:cNvSpPr/>
          <p:nvPr/>
        </p:nvSpPr>
        <p:spPr>
          <a:xfrm>
            <a:off x="5508720" y="3357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比足球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3"/>
          <p:cNvSpPr/>
          <p:nvPr/>
        </p:nvSpPr>
        <p:spPr>
          <a:xfrm>
            <a:off x="752472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766764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7667640" y="3716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6"/>
          <p:cNvSpPr/>
          <p:nvPr/>
        </p:nvSpPr>
        <p:spPr>
          <a:xfrm>
            <a:off x="1908000" y="1700280"/>
            <a:ext cx="1008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4"/>
          <p:cNvGrpSpPr/>
          <p:nvPr/>
        </p:nvGrpSpPr>
        <p:grpSpPr>
          <a:xfrm>
            <a:off x="3492360" y="620640"/>
            <a:ext cx="2879640" cy="863640"/>
            <a:chOff x="3492360" y="620640"/>
            <a:chExt cx="2879640" cy="863640"/>
          </a:xfrm>
        </p:grpSpPr>
        <p:sp>
          <p:nvSpPr>
            <p:cNvPr id="126" name="Line 5"/>
            <p:cNvSpPr/>
            <p:nvPr/>
          </p:nvSpPr>
          <p:spPr>
            <a:xfrm>
              <a:off x="3493800" y="1484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4213080" y="1484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4933800" y="1484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5653080" y="14842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 rot="16200000">
              <a:off x="4752000" y="-279000"/>
              <a:ext cx="360360" cy="287964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74880 h 2879640"/>
                <a:gd name="textAreaBottom" fmla="*/ 2804760 h 28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0"/>
            <p:cNvSpPr/>
            <p:nvPr/>
          </p:nvSpPr>
          <p:spPr>
            <a:xfrm>
              <a:off x="4357440" y="6206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？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1"/>
          <p:cNvGrpSpPr/>
          <p:nvPr/>
        </p:nvGrpSpPr>
        <p:grpSpPr>
          <a:xfrm>
            <a:off x="3492360" y="1952640"/>
            <a:ext cx="3600720" cy="1189080"/>
            <a:chOff x="3492360" y="1952640"/>
            <a:chExt cx="3600720" cy="1189080"/>
          </a:xfrm>
        </p:grpSpPr>
        <p:sp>
          <p:nvSpPr>
            <p:cNvPr id="133" name="Line 12"/>
            <p:cNvSpPr/>
            <p:nvPr/>
          </p:nvSpPr>
          <p:spPr>
            <a:xfrm>
              <a:off x="3492360" y="2781360"/>
              <a:ext cx="28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 rot="16200000">
              <a:off x="4986360" y="458640"/>
              <a:ext cx="612720" cy="3600720"/>
            </a:xfrm>
            <a:custGeom>
              <a:avLst/>
              <a:gdLst>
                <a:gd name="textAreaLeft" fmla="*/ 0 w 612720"/>
                <a:gd name="textAreaRight" fmla="*/ 221040 w 612720"/>
                <a:gd name="textAreaTop" fmla="*/ 93600 h 3600720"/>
                <a:gd name="textAreaBottom" fmla="*/ 3507120 h 36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 rot="5400000">
              <a:off x="6588000" y="2636640"/>
              <a:ext cx="289080" cy="72072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Line 19"/>
          <p:cNvSpPr/>
          <p:nvPr/>
        </p:nvSpPr>
        <p:spPr>
          <a:xfrm>
            <a:off x="3492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6372360" y="134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>
            <a:off x="5003640" y="141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428472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5651640" y="141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>
            <a:off x="349236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637236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7"/>
          <p:cNvSpPr/>
          <p:nvPr/>
        </p:nvSpPr>
        <p:spPr>
          <a:xfrm>
            <a:off x="421164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493236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9"/>
          <p:cNvSpPr/>
          <p:nvPr/>
        </p:nvSpPr>
        <p:spPr>
          <a:xfrm>
            <a:off x="565164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3"/>
          <p:cNvSpPr/>
          <p:nvPr/>
        </p:nvSpPr>
        <p:spPr>
          <a:xfrm>
            <a:off x="637236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4"/>
          <p:cNvSpPr/>
          <p:nvPr/>
        </p:nvSpPr>
        <p:spPr>
          <a:xfrm>
            <a:off x="70930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5"/>
          <p:cNvSpPr/>
          <p:nvPr/>
        </p:nvSpPr>
        <p:spPr>
          <a:xfrm>
            <a:off x="4572000" y="1557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1835280" y="9079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篮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183528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足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8"/>
          <p:cNvSpPr/>
          <p:nvPr/>
        </p:nvSpPr>
        <p:spPr>
          <a:xfrm>
            <a:off x="637236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9"/>
          <p:cNvSpPr/>
          <p:nvPr/>
        </p:nvSpPr>
        <p:spPr>
          <a:xfrm>
            <a:off x="6372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0"/>
          <p:cNvSpPr/>
          <p:nvPr/>
        </p:nvSpPr>
        <p:spPr>
          <a:xfrm>
            <a:off x="5580000" y="3357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比篮球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1"/>
          <p:cNvSpPr/>
          <p:nvPr/>
        </p:nvSpPr>
        <p:spPr>
          <a:xfrm>
            <a:off x="7524720" y="37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7740720" y="3068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3"/>
          <p:cNvSpPr/>
          <p:nvPr/>
        </p:nvSpPr>
        <p:spPr>
          <a:xfrm>
            <a:off x="7740720" y="3716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4"/>
          <p:cNvSpPr/>
          <p:nvPr/>
        </p:nvSpPr>
        <p:spPr>
          <a:xfrm>
            <a:off x="2050920" y="1484280"/>
            <a:ext cx="792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"/>
          <p:cNvSpPr/>
          <p:nvPr/>
        </p:nvSpPr>
        <p:spPr>
          <a:xfrm>
            <a:off x="136440" y="5783400"/>
            <a:ext cx="67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684360" y="54936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比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1413000"/>
            <a:ext cx="100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的果园里有梨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棵，苹果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826920" y="23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树比梨树多多少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826920" y="321300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梨树比苹果树少多少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826920" y="4005360"/>
            <a:ext cx="9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梨树的棵树是苹果树的几分之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55640" y="4797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树的棵树是梨树的几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395280" y="4762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一班有学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其中男生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。男生人数占全班的几分之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2637000"/>
            <a:ext cx="90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一班有学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男生占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生有多少人？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7524720" y="2997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7740720" y="2349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7740720" y="2997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395280" y="4869000"/>
            <a:ext cx="9505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一班有女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占全班的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班共有学生多少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7956720" y="5157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172360" y="4581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172360" y="522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86F8-70C7-45FC-9FEC-1C1B9CE801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5:08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25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