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0AA-2F4B-4812-9B11-50AD37FD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2E6-840E-473E-AB1C-3D43181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AAC-0871-427C-8F60-F1745624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51B-5077-4499-BF2A-3DB1660E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D9D-A020-4252-865B-64D18C1C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BA2-60C2-447C-93AB-90B684F2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07E-E4CE-4003-BBDA-AE1002C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290-4C93-4603-8C5A-50B3B29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7B4-B80C-4174-9289-0E5C2356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F53-0FB1-4A8D-959C-16B4A3AF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A3A-1570-4F78-9E7A-EB433F1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EB2-C7CA-4F05-85D1-7D06375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0E3-7944-48BD-8634-2D22FEC3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6364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百分数应用题（</a:t>
            </a:r>
            <a:r>
              <a:rPr b="1" lang="en-US" sz="7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509920" y="6021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708360" y="3005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79280" y="941400"/>
            <a:ext cx="8964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用关系式表示下列各题的数量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男生人数是女生人数的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实际产量占计划的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今年比去年增产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实际投资比计划节约百分之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42920" y="333360"/>
            <a:ext cx="720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、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少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多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76360" y="439416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实际造价是计划的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87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实际造价比计划节约了（  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4360" y="333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计划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零件，实际超过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，超过计划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84360" y="33577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计划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零件，实际生产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6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个，超过计划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84360" y="765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一件上衣现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原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降低了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4360" y="335772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一件上衣现价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比原价降低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元，比原价降低了百分之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4360" y="1557360"/>
            <a:ext cx="8064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甲数是乙数的  ，乙数比甲数多（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）甲数比乙数少（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%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5940360" y="1413000"/>
            <a:ext cx="655560" cy="1131840"/>
            <a:chOff x="5940360" y="1413000"/>
            <a:chExt cx="655560" cy="1131840"/>
          </a:xfrm>
        </p:grpSpPr>
        <p:sp>
          <p:nvSpPr>
            <p:cNvPr id="53" name="Line 4"/>
            <p:cNvSpPr/>
            <p:nvPr/>
          </p:nvSpPr>
          <p:spPr>
            <a:xfrm>
              <a:off x="5940360" y="1917360"/>
              <a:ext cx="584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5"/>
            <p:cNvSpPr/>
            <p:nvPr/>
          </p:nvSpPr>
          <p:spPr>
            <a:xfrm>
              <a:off x="6011640" y="1841400"/>
              <a:ext cx="58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6011640" y="1413000"/>
              <a:ext cx="5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1"/>
          <p:cNvSpPr/>
          <p:nvPr/>
        </p:nvSpPr>
        <p:spPr>
          <a:xfrm>
            <a:off x="1008000" y="57592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D84E-A77E-47F0-AC2F-21B3D0068D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2:10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07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