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B75-72AF-4E42-A7D4-08EB8CBF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0CC-CA0D-4DC1-8F23-4CE8EE56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26D-5B19-4ED7-936F-52A8457F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447F-F16D-4DFD-A845-B5D360C9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37E5-8F2B-47A2-A974-DE9AB45D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4035-9DC5-45A4-B99C-2762FFD2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FE8B-C5C5-41A2-B9DA-B776E7FC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0C99-6D95-4CA6-99C7-19D0728E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C595-DB1E-49ED-99E2-D2DACE23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D20A-23CC-4D55-BCF5-19474786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CA2C-9C06-4B90-8649-FF6A9C30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11E-FC46-4BC3-8D5D-14117F21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8333-C293-44E1-A09D-ABFE8192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43EB-8894-4702-99B9-A180EEE0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D280-1A0C-4DEE-8368-CB6039FB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C751-F0DA-47CA-8936-971E7109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D375-0ADD-4625-9E81-0DD82105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90F31-7F93-47C4-8378-824A08F9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20498-FF31-470C-B588-3E6C1B34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908A1-C2C3-4DE7-9253-D14A3D16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3EC69-749E-469D-972F-DDDEBCFC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FF73C-C192-430A-9740-BA6CA4EE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0567-BA66-43C9-B73A-3599EB9A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C4948-663B-4D83-A714-5737AFF3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C6F08-BEAB-4F52-9134-00207CF5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AD926-CF68-4081-A5E1-F58E383E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8324C-7972-4559-824B-F0A9DA14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0D028-776A-45B0-A61D-65FA2F46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9568B-2DFA-4082-8ADB-E5B29C50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E69D8-1F6A-45E7-AA97-44604927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957-8CE8-44D4-8081-3AE93CA2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30F-142D-4301-AAD1-AFD0693E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2C1-E7FC-4061-A10D-A95C6188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38F-FFAB-4368-A17D-433D00A5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F87-9C4F-4437-B677-FA67272A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6DE-B063-44CF-A845-B4DB8D8A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5121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任意多边形 5122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任意多边形 5123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任意多边形 5124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任意多边形 5125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任意多边形 5126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任意多边形 5127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任意多边形 5128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任意多边形 5129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任意多边形 5130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任意多边形 5131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任意多边形 5132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任意多边形 5133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任意多边形 5134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任意多边形 5135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任意多边形 5136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任意多边形 5137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任意多边形 5138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任意多边形 5139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任意多边形 5140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任意多边形 5141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任意多边形 5142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任意多边形 5143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组合 5144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任意多边形 5145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任意多边形 5146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任意多边形 5147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D450-D705-4541-8A47-A969D6F8A6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07DE-B5F4-4441-A935-AD1447B8073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0181-F326-41FE-93DB-2062F4DB9C9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6145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110" name="任意多边形 6146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1" name="任意多边形 6147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" name="任意多边形 6148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" name="任意多边形 6149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" name="任意多边形 6150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5" name="任意多边形 6151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" name="任意多边形 6152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7" name="任意多边形 6153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" name="任意多边形 6154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9" name="任意多边形 6155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" name="任意多边形 6156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1" name="任意多边形 6157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" name="任意多边形 6158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3" name="任意多边形 6159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" name="任意多边形 6160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5" name="任意多边形 6161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" name="任意多边形 6162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7" name="任意多边形 6163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" name="任意多边形 6164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" name="任意多边形 6165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0" name="任意多边形 6166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" name="任意多边形 6167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32" name="组合 6168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133" name="任意多边形 6169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" name="任意多边形 6170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5" name="任意多边形 6171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DDF6-9358-4437-AB08-5BB9C6A2B6F4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多媒体在教学中的应用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219320" y="33526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545472"/>
              </a:solidFill>
              <a:latin typeface="方正魏碑简体"/>
              <a:ea typeface="方正魏碑简体"/>
            </a:endParaRPr>
          </a:p>
        </p:txBody>
      </p:sp>
      <p:pic>
        <p:nvPicPr>
          <p:cNvPr id="179" name="图片 4099" descr="BS00580_"/>
          <p:cNvPicPr/>
          <p:nvPr/>
        </p:nvPicPr>
        <p:blipFill>
          <a:blip r:embed="rId1"/>
          <a:stretch/>
        </p:blipFill>
        <p:spPr>
          <a:xfrm>
            <a:off x="380880" y="4038480"/>
            <a:ext cx="2743200" cy="2311560"/>
          </a:xfrm>
          <a:prstGeom prst="rect">
            <a:avLst/>
          </a:prstGeom>
          <a:ln w="0">
            <a:noFill/>
          </a:ln>
        </p:spPr>
      </p:pic>
      <p:sp>
        <p:nvSpPr>
          <p:cNvPr id="180" name="日期占位符 1"/>
          <p:cNvSpPr/>
          <p:nvPr/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426708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5050"/>
                </a:solidFill>
                <a:latin typeface="Times New Roman"/>
                <a:ea typeface="方正隶书简体"/>
              </a:rPr>
              <a:t>两个优点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44953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它可以将内在的、本质的东西展现出，既形  象又直观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 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矩形 7171"/>
          <p:cNvSpPr/>
          <p:nvPr/>
        </p:nvSpPr>
        <p:spPr>
          <a:xfrm>
            <a:off x="762120" y="16765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它与以前那种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张嘴、一本书、一黑板的传统教学手段相比，主要有以下两个优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矩形 7172"/>
          <p:cNvSpPr/>
          <p:nvPr/>
        </p:nvSpPr>
        <p:spPr>
          <a:xfrm>
            <a:off x="838080" y="2666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它可以包含图、文、声、像、视频等多种媒   体信息，做到图文并茂 ，活跃课堂气氛，把学生带入一个全新的教学模式中，从而激发学生学习的热情与兴趣；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38862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5050"/>
                </a:solidFill>
                <a:latin typeface="Times New Roman"/>
                <a:ea typeface="方正隶书简体"/>
              </a:rPr>
              <a:t>两个问题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课堂教学要达到既定的认识目标，需要重点解决两个焦点问题：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5050"/>
                </a:solidFill>
                <a:latin typeface="宋体"/>
              </a:rPr>
              <a:t>、突出重点知识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5050"/>
                </a:solidFill>
                <a:latin typeface="宋体"/>
              </a:rPr>
              <a:t>、突破难点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突出重点和突破难点的方法有多种，以计算机为中心的多媒体辅助教学手段，与传统教学手段有机结合、共同参与教学过程。                突出教学重点，化解教学难点，            使学生在最佳的情境中学习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 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8" name="图片 10244" descr="Q_003"/>
          <p:cNvPicPr/>
          <p:nvPr/>
        </p:nvPicPr>
        <p:blipFill>
          <a:blip r:embed="rId5"/>
          <a:stretch/>
        </p:blipFill>
        <p:spPr>
          <a:xfrm>
            <a:off x="6019920" y="4267080"/>
            <a:ext cx="2867040" cy="1770120"/>
          </a:xfrm>
          <a:prstGeom prst="rect">
            <a:avLst/>
          </a:prstGeom>
          <a:ln w="0">
            <a:noFill/>
          </a:ln>
        </p:spPr>
      </p:pic>
      <p:sp>
        <p:nvSpPr>
          <p:cNvPr id="189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机多媒体辅助教学在教学中的运用主要有以下几个方面： 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1" lang="zh-CN" sz="28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运用多媒体激发学习兴趣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兴趣是获得成功的动力，是推动人们求知的一种内在力量，兴趣必然引起追求。例如，在讲授新课时，利用计算机多媒体技术，运用文字、声音、图象及大量色彩鲜明、活泼有趣的音响动画，来刺激学生和调动学生多种感觉。以多种方式、不同的表现手法对新课的内容进行加工，生动、有趣地展现于学生面前，让学生充分认识现象、本质及规律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运用多媒体增大教学信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计算机多媒体的大信息量，省时省力的优势是传统手段无法比拟的。利用多媒体技术可以进行高密度的知识传授，大信息量的优化处理，大大提高教学密度。众所周知：图形不是语言，但比语言更形象、直观。在授课中很多抽象的知识很难用语言来描述，若把这些抽象的知识通过计算机的模拟功能，转化成直观、形象、生动的动画，利用文字闪烁、图象放缩与移动、颜色变换等手段，使容量大，速度快，效果更好。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、运用多媒体优化教学过程 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媒体的运用可克服人类感官的局限性，提高人的感觉和思维的能力。现代计算机技术在图形处理上具有高超的能力，利用这一特有功能可以变抽象为具体，变静态为动态，将微观过程加以宏观模拟，把宏观场景作微观处理，对瞬间变化搞定格分析。增强学生对事物的理性认识，使 “ 教 ” 与 “ 学 ” 变得易于开展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化学是研究物质的组成、结构、性质和化学反应过程和反应规律的科学。但物质的结构、化学反应的机理，学生理解起来很困难，通过多媒体技术能很好的解决这一问题。 </a:t>
            </a:r>
            <a:r>
              <a:rPr b="0" lang="zh-CN" sz="2400" spc="-1" strike="noStrike">
                <a:solidFill>
                  <a:srgbClr val="545472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45472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、运用多媒体优化实验 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学化学中有相当一部分实验，无法在课堂上直接演示，学起来比较抽象，学生既要理解课体中的文字说明，又要发挥想象力，有时也不易弄清反应原理。但利用多媒体开发软件，将这些抽象复杂不易弄清的内容制作成课件，在屏幕上进行微观放大，宏观缩小，动静结合，在短时间内从多角度、多层面展示化学反应流程。使知识由抽象变成形象，使学生易懂易掌握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 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38:23Z</dcterms:created>
  <dc:creator/>
  <dc:description/>
  <cp:keywords>多媒体 教学 应用</cp:keywords>
  <dc:language>en-US</dc:language>
  <cp:lastModifiedBy>An</cp:lastModifiedBy>
  <dcterms:modified xsi:type="dcterms:W3CDTF">2016-05-01T00:38:2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