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76D3-1EBE-4C71-9EB3-E8143948F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24FA-326E-44DB-B9F5-3F37029F7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42ED-BEB1-4AA9-9461-3B7FF1437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33B7-9C6E-4C84-9720-A46B8B1F9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2013-8443-4B0C-88CB-C59080652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BC21-DBD2-434A-8BDE-F57FA0A48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26C4-B4E9-4307-8F0D-6446E4AD5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C9FA-641F-4FD1-B6C4-137F8D549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6238-3CAE-4DFD-BF86-1C75FA786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8E89-668E-488D-A2F2-2D1187155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B533-F301-42BF-BBA6-3A086E7DB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9D7E-90B8-4880-88EB-0D0CA9B70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BF687-6F60-4FCD-87C6-1752B1CFED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6"/>
          <p:cNvSpPr/>
          <p:nvPr/>
        </p:nvSpPr>
        <p:spPr>
          <a:xfrm>
            <a:off x="4038480" y="533412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" descr="图标1"/>
          <p:cNvPicPr/>
          <p:nvPr/>
        </p:nvPicPr>
        <p:blipFill>
          <a:blip r:embed="rId2"/>
          <a:stretch/>
        </p:blipFill>
        <p:spPr>
          <a:xfrm>
            <a:off x="1752480" y="685800"/>
            <a:ext cx="5410440" cy="1219320"/>
          </a:xfrm>
          <a:prstGeom prst="rect">
            <a:avLst/>
          </a:prstGeom>
          <a:ln w="0">
            <a:noFill/>
          </a:ln>
        </p:spPr>
      </p:pic>
      <p:sp>
        <p:nvSpPr>
          <p:cNvPr id="43" name="WordArt 3"/>
          <p:cNvSpPr txBox="1"/>
          <p:nvPr/>
        </p:nvSpPr>
        <p:spPr>
          <a:xfrm>
            <a:off x="1828800" y="2438280"/>
            <a:ext cx="5619600" cy="101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ln w="0">
                  <a:noFill/>
                </a:ln>
                <a:gradFill rotWithShape="0">
                  <a:gsLst>
                    <a:gs pos="0">
                      <a:srgbClr val="fff200">
                        <a:alpha val="50196"/>
                      </a:srgbClr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黑体"/>
              </a:rPr>
              <a:t>父亲和鸟</a:t>
            </a:r>
            <a:endParaRPr b="0" lang="en-US" sz="8000" spc="-1" strike="noStrike">
              <a:ln w="0">
                <a:noFill/>
              </a:ln>
              <a:gradFill rotWithShape="0">
                <a:gsLst>
                  <a:gs pos="0">
                    <a:srgbClr val="fff200">
                      <a:alpha val="50196"/>
                    </a:srgbClr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44" name="矩形 8"/>
          <p:cNvSpPr/>
          <p:nvPr/>
        </p:nvSpPr>
        <p:spPr>
          <a:xfrm>
            <a:off x="2520000" y="601992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4572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有。在树林里过夜的鸟总是一群一群的，羽毛焐得热腾腾的。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父亲又说：“听，鸟要唱歌了。”我们刚坐下，鸟就唱了起来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38088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有。在树林里过夜的鸟总是一群一群的，羽毛焐得热腾腾的。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父亲又说：“听，鸟要唱歌了。”我们刚坐下，鸟就唱了起来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小结：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父亲真是鸟的知音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457200" y="6854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在鸟最快活的时刻，在鸟飞离树枝的那一瞬间，最容易被猎人打中。”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黎明时的鸟，翅膀潮湿，飞起来重。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Arial"/>
              </a:rPr>
              <a:t>小结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父亲真是鸟的专家啦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533520" y="22860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如果是父亲是猎人，会怎样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文本框 1"/>
          <p:cNvSpPr/>
          <p:nvPr/>
        </p:nvSpPr>
        <p:spPr>
          <a:xfrm>
            <a:off x="1930320" y="503280"/>
            <a:ext cx="674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57200" y="236232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你认为父亲是一个怎样的人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1143000" y="304560"/>
            <a:ext cx="67816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5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5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一到冬天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5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我就希望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5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那些小鸟小兽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5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跑得远远的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逃过你的目光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5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让你的猎枪永远不响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75292-5EBC-40C2-B16D-75765BE05EF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2"/>
          <p:cNvSpPr/>
          <p:nvPr/>
        </p:nvSpPr>
        <p:spPr>
          <a:xfrm>
            <a:off x="933120" y="1467000"/>
            <a:ext cx="851400" cy="143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Arial"/>
              </a:rPr>
              <a:t>蒙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3"/>
          <p:cNvSpPr/>
          <p:nvPr/>
        </p:nvSpPr>
        <p:spPr>
          <a:xfrm>
            <a:off x="3126960" y="1419120"/>
            <a:ext cx="851400" cy="143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Arial"/>
              </a:rPr>
              <a:t>喃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5206680" y="1419120"/>
            <a:ext cx="851400" cy="143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Arial"/>
              </a:rPr>
              <a:t>味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7340400" y="1419120"/>
            <a:ext cx="851400" cy="143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Arial"/>
              </a:rPr>
              <a:t>浓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910800" y="4125960"/>
            <a:ext cx="851400" cy="143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Arial"/>
              </a:rPr>
              <a:t>腾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3126960" y="4114800"/>
            <a:ext cx="851400" cy="143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Arial"/>
              </a:rPr>
              <a:t>猎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8"/>
          <p:cNvSpPr/>
          <p:nvPr/>
        </p:nvSpPr>
        <p:spPr>
          <a:xfrm>
            <a:off x="5254200" y="4097160"/>
            <a:ext cx="851400" cy="143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Arial"/>
              </a:rPr>
              <a:t>黎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4"/>
          <p:cNvSpPr/>
          <p:nvPr/>
        </p:nvSpPr>
        <p:spPr>
          <a:xfrm>
            <a:off x="474840" y="533520"/>
            <a:ext cx="2087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mé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5"/>
          <p:cNvSpPr/>
          <p:nvPr/>
        </p:nvSpPr>
        <p:spPr>
          <a:xfrm>
            <a:off x="2608200" y="533520"/>
            <a:ext cx="1663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ná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6"/>
          <p:cNvSpPr/>
          <p:nvPr/>
        </p:nvSpPr>
        <p:spPr>
          <a:xfrm>
            <a:off x="4971240" y="563400"/>
            <a:ext cx="1323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wè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7"/>
          <p:cNvSpPr/>
          <p:nvPr/>
        </p:nvSpPr>
        <p:spPr>
          <a:xfrm>
            <a:off x="6876000" y="584280"/>
            <a:ext cx="1875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nó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8"/>
          <p:cNvSpPr/>
          <p:nvPr/>
        </p:nvSpPr>
        <p:spPr>
          <a:xfrm>
            <a:off x="611280" y="3048120"/>
            <a:ext cx="1663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té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9"/>
          <p:cNvSpPr/>
          <p:nvPr/>
        </p:nvSpPr>
        <p:spPr>
          <a:xfrm>
            <a:off x="2897640" y="3048120"/>
            <a:ext cx="1154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liè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0"/>
          <p:cNvSpPr/>
          <p:nvPr/>
        </p:nvSpPr>
        <p:spPr>
          <a:xfrm>
            <a:off x="4953960" y="3048120"/>
            <a:ext cx="985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lí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933120" y="1467000"/>
            <a:ext cx="851400" cy="143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Arial"/>
              </a:rPr>
              <a:t>蒙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3126960" y="1419120"/>
            <a:ext cx="851400" cy="143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Arial"/>
              </a:rPr>
              <a:t>喃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5206680" y="1419120"/>
            <a:ext cx="851400" cy="143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Arial"/>
              </a:rPr>
              <a:t>味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7340400" y="1419120"/>
            <a:ext cx="851400" cy="143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Arial"/>
              </a:rPr>
              <a:t>浓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910800" y="4125960"/>
            <a:ext cx="851400" cy="143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Arial"/>
              </a:rPr>
              <a:t>腾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3126960" y="4114800"/>
            <a:ext cx="851400" cy="143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Arial"/>
              </a:rPr>
              <a:t>猎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8"/>
          <p:cNvSpPr/>
          <p:nvPr/>
        </p:nvSpPr>
        <p:spPr>
          <a:xfrm>
            <a:off x="5254200" y="4097160"/>
            <a:ext cx="851400" cy="143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Arial"/>
              </a:rPr>
              <a:t>黎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60948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雾蒙蒙    美味   浓浓的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热腾腾    猎人   喃喃地说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蒙蒙亮    黎明    味精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打猎        浓眉大眼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20072115251573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60948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说说你从课文中知道了什么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Arial"/>
              </a:rPr>
              <a:t>他喃喃地说：“林子里有不少鸟。”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zh-CN" sz="5400" spc="-1" strike="noStrike">
                <a:solidFill>
                  <a:srgbClr val="ff0000"/>
                </a:solidFill>
                <a:latin typeface="Arial"/>
              </a:rPr>
              <a:t>变换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他</a:t>
            </a:r>
            <a:r>
              <a:rPr b="0" lang="zh-CN" sz="4800" spc="-1" strike="noStrike" u="sng">
                <a:solidFill>
                  <a:srgbClr val="000000"/>
                </a:solidFill>
                <a:uFillTx/>
                <a:latin typeface="Arial"/>
              </a:rPr>
              <a:t>小声地说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：“林子里有不少鸟。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他</a:t>
            </a:r>
            <a:r>
              <a:rPr b="0" lang="zh-CN" sz="4800" spc="-1" strike="noStrike" u="sng">
                <a:solidFill>
                  <a:srgbClr val="000000"/>
                </a:solidFill>
                <a:uFillTx/>
                <a:latin typeface="Arial"/>
              </a:rPr>
              <a:t>轻声地说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：“林子里有不少鸟。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他</a:t>
            </a:r>
            <a:r>
              <a:rPr b="0" lang="zh-CN" sz="4800" spc="-1" strike="noStrike" u="sng">
                <a:solidFill>
                  <a:srgbClr val="000000"/>
                </a:solidFill>
                <a:uFillTx/>
                <a:latin typeface="Arial"/>
              </a:rPr>
              <a:t>自言自语地说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：“林子里有少鸟。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533520" y="5335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看那里，没有风，叶子为什么在动？嗯，还有鸟味。”父亲的话音很轻，生怕惊动了鸟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609480" y="11430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看那里，没有风，叶子为什么在动？嗯，还有鸟味。”父亲的话音很轻，生怕惊动了鸟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小结：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父亲真是鸟的爱护者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26T13:00:34Z</dcterms:created>
  <dc:creator>第一PPT模板网-WWW.1PPT.COM</dc:creator>
  <dc:description>第一PPT模板网-WWW.1PPT.COM
</dc:description>
  <cp:keywords/>
  <dc:language>en-US</dc:language>
  <cp:lastModifiedBy>xinxing</cp:lastModifiedBy>
  <dcterms:modified xsi:type="dcterms:W3CDTF">2017-04-16T15:31:58Z</dcterms:modified>
  <cp:revision>20</cp:revision>
  <dc:subject/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  <property fmtid="{D5CDD505-2E9C-101B-9397-08002B2CF9AE}" pid="3" name="Version">
    <vt:r8>1</vt:r8>
  </property>
</Properties>
</file>