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type.wav" ContentType="audio/x-wav"/>
  <Override PartName="/ppt/media/image28.wmf" ContentType="image/x-wmf"/>
  <Override PartName="/ppt/media/image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907-6018-47B6-9CC8-504B5ACF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869-4BBA-43D5-9728-EBD882D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C9E-2337-4C09-B89E-1679FEA6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A0E-9FDD-4F21-B066-BCCA6E74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60E-80FA-434C-BFB6-1D94D8A0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CD2-D9C1-44DB-A51E-195FF14E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925-60BA-4821-A3F1-A1DAF60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E6F-A648-4AFE-85F0-A64E29EB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A18-8FD6-4CBC-A36F-EB2F0E96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EA3-A972-4A42-95AC-1B31892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B97-2491-4F98-B17B-602FEE6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3B7-01BC-4008-A887-843F8179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11C8-FC58-4EA6-B0D7-908F664CE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rcRect l="0" t="0" r="0" b="261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200240" y="657360"/>
            <a:ext cx="6524640" cy="8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>
                    <a:alpha val="99000"/>
                  </a:srgbClr>
                </a:solidFill>
                <a:latin typeface="宋体"/>
              </a:rPr>
              <a:t>概率课件</a:t>
            </a:r>
            <a:r>
              <a:rPr b="1" lang="en-US" sz="4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>
                    <a:alpha val="99000"/>
                  </a:srgbClr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>
                    <a:alpha val="99000"/>
                  </a:srgbClr>
                </a:solidFill>
                <a:latin typeface="宋体"/>
              </a:rPr>
              <a:t>模板免费下载</a:t>
            </a:r>
            <a:endParaRPr b="1" lang="en-US" sz="40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>
                  <a:alpha val="99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3" name="文本框 6155"/>
          <p:cNvSpPr/>
          <p:nvPr/>
        </p:nvSpPr>
        <p:spPr>
          <a:xfrm>
            <a:off x="23760" y="647532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265920" y="907920"/>
            <a:ext cx="29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１、当Ａ是必然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79280" y="2349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２、当Ａ是不可能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100880" y="4724280"/>
            <a:ext cx="6279120" cy="865080"/>
            <a:chOff x="1100880" y="4724280"/>
            <a:chExt cx="6279120" cy="865080"/>
          </a:xfrm>
        </p:grpSpPr>
        <p:sp>
          <p:nvSpPr>
            <p:cNvPr id="92" name="Line 6"/>
            <p:cNvSpPr/>
            <p:nvPr/>
          </p:nvSpPr>
          <p:spPr>
            <a:xfrm>
              <a:off x="1258920" y="5589360"/>
              <a:ext cx="583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258920" y="537192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7093080" y="537192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9"/>
            <p:cNvSpPr/>
            <p:nvPr/>
          </p:nvSpPr>
          <p:spPr>
            <a:xfrm>
              <a:off x="4140360" y="544500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1100880" y="4724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6985800" y="4816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Line 12"/>
          <p:cNvSpPr/>
          <p:nvPr/>
        </p:nvSpPr>
        <p:spPr>
          <a:xfrm flipH="1">
            <a:off x="1403280" y="5157720"/>
            <a:ext cx="54007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197080" y="59500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件发生的可能性越来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692360" y="458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件发生的可能性越来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4920" y="587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可能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020000" y="593424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然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7422840" y="5154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概率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1476360" y="5877000"/>
            <a:ext cx="54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5840" y="1916280"/>
            <a:ext cx="9128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95280" y="33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不可能事件，必然事件与随机事件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3"/>
          <p:cNvSpPr txBox="1"/>
          <p:nvPr/>
        </p:nvSpPr>
        <p:spPr>
          <a:xfrm>
            <a:off x="108000" y="0"/>
            <a:ext cx="105732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527040" y="1628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必然事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5022720" y="162864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165720" y="162864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458640" y="2997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5411880" y="2997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6012000" y="29973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1544400" y="3533760"/>
            <a:ext cx="6313680" cy="1190520"/>
            <a:chOff x="1544400" y="3533760"/>
            <a:chExt cx="6313680" cy="1190520"/>
          </a:xfrm>
        </p:grpSpPr>
        <p:sp>
          <p:nvSpPr>
            <p:cNvPr id="115" name="Rectangle 30"/>
            <p:cNvSpPr/>
            <p:nvPr/>
          </p:nvSpPr>
          <p:spPr>
            <a:xfrm>
              <a:off x="1544400" y="3533760"/>
              <a:ext cx="6313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、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确定事件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发生的可能性是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大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0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而小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即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随机事件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Object 31" descr=""/>
            <p:cNvPicPr/>
            <p:nvPr/>
          </p:nvPicPr>
          <p:blipFill>
            <a:blip r:embed="rId1"/>
            <a:stretch/>
          </p:blipFill>
          <p:spPr>
            <a:xfrm>
              <a:off x="4284720" y="4059360"/>
              <a:ext cx="2232000" cy="66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-720"/>
            <a:ext cx="46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由定义可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79280" y="981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概率反映了随机事件发生的可能性的大小。事件发生的可能性越大，它的概率越接近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；反之，事件发生的可能性越小，它的概率越接近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250920" y="3108240"/>
            <a:ext cx="8076960" cy="1112760"/>
            <a:chOff x="250920" y="3108240"/>
            <a:chExt cx="8076960" cy="1112760"/>
          </a:xfrm>
        </p:grpSpPr>
        <p:sp>
          <p:nvSpPr>
            <p:cNvPr id="120" name="Text Box 6"/>
            <p:cNvSpPr/>
            <p:nvPr/>
          </p:nvSpPr>
          <p:spPr>
            <a:xfrm>
              <a:off x="250920" y="3108240"/>
              <a:ext cx="8076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）必然事件的概率为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，不可能事件的概率为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0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．因此     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Object 7" descr=""/>
            <p:cNvPicPr/>
            <p:nvPr/>
          </p:nvPicPr>
          <p:blipFill>
            <a:blip r:embed="rId1"/>
            <a:stretch/>
          </p:blipFill>
          <p:spPr>
            <a:xfrm>
              <a:off x="3003120" y="3641760"/>
              <a:ext cx="215100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3"/>
          <p:cNvGrpSpPr/>
          <p:nvPr/>
        </p:nvGrpSpPr>
        <p:grpSpPr>
          <a:xfrm>
            <a:off x="1029600" y="4292640"/>
            <a:ext cx="6480720" cy="665280"/>
            <a:chOff x="1029600" y="4292640"/>
            <a:chExt cx="6480720" cy="665280"/>
          </a:xfrm>
        </p:grpSpPr>
        <p:sp>
          <p:nvSpPr>
            <p:cNvPr id="123" name="Rectangle 11"/>
            <p:cNvSpPr/>
            <p:nvPr/>
          </p:nvSpPr>
          <p:spPr>
            <a:xfrm>
              <a:off x="1029600" y="4292640"/>
              <a:ext cx="305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随机事件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Object 12" descr=""/>
            <p:cNvPicPr/>
            <p:nvPr/>
          </p:nvPicPr>
          <p:blipFill>
            <a:blip r:embed="rId2"/>
            <a:stretch/>
          </p:blipFill>
          <p:spPr>
            <a:xfrm>
              <a:off x="5160960" y="4292640"/>
              <a:ext cx="2349360" cy="66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3330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掷一枚骰子，观察向上的一面的点数，求下列事件的概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点数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点数为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点数为奇数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点数为奇数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③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点数大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且小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5.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点数大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且小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-1981080" y="314172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4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720720" cy="119988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5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4"/>
          <a:stretch/>
        </p:blipFill>
        <p:spPr>
          <a:xfrm>
            <a:off x="6300720" y="4581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2280" y="27144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变式  掷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个质地均匀的正方体骰子，观察向上一面的点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）求掷得点数为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或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或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概率；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）小明在做掷骰子的试验时，前五次都没掷得点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求他第六次掷得点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概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6012000" y="4005360"/>
            <a:ext cx="2808000" cy="1944720"/>
            <a:chOff x="6012000" y="4005360"/>
            <a:chExt cx="2808000" cy="1944720"/>
          </a:xfrm>
        </p:grpSpPr>
        <p:pic>
          <p:nvPicPr>
            <p:cNvPr id="132" name="Object 2" descr=""/>
            <p:cNvPicPr/>
            <p:nvPr/>
          </p:nvPicPr>
          <p:blipFill>
            <a:blip r:embed="rId1"/>
            <a:stretch/>
          </p:blipFill>
          <p:spPr>
            <a:xfrm>
              <a:off x="6012000" y="4005360"/>
              <a:ext cx="2808000" cy="19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Group 4"/>
            <p:cNvGrpSpPr/>
            <p:nvPr/>
          </p:nvGrpSpPr>
          <p:grpSpPr>
            <a:xfrm>
              <a:off x="7384320" y="4453920"/>
              <a:ext cx="168480" cy="671760"/>
              <a:chOff x="7384320" y="4453920"/>
              <a:chExt cx="168480" cy="671760"/>
            </a:xfrm>
          </p:grpSpPr>
          <p:sp>
            <p:nvSpPr>
              <p:cNvPr id="134" name="Line 5"/>
              <p:cNvSpPr/>
              <p:nvPr/>
            </p:nvSpPr>
            <p:spPr>
              <a:xfrm flipV="1">
                <a:off x="7384320" y="4453920"/>
                <a:ext cx="168480" cy="67176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6"/>
              <p:cNvSpPr/>
              <p:nvPr/>
            </p:nvSpPr>
            <p:spPr>
              <a:xfrm>
                <a:off x="7384320" y="4946760"/>
                <a:ext cx="83880" cy="7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7"/>
          <p:cNvSpPr/>
          <p:nvPr/>
        </p:nvSpPr>
        <p:spPr>
          <a:xfrm>
            <a:off x="324000" y="18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图：是一个转盘，转盘分成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相同的扇形，颜色分为红黄绿三种，指针固定，转动转盘后任其自由停止，某个扇形会停在指针所指的位置，（指针指向交线时当作指向右边的扇形）求下列事件的概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44360" y="3284640"/>
            <a:ext cx="899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1)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指向红色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2)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指向红色或黄色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3)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不指向红色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3" descr=""/>
          <p:cNvPicPr/>
          <p:nvPr/>
        </p:nvPicPr>
        <p:blipFill>
          <a:blip r:embed="rId2"/>
          <a:stretch/>
        </p:blipFill>
        <p:spPr>
          <a:xfrm>
            <a:off x="4067280" y="2781360"/>
            <a:ext cx="558720" cy="148896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4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558720" cy="148896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5" descr=""/>
          <p:cNvPicPr/>
          <p:nvPr/>
        </p:nvPicPr>
        <p:blipFill>
          <a:blip r:embed="rId4"/>
          <a:stretch/>
        </p:blipFill>
        <p:spPr>
          <a:xfrm>
            <a:off x="5364000" y="4724280"/>
            <a:ext cx="5590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539640" y="765000"/>
            <a:ext cx="10213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下雨的概率为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9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％，那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下列说法错误的是（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9640" y="25765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A)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下雨的可能性较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39640" y="3357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B)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不下雨的可能性较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39640" y="41497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C)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有可能是晴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39640" y="4952880"/>
            <a:ext cx="59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D)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不可能是晴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67720" y="1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6086880" y="162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68360" y="33336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、１袋子里有１个红球，３个白球和５个黄球，每一个球除颜色外都相同，从中任意摸出一个球，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39640" y="2492280"/>
            <a:ext cx="57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摸到红球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46120" y="3573360"/>
            <a:ext cx="57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摸到白球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39640" y="4737240"/>
            <a:ext cx="62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摸到黄球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3886200" y="2205000"/>
            <a:ext cx="977400" cy="953640"/>
            <a:chOff x="3886200" y="2205000"/>
            <a:chExt cx="977400" cy="953640"/>
          </a:xfrm>
        </p:grpSpPr>
        <p:sp>
          <p:nvSpPr>
            <p:cNvPr id="153" name="Text Box 8"/>
            <p:cNvSpPr/>
            <p:nvPr/>
          </p:nvSpPr>
          <p:spPr>
            <a:xfrm>
              <a:off x="3994920" y="2205000"/>
              <a:ext cx="54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3886200" y="2336040"/>
              <a:ext cx="76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3994920" y="2516040"/>
              <a:ext cx="86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3924360" y="3213000"/>
            <a:ext cx="975600" cy="1000080"/>
            <a:chOff x="3924360" y="3213000"/>
            <a:chExt cx="975600" cy="1000080"/>
          </a:xfrm>
        </p:grpSpPr>
        <p:sp>
          <p:nvSpPr>
            <p:cNvPr id="157" name="Text Box 12"/>
            <p:cNvSpPr/>
            <p:nvPr/>
          </p:nvSpPr>
          <p:spPr>
            <a:xfrm>
              <a:off x="4032720" y="3213000"/>
              <a:ext cx="5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3924360" y="3344040"/>
              <a:ext cx="75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4032720" y="3570480"/>
              <a:ext cx="8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5"/>
          <p:cNvGrpSpPr/>
          <p:nvPr/>
        </p:nvGrpSpPr>
        <p:grpSpPr>
          <a:xfrm>
            <a:off x="3995640" y="4365720"/>
            <a:ext cx="975600" cy="953280"/>
            <a:chOff x="3995640" y="4365720"/>
            <a:chExt cx="975600" cy="953280"/>
          </a:xfrm>
        </p:grpSpPr>
        <p:sp>
          <p:nvSpPr>
            <p:cNvPr id="161" name="Text Box 16"/>
            <p:cNvSpPr/>
            <p:nvPr/>
          </p:nvSpPr>
          <p:spPr>
            <a:xfrm>
              <a:off x="4104000" y="4365720"/>
              <a:ext cx="5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7"/>
            <p:cNvSpPr/>
            <p:nvPr/>
          </p:nvSpPr>
          <p:spPr>
            <a:xfrm>
              <a:off x="3995640" y="4496760"/>
              <a:ext cx="75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4104000" y="4676400"/>
              <a:ext cx="8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96920" y="69624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张数字卡片，它们的背面完全相同，正面分别标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。现将它们的背面朝上，从中任意摸到一张卡片，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p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摸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号卡片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33577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（摸到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号卡片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84360" y="4508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（摸到奇数号卡片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611280" y="5516640"/>
            <a:ext cx="735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（摸到偶数号卡片）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3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559080" cy="148896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7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558720" cy="148896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8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559080" cy="148932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9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55872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06280" y="11556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、设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型号相同的杯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其中一等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二等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三等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则从中任意取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是二等品的概率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_____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3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5872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06280" y="11556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、一副扑克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从中任意抽出一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求下列结果的概率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①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抽到红桃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5)=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②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抽到大王或小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____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③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抽到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A)=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④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抽到方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ject 4" descr=""/>
          <p:cNvPicPr/>
          <p:nvPr/>
        </p:nvPicPr>
        <p:blipFill>
          <a:blip r:embed="rId1"/>
          <a:stretch/>
        </p:blipFill>
        <p:spPr>
          <a:xfrm>
            <a:off x="4932360" y="1509840"/>
            <a:ext cx="647640" cy="117468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5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68868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6" descr=""/>
          <p:cNvPicPr/>
          <p:nvPr/>
        </p:nvPicPr>
        <p:blipFill>
          <a:blip r:embed="rId3"/>
          <a:stretch/>
        </p:blipFill>
        <p:spPr>
          <a:xfrm>
            <a:off x="3924360" y="3705120"/>
            <a:ext cx="647640" cy="9414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7" descr=""/>
          <p:cNvPicPr/>
          <p:nvPr/>
        </p:nvPicPr>
        <p:blipFill>
          <a:blip r:embed="rId4"/>
          <a:stretch/>
        </p:blipFill>
        <p:spPr>
          <a:xfrm>
            <a:off x="4643280" y="4581360"/>
            <a:ext cx="72576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50920" y="26028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复习：下列事件中哪些事件是随机事件？哪些事件是必然事件？哪些是不可能事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227664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⑴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抛出的铅球会下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08000" y="357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2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某运动员百米赛跑的成绩为２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79280" y="494172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3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买到的电影票，座位号为单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001560" y="2205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必然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705200" y="566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随机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3945960" y="4221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如图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能自由转动的转盘中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 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四个扇形的圆心角的度数分别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80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0 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60 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90 °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转动转盘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当转盘停止时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指针指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概率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指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或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概率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{46A652F5-7E34-4BCA-B6EB-43CB38717E3E}"/>
          <p:cNvPicPr/>
          <p:nvPr/>
        </p:nvPicPr>
        <p:blipFill>
          <a:blip r:embed="rId1"/>
          <a:stretch/>
        </p:blipFill>
        <p:spPr>
          <a:xfrm>
            <a:off x="5219640" y="3652920"/>
            <a:ext cx="3529080" cy="316080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4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719280" cy="139068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5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720720" cy="138924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8199"/>
          <p:cNvSpPr/>
          <p:nvPr/>
        </p:nvSpPr>
        <p:spPr>
          <a:xfrm>
            <a:off x="393840" y="485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188640"/>
            <a:ext cx="8675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在分别写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张小卡片中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随机抽出一张卡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试求以下事件的概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该卡片上的数字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倍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也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该卡片上的数字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倍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但不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该卡片上的数不能写成一个整数的平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该卡片上的数字除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和自身外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至少还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个约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08000" y="44280"/>
            <a:ext cx="9036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8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四张形状、大小、质地相同的卡片上分别画上圆、平行四边形、等边三角形、正方形，然后反扣在桌面上，洗匀后随机抽取一张，抽到轴对称图形的概率是（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抽到中心对称图形的概率是（     ）。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3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792000" cy="145260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4" descr=""/>
          <p:cNvPicPr/>
          <p:nvPr/>
        </p:nvPicPr>
        <p:blipFill>
          <a:blip r:embed="rId2"/>
          <a:stretch/>
        </p:blipFill>
        <p:spPr>
          <a:xfrm>
            <a:off x="7093080" y="3716280"/>
            <a:ext cx="792000" cy="1452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4360" y="2602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课堂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68360" y="472428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、必然事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P(A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＝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不可能事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P(B)=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随机事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P(C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50920" y="10526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概率的定义及基本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95280" y="1773360"/>
            <a:ext cx="8497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在一次实验中，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种可能的结果，并且他们发生的可能性都相等，事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包含其中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种结果，那么事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的概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P(A)=m/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187280" y="4005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0≤m≤n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有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0 ≤ m/n≤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93F5-A9B3-4E44-9F82-AC350488FA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324000" y="2602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4)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２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是正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1628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5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投掷硬币时，国徽朝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-1104120" y="2781360"/>
            <a:ext cx="117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6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直线                     过定点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-1,0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2736720" cy="706320"/>
          </a:xfrm>
          <a:prstGeom prst="rect">
            <a:avLst/>
          </a:prstGeom>
          <a:ln w="0">
            <a:noFill/>
          </a:ln>
        </p:spPr>
      </p:pic>
      <p:sp>
        <p:nvSpPr>
          <p:cNvPr id="55" name="矩形 8"/>
          <p:cNvSpPr/>
          <p:nvPr/>
        </p:nvSpPr>
        <p:spPr>
          <a:xfrm>
            <a:off x="1421640" y="400536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7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打开电视机，正在播广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1385640" y="5300640"/>
            <a:ext cx="45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8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明天的太阳从西方升起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56156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必然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6721560" y="162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随机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5641200" y="328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必然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6145920" y="4653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随机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1"/>
          <p:cNvSpPr/>
          <p:nvPr/>
        </p:nvSpPr>
        <p:spPr>
          <a:xfrm>
            <a:off x="4521960" y="5877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250920" y="2781360"/>
            <a:ext cx="8424720" cy="3236760"/>
            <a:chOff x="250920" y="2781360"/>
            <a:chExt cx="8424720" cy="3236760"/>
          </a:xfrm>
        </p:grpSpPr>
        <p:sp>
          <p:nvSpPr>
            <p:cNvPr id="63" name="Text Box 3"/>
            <p:cNvSpPr/>
            <p:nvPr/>
          </p:nvSpPr>
          <p:spPr>
            <a:xfrm>
              <a:off x="250920" y="2781360"/>
              <a:ext cx="8424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可能的结果有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,2,3,4,5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等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种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由于纸签的形状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大小相同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又是随机抽取的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所以我们可以认为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每个号被抽到的可能性相等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都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Object 4" descr=""/>
            <p:cNvPicPr/>
            <p:nvPr/>
          </p:nvPicPr>
          <p:blipFill>
            <a:blip r:embed="rId1"/>
            <a:stretch/>
          </p:blipFill>
          <p:spPr>
            <a:xfrm>
              <a:off x="4859280" y="4653000"/>
              <a:ext cx="617040" cy="136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5"/>
          <p:cNvSpPr/>
          <p:nvPr/>
        </p:nvSpPr>
        <p:spPr>
          <a:xfrm>
            <a:off x="287280" y="115920"/>
            <a:ext cx="86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试验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从分别标有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.2.3.4.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号的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根纸签中随机抽取一根，抽出的签上的标号有几种可能？每一种抽取的可能性大小相等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24000" y="333360"/>
            <a:ext cx="855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试验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抛掷一个骰子，它落地时向上的数有几种可能？分别是什么？发生的可能性大小一样吗？是多少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"/>
          <p:cNvGrpSpPr/>
          <p:nvPr/>
        </p:nvGrpSpPr>
        <p:grpSpPr>
          <a:xfrm>
            <a:off x="250920" y="2565360"/>
            <a:ext cx="8424720" cy="3557520"/>
            <a:chOff x="250920" y="2565360"/>
            <a:chExt cx="8424720" cy="3557520"/>
          </a:xfrm>
        </p:grpSpPr>
        <p:sp>
          <p:nvSpPr>
            <p:cNvPr id="68" name="Text Box 8"/>
            <p:cNvSpPr/>
            <p:nvPr/>
          </p:nvSpPr>
          <p:spPr>
            <a:xfrm>
              <a:off x="250920" y="2565360"/>
              <a:ext cx="84247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种等可能的结果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1,2,3,4,5,6.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由于骰子的构造相同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质地均匀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又是随机掷出的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所以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每种结果的可能性相等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都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Object 2" descr=""/>
            <p:cNvPicPr/>
            <p:nvPr/>
          </p:nvPicPr>
          <p:blipFill>
            <a:blip r:embed="rId1"/>
            <a:stretch/>
          </p:blipFill>
          <p:spPr>
            <a:xfrm>
              <a:off x="1619280" y="4365720"/>
              <a:ext cx="839880" cy="17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2592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归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般地，对于一个随机事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把刻画其发生可能性大小的数值，称之为随机事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发生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共同特征：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一次试验中，可能出现的结果只有有限个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一次试验中，各种结果出现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可能性相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00720" y="189000"/>
            <a:ext cx="388764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概率从数量上刻画了一个随机事件发生的可能性的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84360" y="494172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具有这些特点的试验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古典概率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这些试验中出现的事件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等可能事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250920" y="260280"/>
            <a:ext cx="8640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例如，在上面抽签试验中，“抽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号”这个事件包含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____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种可能结果，在全部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___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种可能的结果中所占的比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______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于是这个事件的概率为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90792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835280" y="148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ject 25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1912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Object 26" descr=""/>
          <p:cNvPicPr/>
          <p:nvPr/>
        </p:nvPicPr>
        <p:blipFill>
          <a:blip r:embed="rId2"/>
          <a:stretch/>
        </p:blipFill>
        <p:spPr>
          <a:xfrm>
            <a:off x="4932360" y="3141720"/>
            <a:ext cx="36338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8"/>
          <p:cNvSpPr/>
          <p:nvPr/>
        </p:nvSpPr>
        <p:spPr>
          <a:xfrm>
            <a:off x="179280" y="26028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抽到偶数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个事件包含抽到（ ）和（ ）这（ ）种可能结果，在全部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种可能结果中所占的比为（   ），于是这个事件的概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7885080" y="260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1185840" y="9208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6443640" y="1052640"/>
            <a:ext cx="519120" cy="1439640"/>
          </a:xfrm>
          <a:prstGeom prst="rect">
            <a:avLst/>
          </a:prstGeom>
          <a:ln w="0">
            <a:noFill/>
          </a:ln>
        </p:spPr>
      </p:pic>
      <p:pic>
        <p:nvPicPr>
          <p:cNvPr id="83" name="Object 3" descr=""/>
          <p:cNvPicPr/>
          <p:nvPr/>
        </p:nvPicPr>
        <p:blipFill>
          <a:blip r:embed="rId2"/>
          <a:stretch/>
        </p:blipFill>
        <p:spPr>
          <a:xfrm>
            <a:off x="2700360" y="2781360"/>
            <a:ext cx="4498920" cy="1439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9"/>
          <p:cNvSpPr/>
          <p:nvPr/>
        </p:nvSpPr>
        <p:spPr>
          <a:xfrm>
            <a:off x="2987640" y="8762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385920" y="1204920"/>
            <a:ext cx="8362800" cy="2946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般地，如果在一次试验中，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可能的结果，并且它们发生的可能性都相等，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包含其中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结果，那么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概率           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6" descr=""/>
          <p:cNvPicPr/>
          <p:nvPr/>
        </p:nvPicPr>
        <p:blipFill>
          <a:blip r:embed="rId1"/>
          <a:stretch/>
        </p:blipFill>
        <p:spPr>
          <a:xfrm>
            <a:off x="4284720" y="3213000"/>
            <a:ext cx="2027160" cy="1409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-17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等可能事件概率的求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199"/>
          <p:cNvSpPr/>
          <p:nvPr/>
        </p:nvSpPr>
        <p:spPr>
          <a:xfrm>
            <a:off x="1316160" y="531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1:00:54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59:48Z</dcterms:modified>
  <cp:revision>10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