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A87-6217-4F6A-B958-36EEF88D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839-1891-4F19-98FE-05219251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D3A-9600-4B43-9860-BD18D994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5F1-F088-43F0-A66D-D10009F3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3A1C-2597-4645-9776-C46D49AA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726B-B921-46FE-AFED-FA22267E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4426-B2E6-42C3-B1E6-6B4B2A53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B55F-43AE-455E-80B1-241D2A25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EA6C-43F5-4927-A6AF-3D02460A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BA9F-C27E-4FDA-9C68-046E5DDD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2A6D-7F98-4F96-ADF5-DE34A287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4DA-DAAB-444D-B264-519872A7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9FF6-FC84-40EE-A21D-002EDBA6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78ED-A6BF-4FF2-B497-B13953F7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33CF-7490-4C0F-A07B-FEE78CA2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4536-A050-4C4B-9F94-D8A6ABE5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8FA5-9032-4CC8-AA61-DBC06422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7D3-BCB3-49EF-B0D1-CBE07AEB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A4E-1F29-436C-A3BC-44018317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FD0-D9D0-47FC-9DE3-4F6A330D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EA4-6000-4416-8930-70B99D62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334-0FF7-41F9-AA3E-70ED5AB8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A8A-0C7A-4F9B-928E-D0376E68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6E0-86ED-4AC7-9829-13BBE86B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6D68-B204-4A50-A24F-C72C5C98760A}" type="slidenum"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6F99-3B7A-4C60-8EFC-AC9B1EE98620}" type="slidenum"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23665;&#34892;&#26460;&#29287;.exe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7524720" y="40053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1676160"/>
            <a:ext cx="535788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6000" spc="-1" strike="noStrike" u="sng">
                <a:solidFill>
                  <a:srgbClr val="996633"/>
                </a:solidFill>
                <a:uFillTx/>
                <a:latin typeface="DFKai-SB"/>
                <a:ea typeface="DFKai-SB"/>
              </a:rPr>
              <a:t>杜牧</a:t>
            </a:r>
            <a:r>
              <a:rPr b="1" i="1" lang="zh-TW" sz="6000" spc="-1" strike="noStrike">
                <a:solidFill>
                  <a:srgbClr val="996633"/>
                </a:solidFill>
                <a:latin typeface="DFKai-SB"/>
                <a:ea typeface="DFKai-SB"/>
              </a:rPr>
              <a:t>「山行」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99ff"/>
              </a:solidFill>
              <a:latin typeface="DFKai-SB"/>
              <a:ea typeface="DFKai-SB"/>
            </a:endParaRPr>
          </a:p>
        </p:txBody>
      </p:sp>
      <p:pic>
        <p:nvPicPr>
          <p:cNvPr id="114" name="Picture 4" descr="C:\史益山\圖片與聲音\山行.jpg"/>
          <p:cNvPicPr/>
          <p:nvPr/>
        </p:nvPicPr>
        <p:blipFill>
          <a:blip r:embed="rId16"/>
          <a:stretch/>
        </p:blipFill>
        <p:spPr>
          <a:xfrm>
            <a:off x="6477120" y="2286000"/>
            <a:ext cx="2438280" cy="4138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1981080" y="3413160"/>
            <a:ext cx="4191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ff"/>
                </a:solidFill>
                <a:latin typeface="Times New Roman"/>
                <a:ea typeface="DFKai-SB"/>
              </a:rPr>
              <a:t>遠上寒山石徑斜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ff"/>
                </a:solidFill>
                <a:latin typeface="Times New Roman"/>
                <a:ea typeface="DFKai-SB"/>
              </a:rPr>
              <a:t>白雲深處有人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ff"/>
                </a:solidFill>
                <a:latin typeface="Times New Roman"/>
                <a:ea typeface="DFKai-SB"/>
              </a:rPr>
              <a:t>停車坐愛楓林晚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ff"/>
                </a:solidFill>
                <a:latin typeface="Times New Roman"/>
                <a:ea typeface="DFKai-SB"/>
              </a:rPr>
              <a:t>霜葉紅於二月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文本框 1"/>
          <p:cNvSpPr/>
          <p:nvPr/>
        </p:nvSpPr>
        <p:spPr>
          <a:xfrm>
            <a:off x="223920" y="6424560"/>
            <a:ext cx="72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幻灯片之家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7AEA-6181-4502-9284-4E5437D5BF1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514600" y="1981080"/>
            <a:ext cx="4952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遠上寒山石徑斜，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白雲深處有人家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52480" y="2819520"/>
            <a:ext cx="6477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DFKai-SB"/>
                <a:ea typeface="DFKai-SB"/>
              </a:rPr>
              <a:t>遠處高山山間小路曲曲彎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DFKai-SB"/>
                <a:ea typeface="DFKai-SB"/>
              </a:rPr>
              <a:t>深山密林中升騰著縷縷炊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752480" y="5335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cc6600"/>
                </a:solidFill>
                <a:latin typeface="Times New Roman"/>
                <a:ea typeface="DFKai-SB"/>
              </a:rPr>
              <a:t>美妙的詩意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2514600" y="1981080"/>
            <a:ext cx="4952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停車坐愛楓林晚，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霜葉紅於二月花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523880" y="2819520"/>
            <a:ext cx="6477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DFKai-SB"/>
                <a:ea typeface="DFKai-SB"/>
              </a:rPr>
              <a:t>停車是因為我愛看楓林晚景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DFKai-SB"/>
                <a:ea typeface="DFKai-SB"/>
              </a:rPr>
              <a:t>經霜的紅葉比春花更加鮮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752480" y="5335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cc6600"/>
                </a:solidFill>
                <a:latin typeface="Times New Roman"/>
                <a:ea typeface="DFKai-SB"/>
              </a:rPr>
              <a:t>美妙的詩意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動動腦，想一想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华文中宋"/>
                <a:ea typeface="DFKai-SB"/>
              </a:rPr>
              <a:t>這首詩押什麼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华文中宋"/>
                <a:ea typeface="DFKai-SB"/>
              </a:rPr>
              <a:t>它是寫什麼時侯的景致？由那些句子可以看出來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华文中宋"/>
                <a:ea typeface="DFKai-SB"/>
              </a:rPr>
              <a:t>「石徑斜」表示路是怎樣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华文中宋"/>
                <a:ea typeface="DFKai-SB"/>
              </a:rPr>
              <a:t>「白雲生處」指的是怎樣的地方？為什麼詩人會說「有人家」？他如何知道呢</a:t>
            </a:r>
            <a:r>
              <a:rPr b="1" lang="zh-TW" sz="3200" spc="-1" strike="noStrike">
                <a:solidFill>
                  <a:srgbClr val="3399ff"/>
                </a:solidFill>
                <a:latin typeface="华文中宋"/>
                <a:ea typeface="DFKai-SB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再想一想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17760" y="2437920"/>
            <a:ext cx="76262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Times New Roman"/>
                <a:ea typeface="DFKai-SB"/>
              </a:rPr>
              <a:t>作者看到住在深山中的人家，心裡會有怎樣的感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Times New Roman"/>
                <a:ea typeface="DFKai-SB"/>
              </a:rPr>
              <a:t>為什麼作者要停下馬車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Times New Roman"/>
                <a:ea typeface="DFKai-SB"/>
              </a:rPr>
              <a:t>「山行」的最後一句表現出楓林怎樣的狀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你可以說出這首詩的大意嗎？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「提示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     </a:t>
            </a: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作者上山時，看到了什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     </a:t>
            </a: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想到了什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「參考答案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     </a:t>
            </a: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深秋，駕車行於山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     </a:t>
            </a: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被火紅的楓葉深深吸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這首詩的結構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3048120" y="1905120"/>
            <a:ext cx="1676160" cy="914400"/>
            <a:chOff x="3048120" y="1905120"/>
            <a:chExt cx="1676160" cy="914400"/>
          </a:xfrm>
        </p:grpSpPr>
        <p:sp>
          <p:nvSpPr>
            <p:cNvPr id="131" name="Text Box 4"/>
            <p:cNvSpPr/>
            <p:nvPr/>
          </p:nvSpPr>
          <p:spPr>
            <a:xfrm>
              <a:off x="3048120" y="19051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66ff"/>
                  </a:solidFill>
                  <a:latin typeface="DFKai-SB"/>
                  <a:ea typeface="DFKai-SB"/>
                </a:rPr>
                <a:t>山   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5"/>
            <p:cNvSpPr/>
            <p:nvPr/>
          </p:nvSpPr>
          <p:spPr>
            <a:xfrm rot="16200000">
              <a:off x="3619440" y="1943280"/>
              <a:ext cx="457200" cy="129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28"/>
          <p:cNvGrpSpPr/>
          <p:nvPr/>
        </p:nvGrpSpPr>
        <p:grpSpPr>
          <a:xfrm>
            <a:off x="2412000" y="2819520"/>
            <a:ext cx="1321920" cy="1218960"/>
            <a:chOff x="2412000" y="2819520"/>
            <a:chExt cx="1321920" cy="1218960"/>
          </a:xfrm>
        </p:grpSpPr>
        <p:sp>
          <p:nvSpPr>
            <p:cNvPr id="134" name="Text Box 6"/>
            <p:cNvSpPr/>
            <p:nvPr/>
          </p:nvSpPr>
          <p:spPr>
            <a:xfrm>
              <a:off x="2412000" y="2819520"/>
              <a:ext cx="1155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339933"/>
                  </a:solidFill>
                  <a:latin typeface="DFKai-SB"/>
                  <a:ea typeface="DFKai-SB"/>
                </a:rPr>
                <a:t>遠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Group 9"/>
            <p:cNvGrpSpPr/>
            <p:nvPr/>
          </p:nvGrpSpPr>
          <p:grpSpPr>
            <a:xfrm>
              <a:off x="2666880" y="3733920"/>
              <a:ext cx="1067040" cy="304560"/>
              <a:chOff x="2666880" y="3733920"/>
              <a:chExt cx="1067040" cy="304560"/>
            </a:xfrm>
          </p:grpSpPr>
          <p:sp>
            <p:nvSpPr>
              <p:cNvPr id="136" name="AutoShape 7"/>
              <p:cNvSpPr/>
              <p:nvPr/>
            </p:nvSpPr>
            <p:spPr>
              <a:xfrm rot="5400000">
                <a:off x="3124080" y="3428640"/>
                <a:ext cx="152280" cy="1067040"/>
              </a:xfrm>
              <a:custGeom>
                <a:avLst/>
                <a:gdLst>
                  <a:gd name="textAreaLeft" fmla="*/ 44640 w 152280"/>
                  <a:gd name="textAreaRight" fmla="*/ 152640 w 152280"/>
                  <a:gd name="textAreaTop" fmla="*/ 44280 h 1067040"/>
                  <a:gd name="textAreaBottom" fmla="*/ 102276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8"/>
              <p:cNvSpPr/>
              <p:nvPr/>
            </p:nvSpPr>
            <p:spPr>
              <a:xfrm>
                <a:off x="3200400" y="3733920"/>
                <a:ext cx="0" cy="152280"/>
              </a:xfrm>
              <a:prstGeom prst="line">
                <a:avLst/>
              </a:prstGeom>
              <a:ln w="381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Group 29"/>
          <p:cNvGrpSpPr/>
          <p:nvPr/>
        </p:nvGrpSpPr>
        <p:grpSpPr>
          <a:xfrm>
            <a:off x="1802160" y="4114800"/>
            <a:ext cx="1155240" cy="2438280"/>
            <a:chOff x="1802160" y="4114800"/>
            <a:chExt cx="1155240" cy="2438280"/>
          </a:xfrm>
        </p:grpSpPr>
        <p:sp>
          <p:nvSpPr>
            <p:cNvPr id="139" name="Text Box 10"/>
            <p:cNvSpPr/>
            <p:nvPr/>
          </p:nvSpPr>
          <p:spPr>
            <a:xfrm>
              <a:off x="1802160" y="4114800"/>
              <a:ext cx="1155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339933"/>
                  </a:solidFill>
                  <a:latin typeface="DFKai-SB"/>
                  <a:ea typeface="DFKai-SB"/>
                </a:rPr>
                <a:t>寒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1802160" y="5486400"/>
              <a:ext cx="11552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339933"/>
                  </a:solidFill>
                  <a:latin typeface="DFKai-SB"/>
                  <a:ea typeface="DFKai-SB"/>
                </a:rPr>
                <a:t>石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>
              <a:off x="2590920" y="5029200"/>
              <a:ext cx="0" cy="457200"/>
            </a:xfrm>
            <a:prstGeom prst="line">
              <a:avLst/>
            </a:prstGeom>
            <a:ln w="25560">
              <a:solidFill>
                <a:srgbClr val="339933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30"/>
          <p:cNvGrpSpPr/>
          <p:nvPr/>
        </p:nvGrpSpPr>
        <p:grpSpPr>
          <a:xfrm>
            <a:off x="2945160" y="4114800"/>
            <a:ext cx="1155240" cy="2286000"/>
            <a:chOff x="2945160" y="4114800"/>
            <a:chExt cx="1155240" cy="2286000"/>
          </a:xfrm>
        </p:grpSpPr>
        <p:sp>
          <p:nvSpPr>
            <p:cNvPr id="143" name="Line 13"/>
            <p:cNvSpPr/>
            <p:nvPr/>
          </p:nvSpPr>
          <p:spPr>
            <a:xfrm>
              <a:off x="3733920" y="5029200"/>
              <a:ext cx="0" cy="457200"/>
            </a:xfrm>
            <a:prstGeom prst="line">
              <a:avLst/>
            </a:prstGeom>
            <a:ln w="25560">
              <a:solidFill>
                <a:srgbClr val="339933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2945160" y="4114800"/>
              <a:ext cx="1155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339933"/>
                  </a:solidFill>
                  <a:latin typeface="DFKai-SB"/>
                  <a:ea typeface="DFKai-SB"/>
                </a:rPr>
                <a:t>白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5"/>
            <p:cNvSpPr/>
            <p:nvPr/>
          </p:nvSpPr>
          <p:spPr>
            <a:xfrm>
              <a:off x="2945160" y="5486400"/>
              <a:ext cx="11552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339933"/>
                  </a:solidFill>
                  <a:latin typeface="DFKai-SB"/>
                  <a:ea typeface="DFKai-SB"/>
                </a:rPr>
                <a:t>人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31"/>
          <p:cNvGrpSpPr/>
          <p:nvPr/>
        </p:nvGrpSpPr>
        <p:grpSpPr>
          <a:xfrm>
            <a:off x="3707280" y="2819520"/>
            <a:ext cx="1155240" cy="3124080"/>
            <a:chOff x="3707280" y="2819520"/>
            <a:chExt cx="1155240" cy="3124080"/>
          </a:xfrm>
        </p:grpSpPr>
        <p:sp>
          <p:nvSpPr>
            <p:cNvPr id="147" name="Text Box 16"/>
            <p:cNvSpPr/>
            <p:nvPr/>
          </p:nvSpPr>
          <p:spPr>
            <a:xfrm>
              <a:off x="3707280" y="2819520"/>
              <a:ext cx="1155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ff"/>
                  </a:solidFill>
                  <a:latin typeface="DFKai-SB"/>
                  <a:ea typeface="DFKai-SB"/>
                </a:rPr>
                <a:t>近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7"/>
            <p:cNvSpPr/>
            <p:nvPr/>
          </p:nvSpPr>
          <p:spPr>
            <a:xfrm>
              <a:off x="4495680" y="3733920"/>
              <a:ext cx="0" cy="457200"/>
            </a:xfrm>
            <a:prstGeom prst="line">
              <a:avLst/>
            </a:prstGeom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8"/>
            <p:cNvSpPr/>
            <p:nvPr/>
          </p:nvSpPr>
          <p:spPr>
            <a:xfrm>
              <a:off x="3707280" y="4267080"/>
              <a:ext cx="11552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ff"/>
                  </a:solidFill>
                  <a:latin typeface="DFKai-SB"/>
                  <a:ea typeface="DFKai-SB"/>
                </a:rPr>
                <a:t>楓林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32"/>
          <p:cNvGrpSpPr/>
          <p:nvPr/>
        </p:nvGrpSpPr>
        <p:grpSpPr>
          <a:xfrm>
            <a:off x="4800600" y="2666880"/>
            <a:ext cx="2500200" cy="1295640"/>
            <a:chOff x="4800600" y="2666880"/>
            <a:chExt cx="2500200" cy="1295640"/>
          </a:xfrm>
        </p:grpSpPr>
        <p:sp>
          <p:nvSpPr>
            <p:cNvPr id="151" name="Line 21"/>
            <p:cNvSpPr/>
            <p:nvPr/>
          </p:nvSpPr>
          <p:spPr>
            <a:xfrm>
              <a:off x="4952880" y="3352680"/>
              <a:ext cx="1676520" cy="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4800600" y="26668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ff"/>
                  </a:solidFill>
                  <a:latin typeface="DFKai-SB"/>
                  <a:ea typeface="DFKai-SB"/>
                </a:rPr>
                <a:t>因為愛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24"/>
            <p:cNvSpPr/>
            <p:nvPr/>
          </p:nvSpPr>
          <p:spPr>
            <a:xfrm>
              <a:off x="6145560" y="2971800"/>
              <a:ext cx="1155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ff"/>
                  </a:solidFill>
                  <a:latin typeface="DFKai-SB"/>
                  <a:ea typeface="DFKai-SB"/>
                </a:rPr>
                <a:t>停車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33"/>
          <p:cNvGrpSpPr/>
          <p:nvPr/>
        </p:nvGrpSpPr>
        <p:grpSpPr>
          <a:xfrm>
            <a:off x="4876920" y="3886200"/>
            <a:ext cx="2454120" cy="2590920"/>
            <a:chOff x="4876920" y="3886200"/>
            <a:chExt cx="2454120" cy="2590920"/>
          </a:xfrm>
        </p:grpSpPr>
        <p:sp>
          <p:nvSpPr>
            <p:cNvPr id="155" name="Line 20"/>
            <p:cNvSpPr/>
            <p:nvPr/>
          </p:nvSpPr>
          <p:spPr>
            <a:xfrm>
              <a:off x="4876920" y="4952880"/>
              <a:ext cx="129528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25"/>
            <p:cNvSpPr/>
            <p:nvPr/>
          </p:nvSpPr>
          <p:spPr>
            <a:xfrm>
              <a:off x="5688360" y="4343400"/>
              <a:ext cx="1642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ff"/>
                  </a:solidFill>
                  <a:latin typeface="DFKai-SB"/>
                  <a:ea typeface="DFKai-SB"/>
                </a:rPr>
                <a:t>楓葉比二月花還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6"/>
            <p:cNvSpPr/>
            <p:nvPr/>
          </p:nvSpPr>
          <p:spPr>
            <a:xfrm>
              <a:off x="6934320" y="3886200"/>
              <a:ext cx="0" cy="457200"/>
            </a:xfrm>
            <a:prstGeom prst="line">
              <a:avLst/>
            </a:prstGeom>
            <a:ln w="25560">
              <a:solidFill>
                <a:srgbClr val="ff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這麼美的詩，你記下來了嗎？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7760" y="2133360"/>
            <a:ext cx="7626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cc9900"/>
                </a:solidFill>
                <a:uFillTx/>
                <a:latin typeface="Times New Roman"/>
                <a:ea typeface="DFKai-SB"/>
                <a:hlinkClick r:id="rId1"/>
              </a:rPr>
              <a:t>練習一下吧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C:\史益山\圖片與聲音\1115.gif"/>
          <p:cNvPicPr/>
          <p:nvPr/>
        </p:nvPicPr>
        <p:blipFill>
          <a:blip r:embed="rId2"/>
          <a:stretch/>
        </p:blipFill>
        <p:spPr>
          <a:xfrm>
            <a:off x="6095880" y="3276720"/>
            <a:ext cx="2487600" cy="291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史益山\圖片與聲音\1132.gif"/>
          <p:cNvPicPr/>
          <p:nvPr/>
        </p:nvPicPr>
        <p:blipFill>
          <a:blip r:embed="rId3"/>
          <a:stretch/>
        </p:blipFill>
        <p:spPr>
          <a:xfrm>
            <a:off x="1676520" y="3276720"/>
            <a:ext cx="3886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參考資料來源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3084480" y="4508640"/>
            <a:ext cx="569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免费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尽在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09:18:02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44:03Z</dcterms:modified>
  <cp:revision>28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