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4CD-7017-4DE9-83C7-3C078CD7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565-0E9F-4844-A624-57ABB634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529-B307-4189-AA94-BFCF1C05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078-F36D-466D-B04B-50BBD2F7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C44B-B344-4387-B6C6-D0AE57E0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2B40-CF5F-4ECE-9615-9C113729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A382-F206-433C-8F1C-1AAECBF2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0475-1B41-49C1-B3EC-49921D0C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E8B3-0E35-4D04-8A9D-34F07EE2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4AD5-9CD8-4751-8C1B-21B966F1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C30D-D689-4AFD-9317-3365893A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DB1-336E-4AC1-8536-DE4FADBB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FD99-6FF8-4FAC-A078-17E0A8BA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76CD-7EF3-4EE6-9DA4-6B7B0CC5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C2B3-2C87-4EB9-9BD1-0EF42A64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6D02-E297-4409-BA36-EC220598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10FE-DC20-4692-BB72-CD51B65F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1EA-0A3A-48F0-84F0-F94DA8D9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2DD-6631-4154-8460-81A3D8B5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7A3-93EE-43BA-9B33-6D500334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BFB-01B1-45F6-A2B1-E6F88A2E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E33-086C-4098-89FB-0E7B05C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05F-BCDB-4278-A1EB-503015E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7F6-97A7-4BE3-93DB-6A45B683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3899-F358-4B44-8896-A31C2CEA98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83E5-B6CB-4654-A1DD-5C68B1BBA6C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296-582B-4EB5-969F-03AE5F4E364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第一篇  投资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055"/>
          <p:cNvSpPr/>
          <p:nvPr/>
        </p:nvSpPr>
        <p:spPr>
          <a:xfrm>
            <a:off x="1981080" y="19051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对象 2056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133360" cy="2666880"/>
          </a:xfrm>
          <a:prstGeom prst="rect">
            <a:avLst/>
          </a:prstGeom>
          <a:ln w="0">
            <a:noFill/>
          </a:ln>
        </p:spPr>
      </p:pic>
      <p:sp>
        <p:nvSpPr>
          <p:cNvPr id="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延期年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是指最初若干期没有收付款项的情况下，后面若干期等额收付的款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11266" descr="GSLCSM延期年金图1"/>
          <p:cNvPicPr/>
          <p:nvPr/>
        </p:nvPicPr>
        <p:blipFill>
          <a:blip r:embed="rId1"/>
          <a:stretch/>
        </p:blipFill>
        <p:spPr>
          <a:xfrm>
            <a:off x="838080" y="1600200"/>
            <a:ext cx="7696440" cy="166356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1267"/>
          <p:cNvSpPr/>
          <p:nvPr/>
        </p:nvSpPr>
        <p:spPr>
          <a:xfrm>
            <a:off x="838080" y="3581280"/>
            <a:ext cx="79250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—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延期年金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延期年金现值（后付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•P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PVIF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+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 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永续年金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petui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是指无限期支付的年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永续年金现值（后付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/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）货币时间价值计算中的几个特殊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2290"/>
          <p:cNvSpPr/>
          <p:nvPr/>
        </p:nvSpPr>
        <p:spPr>
          <a:xfrm>
            <a:off x="609480" y="1447920"/>
            <a:ext cx="792504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等额现金流量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xed flow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等额现金流量现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∑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， 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计息期小于一年的货币时间价值计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终值和一年内计息次数之间的关系：一年内计息次数越多，复利终值越大；反之，越小。若年利率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一年内计息次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，则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末的复利终值计算公式为：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P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m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•n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式中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趋近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就变成永续复利问题，将在后面介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现值和一年内贴现次数之间的关系：一年内贴现次数越多，现值越小；反之，越小。若年利率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一年内贴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，则复利现值计算公式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F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[1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•n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-457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永续复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13314"/>
          <p:cNvSpPr/>
          <p:nvPr/>
        </p:nvSpPr>
        <p:spPr>
          <a:xfrm>
            <a:off x="685800" y="533520"/>
            <a:ext cx="8458200" cy="67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永续复利终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当公式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—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中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趋近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，永续复利终值 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P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e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i•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=2.7182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                   公式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—1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给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条件下，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末的终值在永续复利下达到最大值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永续贴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从公式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—1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可倒出永续贴现值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F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e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i•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                                       公式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—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给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条件下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现值在永续贴现下达到最小值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利息率或贴现率的计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已知终值、现值和计息期数（或贴现期数），可以求出利息率（或贴现率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计算步骤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计算换算系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复利终值系数、复利现值系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金终值系数、年金现值系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根据换算系数和相关的系数表求利息率或贴现率。查表无法得到准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确数字时，可以用插值法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来求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与计算利息率或贴现率原理相同，也可以计算计息期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利息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14338"/>
          <p:cNvSpPr/>
          <p:nvPr/>
        </p:nvSpPr>
        <p:spPr>
          <a:xfrm>
            <a:off x="533520" y="1523880"/>
            <a:ext cx="8001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名义利率和实际利率的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名义利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d annual interest r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是一年计息一次的利率，即不考虑年内复利计息的利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际利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annual interest r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是指每年计息一次时所提供的利息应等于名义利率在每年计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时所提供的利息的利率。即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际利率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1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际利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1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名义利率）       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本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元，年利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在一年内计息期分别为一年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半年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一季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一个月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一日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36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则其实际利率计算如下表所示。计算结果表明，   年内计息次数越多，实际利率越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5361"/>
          <p:cNvSpPr/>
          <p:nvPr/>
        </p:nvSpPr>
        <p:spPr>
          <a:xfrm>
            <a:off x="1219320" y="533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15363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15366"/>
          <p:cNvSpPr/>
          <p:nvPr/>
        </p:nvSpPr>
        <p:spPr>
          <a:xfrm>
            <a:off x="38088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图片 15367" descr="GSLCSM实际利率计算表1"/>
          <p:cNvPicPr/>
          <p:nvPr/>
        </p:nvPicPr>
        <p:blipFill>
          <a:blip r:embed="rId1"/>
          <a:stretch/>
        </p:blipFill>
        <p:spPr>
          <a:xfrm>
            <a:off x="609480" y="1295280"/>
            <a:ext cx="7772400" cy="479592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5370"/>
          <p:cNvSpPr/>
          <p:nvPr/>
        </p:nvSpPr>
        <p:spPr>
          <a:xfrm>
            <a:off x="53352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—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义利率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投资的实际利率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二）名义利率和实际利率的差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16386"/>
          <p:cNvSpPr/>
          <p:nvPr/>
        </p:nvSpPr>
        <p:spPr>
          <a:xfrm>
            <a:off x="609480" y="152388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义利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只有在给出计息次数时才是有意义的（可参见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—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只有给出了年内计息次数才能计算出实际利率（投资的实际回报率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利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身就有明确的意义，它不需要给出计息次数。例如，实际利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2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就意味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投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后可获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；你也可以认为名义利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半年复利一次，或名义利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2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一年复利一次所得到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章  货币时间价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3074"/>
          <p:cNvSpPr/>
          <p:nvPr/>
        </p:nvSpPr>
        <p:spPr>
          <a:xfrm>
            <a:off x="685800" y="167652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节  货币时间价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货币时间价值的内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货币时间价值是作为一种生产要素所应得的报酬，即扣除     风险报酬和通货膨胀贴水后的那部分平均收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货币时间价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投资收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风险报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货膨胀贴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货币时间价值表示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绝对数：初始投资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资金时间价值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对数：资金时间价值率（一般用扣除风险报酬和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货膨胀贴水后的利息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库券利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货币时间价值的计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4098"/>
          <p:cNvSpPr/>
          <p:nvPr/>
        </p:nvSpPr>
        <p:spPr>
          <a:xfrm>
            <a:off x="457200" y="1143000"/>
            <a:ext cx="83818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interes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只就本金计算利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und interes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每期利息收入在下期转化为本金产生新的利息收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货币时间价值计算中一般使用复利的概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复利终值与现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利终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/compound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利终值是指若干期后包括本金和利息在内的未来价值，又   称本利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V×FVI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.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—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VI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复利终值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—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知：利息率越高，复利终值越大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复利期数越多，复利终值越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图片 5123" descr="GSLCSM复利终值图1"/>
          <p:cNvPicPr/>
          <p:nvPr/>
        </p:nvPicPr>
        <p:blipFill>
          <a:blip r:embed="rId1"/>
          <a:stretch/>
        </p:blipFill>
        <p:spPr>
          <a:xfrm>
            <a:off x="1371600" y="1523880"/>
            <a:ext cx="6095880" cy="45691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126"/>
          <p:cNvSpPr/>
          <p:nvPr/>
        </p:nvSpPr>
        <p:spPr>
          <a:xfrm>
            <a:off x="685800" y="6019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—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利终值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-30528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利现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/discounted valu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6148"/>
          <p:cNvSpPr/>
          <p:nvPr/>
        </p:nvSpPr>
        <p:spPr>
          <a:xfrm>
            <a:off x="304920" y="762120"/>
            <a:ext cx="822960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复利现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以后年份收入或支出资金的现在价值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V=F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(1+i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F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PVIF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—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其中：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VIF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/(1+i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称为复利现值系数或贴现系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片 6149" descr="GSLCSM复利现值图1"/>
          <p:cNvPicPr/>
          <p:nvPr/>
        </p:nvPicPr>
        <p:blipFill>
          <a:blip r:embed="rId1"/>
          <a:stretch/>
        </p:blipFill>
        <p:spPr>
          <a:xfrm>
            <a:off x="457200" y="2057400"/>
            <a:ext cx="4343400" cy="396252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6150"/>
          <p:cNvSpPr/>
          <p:nvPr/>
        </p:nvSpPr>
        <p:spPr>
          <a:xfrm>
            <a:off x="990720" y="6248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利现值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6151"/>
          <p:cNvSpPr/>
          <p:nvPr/>
        </p:nvSpPr>
        <p:spPr>
          <a:xfrm>
            <a:off x="4876920" y="3657600"/>
            <a:ext cx="3733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明：贴现率越高，复利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值越小；贴现期数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长，复利现值越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-533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二）年金的终值和现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7170"/>
          <p:cNvSpPr/>
          <p:nvPr/>
        </p:nvSpPr>
        <p:spPr>
          <a:xfrm>
            <a:off x="304920" y="1066680"/>
            <a:ext cx="883908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年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uitie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是指一定时期内每期相等金额的收付款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付年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普通年金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inary annuity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是指每期期末等额收付的款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后付年金终值：是一定时期每期期末等额收付款项的复利终值之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V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A•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+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A•FVIFA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(t=1,2, , ,  , , , ,n)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—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其中：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VIFA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称为年金终值系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图片 7171" descr="GSLCSM后付年金终值图1"/>
          <p:cNvPicPr/>
          <p:nvPr/>
        </p:nvPicPr>
        <p:blipFill>
          <a:blip r:embed="rId1"/>
          <a:stretch/>
        </p:blipFill>
        <p:spPr>
          <a:xfrm>
            <a:off x="1066680" y="3352680"/>
            <a:ext cx="6629400" cy="281952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7172"/>
          <p:cNvSpPr/>
          <p:nvPr/>
        </p:nvSpPr>
        <p:spPr>
          <a:xfrm>
            <a:off x="990720" y="6324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—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付年金终值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后付年金现值：是指一定时期内每期期末等额收付款项的现值之和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8194"/>
          <p:cNvSpPr/>
          <p:nvPr/>
        </p:nvSpPr>
        <p:spPr>
          <a:xfrm>
            <a:off x="609480" y="1143000"/>
            <a:ext cx="82296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•∑1/(1+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• PVIFA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t=1,2,3 , , , n)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IFA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年金现值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图片 8196" descr="GSLCSM后付年金现值图1"/>
          <p:cNvPicPr/>
          <p:nvPr/>
        </p:nvPicPr>
        <p:blipFill>
          <a:blip r:embed="rId1"/>
          <a:stretch/>
        </p:blipFill>
        <p:spPr>
          <a:xfrm>
            <a:off x="1143000" y="2286000"/>
            <a:ext cx="6629400" cy="335268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8197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—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付年金现值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付年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预付年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ity d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文本框 9218"/>
          <p:cNvSpPr/>
          <p:nvPr/>
        </p:nvSpPr>
        <p:spPr>
          <a:xfrm>
            <a:off x="457200" y="83808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先付年金是指在一定时期内每期期初等额收付款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先付年金终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期先付年金终值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期后付年金终值的关系如图所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图片 9221" descr="GSLCSM先付与后付年金终值关系图1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73384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9222"/>
          <p:cNvSpPr/>
          <p:nvPr/>
        </p:nvSpPr>
        <p:spPr>
          <a:xfrm>
            <a:off x="609480" y="45720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—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先付年金终值与后付年金终值关系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9223"/>
          <p:cNvSpPr/>
          <p:nvPr/>
        </p:nvSpPr>
        <p:spPr>
          <a:xfrm>
            <a:off x="609480" y="4876920"/>
            <a:ext cx="8153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明：付款次数相同，均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付款时间不同，先付比后付多计一期利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先付年金终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•F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+i)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• F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.n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先付年金现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期先付年金现值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期后付年金现值的关系如图所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图片 10243" descr="GSLCSM先付与后付年金现值关系图1"/>
          <p:cNvPicPr/>
          <p:nvPr/>
        </p:nvPicPr>
        <p:blipFill>
          <a:blip r:embed="rId1"/>
          <a:stretch/>
        </p:blipFill>
        <p:spPr>
          <a:xfrm>
            <a:off x="1143000" y="1676520"/>
            <a:ext cx="7162920" cy="236196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0244"/>
          <p:cNvSpPr/>
          <p:nvPr/>
        </p:nvSpPr>
        <p:spPr>
          <a:xfrm>
            <a:off x="762120" y="4191120"/>
            <a:ext cx="769608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—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先付年金现值与后付年金现值关系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明：付款期数相同，均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付款时间不同，后付比先付多贴现一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先付年金现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•P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                  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•P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.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A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2:56Z</dcterms:created>
  <dc:creator/>
  <dc:description/>
  <cp:keywords>投资 财务</cp:keywords>
  <dc:language>en-US</dc:language>
  <cp:lastModifiedBy>An</cp:lastModifiedBy>
  <dcterms:modified xsi:type="dcterms:W3CDTF">2016-05-01T01:02:5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