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16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4BC-2A24-47DB-9653-C3D757E4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BF4-0E6F-4199-8392-7E416F0D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2C4-6FD3-4A43-831A-F8BA5F75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312E-34E8-4E12-89BC-47659A14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F29-F418-4FB6-84F8-33F8C7B9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434-5BD2-4310-AFD8-5603AD40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889-A02B-4C36-9123-C8E90A6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FC7-3DD7-4F91-87D5-DA07F0B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849-A13B-4316-927E-E71D6AD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229-40D0-48DD-8ABC-8627BC04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6A5-D58A-4963-B687-E190730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6B7-023A-4B70-8FB3-01C9046D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CB6-7851-4F71-8B80-6E5D31B44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27968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13"/>
          <p:cNvSpPr txBox="1"/>
          <p:nvPr/>
        </p:nvSpPr>
        <p:spPr>
          <a:xfrm>
            <a:off x="1116000" y="2133720"/>
            <a:ext cx="4522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怀念母亲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3" name="WordArt 14" descr=""/>
          <p:cNvPicPr/>
          <p:nvPr/>
        </p:nvPicPr>
        <p:blipFill>
          <a:blip r:embed="rId3"/>
          <a:stretch/>
        </p:blipFill>
        <p:spPr>
          <a:xfrm>
            <a:off x="163440" y="326880"/>
            <a:ext cx="5567400" cy="140184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239148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780109963x0902007-fm02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060560" y="45720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52120" y="2895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仿宋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6"/>
          <p:cNvSpPr txBox="1"/>
          <p:nvPr/>
        </p:nvSpPr>
        <p:spPr>
          <a:xfrm>
            <a:off x="1447920" y="5029200"/>
            <a:ext cx="23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6" name="Group 12"/>
          <p:cNvGrpSpPr/>
          <p:nvPr/>
        </p:nvGrpSpPr>
        <p:grpSpPr>
          <a:xfrm>
            <a:off x="457200" y="380880"/>
            <a:ext cx="8305920" cy="5459400"/>
            <a:chOff x="457200" y="380880"/>
            <a:chExt cx="8305920" cy="5459400"/>
          </a:xfrm>
        </p:grpSpPr>
        <p:pic>
          <p:nvPicPr>
            <p:cNvPr id="97" name="Picture 7" descr="pic_270694"/>
            <p:cNvPicPr/>
            <p:nvPr/>
          </p:nvPicPr>
          <p:blipFill>
            <a:blip r:embed="rId2"/>
            <a:stretch/>
          </p:blipFill>
          <p:spPr>
            <a:xfrm>
              <a:off x="4343400" y="380880"/>
              <a:ext cx="4419720" cy="54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pic_27069402"/>
            <p:cNvPicPr/>
            <p:nvPr/>
          </p:nvPicPr>
          <p:blipFill>
            <a:blip r:embed="rId3"/>
            <a:stretch/>
          </p:blipFill>
          <p:spPr>
            <a:xfrm>
              <a:off x="457200" y="380880"/>
              <a:ext cx="3429000" cy="424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15849472006071002423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4572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6184-EC39-40A8-A3BB-B803E2B1D0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6934320" y="14479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320" y="148572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6858000" y="1181160"/>
            <a:ext cx="1695600" cy="4495320"/>
            <a:chOff x="6858000" y="1181160"/>
            <a:chExt cx="1695600" cy="4495320"/>
          </a:xfrm>
        </p:grpSpPr>
        <p:pic>
          <p:nvPicPr>
            <p:cNvPr id="49" name="Picture 5" descr="1afa62cce4e634d2cb2292753dc69ae9"/>
            <p:cNvPicPr/>
            <p:nvPr/>
          </p:nvPicPr>
          <p:blipFill>
            <a:blip r:embed="rId2"/>
            <a:stretch/>
          </p:blipFill>
          <p:spPr>
            <a:xfrm>
              <a:off x="6858000" y="323820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8" descr="图片1"/>
            <p:cNvPicPr/>
            <p:nvPr/>
          </p:nvPicPr>
          <p:blipFill>
            <a:blip r:embed="rId3"/>
            <a:stretch/>
          </p:blipFill>
          <p:spPr>
            <a:xfrm>
              <a:off x="6858000" y="118116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ic_27069301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62"/>
          <p:cNvPicPr/>
          <p:nvPr/>
        </p:nvPicPr>
        <p:blipFill>
          <a:blip r:embed="rId3"/>
          <a:stretch/>
        </p:blipFill>
        <p:spPr>
          <a:xfrm>
            <a:off x="7696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440" y="19047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021u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20060429120302525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57400" y="15238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b49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gaoxia8197200651213493812833"/>
          <p:cNvPicPr/>
          <p:nvPr/>
        </p:nvPicPr>
        <p:blipFill>
          <a:blip r:embed="rId3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294920" y="4648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9" name="WordArt 12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-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WordArt 13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04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“</a:t>
            </a: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生身母亲</a:t>
            </a:r>
            <a:r>
              <a:rPr b="1" i="1" lang="zh-CN" sz="5400" spc="-1" strike="noStrike">
                <a:solidFill>
                  <a:srgbClr val="0000ff"/>
                </a:solidFill>
                <a:latin typeface="宋体"/>
                <a:ea typeface="黑体"/>
              </a:rPr>
              <a:t>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599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7720" y="28954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怅望灰天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19as"/>
          <p:cNvPicPr/>
          <p:nvPr/>
        </p:nvPicPr>
        <p:blipFill>
          <a:blip r:embed="rId2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12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20Z</dcterms:modified>
  <cp:revision>273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