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CB4-EA14-427C-A57C-0FA04604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49B-2F89-4C84-AADD-2C1C2DD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5AD-76B1-4429-A1A2-7A553999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AD3-5B29-4413-8E89-9D4AF475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EEF-DD01-4A31-9B7C-88FAFF1A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304-EBD3-4FF4-943C-74631512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2C8-FDAC-41A9-8922-A94231B1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C2E-69C7-4082-AB2C-DF61EBBB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1A3-3E38-41D8-9FB0-E93F60A4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305-0EED-42AE-A038-FED3BC3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AB3-78B5-4A78-9B0F-E89D578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E88-8024-41E7-AE24-9BA2B78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095-5FEE-4B3F-A188-833AAC22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900000" y="1484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Unit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story of rain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42784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eed"/>
          <p:cNvPicPr/>
          <p:nvPr/>
        </p:nvPicPr>
        <p:blipFill>
          <a:blip r:embed="rId1"/>
          <a:stretch/>
        </p:blipFill>
        <p:spPr>
          <a:xfrm>
            <a:off x="1071720" y="1295280"/>
            <a:ext cx="3047760" cy="186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oil"/>
          <p:cNvPicPr/>
          <p:nvPr/>
        </p:nvPicPr>
        <p:blipFill>
          <a:blip r:embed="rId2"/>
          <a:stretch/>
        </p:blipFill>
        <p:spPr>
          <a:xfrm>
            <a:off x="4043520" y="1143000"/>
            <a:ext cx="3200400" cy="196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290680" y="700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prout"/>
          <p:cNvPicPr/>
          <p:nvPr/>
        </p:nvPicPr>
        <p:blipFill>
          <a:blip r:embed="rId3"/>
          <a:stretch/>
        </p:blipFill>
        <p:spPr>
          <a:xfrm>
            <a:off x="457200" y="4038480"/>
            <a:ext cx="3352680" cy="205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5181480" y="3962520"/>
            <a:ext cx="1535400" cy="2361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62320" y="3581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can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1384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2624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44792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r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7913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seed.wav" descr=""/>
          <p:cNvPicPr/>
          <p:nvPr/>
        </p:nvPicPr>
        <p:blipFill>
          <a:blip r:embed="rId5"/>
          <a:stretch/>
        </p:blipFill>
        <p:spPr>
          <a:xfrm>
            <a:off x="1833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soil.wav" descr=""/>
          <p:cNvPicPr/>
          <p:nvPr/>
        </p:nvPicPr>
        <p:blipFill>
          <a:blip r:embed="rId6"/>
          <a:stretch/>
        </p:blipFill>
        <p:spPr>
          <a:xfrm>
            <a:off x="48816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sprout.wav" descr=""/>
          <p:cNvPicPr/>
          <p:nvPr/>
        </p:nvPicPr>
        <p:blipFill>
          <a:blip r:embed="rId7"/>
          <a:stretch/>
        </p:blipFill>
        <p:spPr>
          <a:xfrm>
            <a:off x="1143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lant.wav" descr=""/>
          <p:cNvPicPr/>
          <p:nvPr/>
        </p:nvPicPr>
        <p:blipFill>
          <a:blip r:embed="rId8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057400" cy="149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581280" y="762120"/>
            <a:ext cx="2095560" cy="147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2071800" cy="150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1905120" y="3352680"/>
            <a:ext cx="2071440" cy="146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5029200" y="3352680"/>
            <a:ext cx="2071800" cy="1467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838080" y="2514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Plant the seeds in the so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581280" y="2438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Put the pot unde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324480" y="2438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Add water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828800" y="5105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Wait for a spr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029200" y="5105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Wait for a flower to g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40160" y="2057400"/>
            <a:ext cx="52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Add water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46280" y="2666880"/>
            <a:ext cx="50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he pot under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8120" y="3352680"/>
            <a:ext cx="52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 the seeds in the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495520" y="40384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for a flower to g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540160" y="47242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for a spr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99548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5"/>
          <p:cNvSpPr/>
          <p:nvPr/>
        </p:nvSpPr>
        <p:spPr>
          <a:xfrm>
            <a:off x="457200" y="685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96704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28195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819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281952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81952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8195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3"/>
          <p:cNvSpPr txBox="1"/>
          <p:nvPr/>
        </p:nvSpPr>
        <p:spPr>
          <a:xfrm>
            <a:off x="2895480" y="533520"/>
            <a:ext cx="3962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elp Zhang Peng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8"/>
          <p:cNvSpPr txBox="1"/>
          <p:nvPr/>
        </p:nvSpPr>
        <p:spPr>
          <a:xfrm>
            <a:off x="5105520" y="228600"/>
            <a:ext cx="27432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plant!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6" name="Group 35"/>
          <p:cNvGrpSpPr/>
          <p:nvPr/>
        </p:nvGrpSpPr>
        <p:grpSpPr>
          <a:xfrm>
            <a:off x="304920" y="380880"/>
            <a:ext cx="8001000" cy="5562720"/>
            <a:chOff x="304920" y="380880"/>
            <a:chExt cx="8001000" cy="5562720"/>
          </a:xfrm>
        </p:grpSpPr>
        <p:pic>
          <p:nvPicPr>
            <p:cNvPr id="87" name="Picture 6" descr="grape"/>
            <p:cNvPicPr/>
            <p:nvPr/>
          </p:nvPicPr>
          <p:blipFill>
            <a:blip r:embed="rId1"/>
            <a:stretch/>
          </p:blipFill>
          <p:spPr>
            <a:xfrm>
              <a:off x="380880" y="2452680"/>
              <a:ext cx="7621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" descr="grape seeds"/>
            <p:cNvPicPr/>
            <p:nvPr/>
          </p:nvPicPr>
          <p:blipFill>
            <a:blip r:embed="rId2"/>
            <a:stretch/>
          </p:blipFill>
          <p:spPr>
            <a:xfrm>
              <a:off x="1219320" y="1995480"/>
              <a:ext cx="129528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vegetable"/>
            <p:cNvPicPr/>
            <p:nvPr/>
          </p:nvPicPr>
          <p:blipFill>
            <a:blip r:embed="rId3"/>
            <a:stretch/>
          </p:blipFill>
          <p:spPr>
            <a:xfrm>
              <a:off x="3581280" y="68580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9" descr=""/>
            <p:cNvPicPr/>
            <p:nvPr/>
          </p:nvPicPr>
          <p:blipFill>
            <a:blip r:embed="rId4"/>
            <a:stretch/>
          </p:blipFill>
          <p:spPr>
            <a:xfrm>
              <a:off x="2514600" y="457200"/>
              <a:ext cx="1138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0" descr="sunflower seeds"/>
            <p:cNvPicPr/>
            <p:nvPr/>
          </p:nvPicPr>
          <p:blipFill>
            <a:blip r:embed="rId5"/>
            <a:stretch/>
          </p:blipFill>
          <p:spPr>
            <a:xfrm>
              <a:off x="685800" y="396252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1"/>
            <p:cNvSpPr/>
            <p:nvPr/>
          </p:nvSpPr>
          <p:spPr>
            <a:xfrm>
              <a:off x="457200" y="32148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pe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2666880" y="16765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getable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304920" y="144792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e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04920" y="541008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flower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5" descr=""/>
            <p:cNvPicPr/>
            <p:nvPr/>
          </p:nvPicPr>
          <p:blipFill>
            <a:blip r:embed="rId6"/>
            <a:stretch/>
          </p:blipFill>
          <p:spPr>
            <a:xfrm>
              <a:off x="609480" y="380880"/>
              <a:ext cx="1219320" cy="99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Group 34"/>
            <p:cNvGrpSpPr/>
            <p:nvPr/>
          </p:nvGrpSpPr>
          <p:grpSpPr>
            <a:xfrm>
              <a:off x="3809880" y="2209680"/>
              <a:ext cx="4496040" cy="3733920"/>
              <a:chOff x="3809880" y="2209680"/>
              <a:chExt cx="4496040" cy="3733920"/>
            </a:xfrm>
          </p:grpSpPr>
          <p:sp>
            <p:nvSpPr>
              <p:cNvPr id="98" name="Rectangle 24"/>
              <p:cNvSpPr/>
              <p:nvPr/>
            </p:nvSpPr>
            <p:spPr>
              <a:xfrm>
                <a:off x="3809880" y="2209680"/>
                <a:ext cx="4267440" cy="373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9"/>
              <p:cNvSpPr/>
              <p:nvPr/>
            </p:nvSpPr>
            <p:spPr>
              <a:xfrm>
                <a:off x="3962520" y="2286000"/>
                <a:ext cx="434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A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What are you going to plant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0"/>
              <p:cNvSpPr/>
              <p:nvPr/>
            </p:nvSpPr>
            <p:spPr>
              <a:xfrm>
                <a:off x="3962520" y="2666880"/>
                <a:ext cx="426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B: I am going to plant                     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2"/>
              <p:cNvSpPr/>
              <p:nvPr/>
            </p:nvSpPr>
            <p:spPr>
              <a:xfrm>
                <a:off x="3962520" y="3048120"/>
                <a:ext cx="434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A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How do you do that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3"/>
              <p:cNvSpPr/>
              <p:nvPr/>
            </p:nvSpPr>
            <p:spPr>
              <a:xfrm>
                <a:off x="3962520" y="3429000"/>
                <a:ext cx="4267080" cy="245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B: First, plant the seeds in the soi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Then,  put the pot under the su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dd water ofte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Wait for a sprou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Wait for                   to grow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31"/>
              <p:cNvSpPr/>
              <p:nvPr/>
            </p:nvSpPr>
            <p:spPr>
              <a:xfrm>
                <a:off x="3962520" y="5410080"/>
                <a:ext cx="434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A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Oh, I se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Line 36"/>
          <p:cNvSpPr/>
          <p:nvPr/>
        </p:nvSpPr>
        <p:spPr>
          <a:xfrm>
            <a:off x="6477120" y="2971800"/>
            <a:ext cx="1218960" cy="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6400800" y="2666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pple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5257800" y="5105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pp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5257800" y="5410080"/>
            <a:ext cx="1143000" cy="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820800" y="5880240"/>
            <a:ext cx="50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peach tree"/>
          <p:cNvPicPr/>
          <p:nvPr/>
        </p:nvPicPr>
        <p:blipFill>
          <a:blip r:embed="rId1"/>
          <a:stretch/>
        </p:blipFill>
        <p:spPr>
          <a:xfrm>
            <a:off x="5715000" y="76320"/>
            <a:ext cx="1905120" cy="135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09480" y="1535040"/>
            <a:ext cx="8001000" cy="46371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685800" y="30492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isten and write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Listen and write.wav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4"/>
          <a:stretch/>
        </p:blipFill>
        <p:spPr>
          <a:xfrm>
            <a:off x="3886200" y="2143080"/>
            <a:ext cx="60948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5"/>
          <a:stretch/>
        </p:blipFill>
        <p:spPr>
          <a:xfrm>
            <a:off x="2666880" y="2770200"/>
            <a:ext cx="887400" cy="291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6"/>
          <a:stretch/>
        </p:blipFill>
        <p:spPr>
          <a:xfrm>
            <a:off x="3352680" y="3379680"/>
            <a:ext cx="927360" cy="29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7"/>
          <a:stretch/>
        </p:blipFill>
        <p:spPr>
          <a:xfrm>
            <a:off x="4334040" y="3906720"/>
            <a:ext cx="1179360" cy="31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8"/>
          <a:stretch/>
        </p:blipFill>
        <p:spPr>
          <a:xfrm>
            <a:off x="2438280" y="4986360"/>
            <a:ext cx="9414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441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arden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42900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447920" y="1676520"/>
            <a:ext cx="7010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new words, 2 lines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 a flower at home and write down th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1233-5C7F-4A4F-B464-7C05C57933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10:07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4:15Z</dcterms:modified>
  <cp:revision>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