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831-63EF-4346-830F-F19423DD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4F7-7763-4768-AE1F-F242362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0DE-573A-4EA2-923D-0185246B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947-3550-42BF-9C4E-1CBF722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01-6BF2-425B-B830-E7A7D9A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860-5C9C-463D-AAFA-03CD2961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00F-155D-46C7-B02E-DEC7E6EF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C09-884F-4290-A22C-49A4797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3ED-0714-47F5-AA91-863D7BB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EA5-794F-4496-AA15-CA692FC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1E9-8ED7-4535-8E69-DA7C822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4F5-F30D-4F14-963C-9C4D2A9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6ECB-830E-478F-BD50-AF326E44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image.baidu.com/i?ct=503316480&amp;z=694581301&amp;tn=baiduimagedetail&amp;word=&#22681;&#32440;&amp;in=43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17655703&amp;tn=baiduimagedetail&amp;word=&#33487;&#36732;&amp;in=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566353851&amp;tn=baiduimagedetail&amp;word=&#33487;&#36732;&amp;in=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68861403&amp;tn=baiduimagedetail&amp;word=&#33487;&#36732;&amp;in=2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.baidu.com/i?ct=503316480&amp;z=515758403&amp;tn=baiduimagedetail&amp;word=&#33487;&#36732;&amp;in=25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992300&amp;tn=baiduimagedetail&amp;word=&#25554;&#30011;&amp;in=2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97688900&amp;tn=baiduimagedetail&amp;word=3d&#22721;&#32440;&amp;in=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47681352&amp;tn=baiduimagedetail&amp;word=3d&#22721;&#32440;&amp;in=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4"/>
          <p:cNvSpPr/>
          <p:nvPr/>
        </p:nvSpPr>
        <p:spPr>
          <a:xfrm>
            <a:off x="2627280" y="6245280"/>
            <a:ext cx="417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874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江城子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方正北魏楷书简体"/>
                <a:ea typeface="方正北魏楷书简体"/>
              </a:rPr>
              <a:t>密州出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08720" y="2276640"/>
            <a:ext cx="2735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2800440" y="63565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AB94-66C6-401D-9F7D-092DDAA1C9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u=163894829,260275535&amp;gp=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苏轼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，字子瞻，号东坡居士，四川眉山人，北宋杰出文学家、书画家，与父苏洵、弟苏辙并称“三苏”。苏轼二十一岁中进士，神宗时期曾在凤翔、杭州、密州、徐州、湖州等地任职。元丰三年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因“乌台诗案”受诬陷被贬黄州任团练副使，在黄州四年多曾于城东之东 坡开荒种田，故自号“东坡居士”。哲宗即位后，曾任翰林学士、侍读学士、礼部尚书等职，并出知杭州、颍州、扬州、定州等地，晚年被贬惠州、儋州。大赦北还，途中病死在常州，葬于河南郏县，追谥文忠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在任地方长官期间，苏轼关心民众疾苦，做了许多利民的好事，深受民众拥戴。苏轼博学多才，是著名的散文家，为唐宋八大家之一，其文学作品标志着北宋文学创作的最高成就；苏轼是著名诗人，他同宋代著名诗人黄庭坚并称为“苏黄”；苏轼为杰出的词人，开辟了豪放词风，他同杰出词人辛弃疾并称为“苏辛”，对后世产生了很大的影响；苏轼是著名的书法家，他同黄庭坚、米芾、蔡襄并称“宋四家”；苏轼还是著名的画家。此外，在农田水利、教育、音乐、医药、数学、金石、美学、烹饪等方面也都取得了重要的成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=494025536,2522010090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411280" cy="450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u=992637027,1870166206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404640"/>
            <a:ext cx="2016000" cy="388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u=2591103010,21351445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76280"/>
            <a:ext cx="295092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u=1036416888,1691233856&amp;gp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295092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2"/>
          <p:cNvSpPr txBox="1"/>
          <p:nvPr/>
        </p:nvSpPr>
        <p:spPr>
          <a:xfrm>
            <a:off x="4716360" y="5373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苏轼的画像及字贴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u=1614148728,383678926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背景资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轼是豪放词派的创始人，但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坡乐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３４０多首传世之作中，真正称得上“豪放”的也不过十分之一．实际上，苏轼是豪放婉约两擅长的大家．这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城子　密州出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是他写的第一首，也是最为典型的一首豪放词．宋神宗熙宁八年，是苏轼到密州上任的第二年．当时，密州蝗旱相连，而西北方的西夏和辽不断袭扰边境．作为爱国心切、一贯主张抗敌御侮的苏轼，年届“不惑而雄心勃勃”，在贬官外任中，不但尽力解除人民的疾苦，而且时刻准备要驰骋疆场，为国效力．他在这年十月中，祭常山回来，与同僚猎于铁沟、黄茅冈，作此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u=4089334859,273901363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533760" y="175320"/>
            <a:ext cx="354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城子 密州出猎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苏轼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夫聊发少年狂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牵黄，右擎苍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锦帽貂裘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骑卷平冈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报倾城随太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射虎，看孙郎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酒酣胸胆尚开张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鬓微霜，又何妨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持节云中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日遣冯唐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挽雕弓如满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北望，射天狼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u=811226902,3010027089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正文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夫姑且发一发少年疯狂，左手牵黄狗，右手举苍鹰，戴锦帽，披貂裘，千骑驰骋，犹如疾风席卷山冈．为了报酬满城的人跟随太守观的盛情，我要亲手射杀猛虎，像三国的孙郎那样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痛饮美酒，心胸开阔，胆气更为豪壮．鬓间虽已染白霜，那又有何妨！手持符节前往云中，何时朝廷才能再谴冯唐？（召我奔赴战场）（到那时）我定将手中的雕弓拉成满月的形状，朝着西北方，射杀犯界的天狼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研讨与练习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2108160"/>
            <a:ext cx="806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文中“亲射虎”，“谴冯唐”，“射天郎”的典故分别表达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-112680" y="5272200"/>
            <a:ext cx="74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亲射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孙郎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孙郎即孙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国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载孙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一次出行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坐椅为虎所伤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镇定地在马前击毙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老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词人的意思是他要像当年的孙权那样挽弓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前射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突出地展现了作者虽然年纪已经不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仍有着少年狂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遣冯唐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史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张释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冯唐列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汉文帝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魏尚为云中太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抵御匈奴有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因报功时多报了六个首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而获罪削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后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帝采纳了冯唐的劝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冯唐持符节到云中去赦免魏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里作者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以魏尚自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达希望朝廷能像派冯唐赦魏尚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样重用自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射天狼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狼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文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是“主侵掠”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里用以代指从西北来进扰的西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军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苏轼在结句表达了自己要报效国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抵御入侵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建功立业的决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33336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答案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5:02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4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