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48E-D5B1-47C4-8CD9-D5D301D2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D173-6E4B-4629-85B1-34F84FB4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B5B-E7D5-4F21-9050-DE4197E3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1AD-8C05-4C05-BADA-CE97ABCE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3AD5-C9ED-4055-9B44-8E49813E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926-B357-45DA-A7CD-0CC2F790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4D92-C9F0-447D-B639-E4B68183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C9D-E3CA-409A-AB67-DED4C5A6E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7D56-40CE-443D-A5EA-4FB1C926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C77-DD9B-4888-B6F7-C0CA4643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3FF-DC98-4225-ACE0-A8C7CA37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8521-A535-470A-BE3A-55A6B28C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1028-ACA9-48EC-AD8F-B4C12F49D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764;%BF%BC&amp;in=11266&amp;cl=2&amp;lm=6&amp;pn=166&amp;rn=1&amp;di=3023863806&amp;ln=1&amp;fr=&amp;ic=0&amp;s=0&amp;se=1&amp;sme=0&amp;tab=&amp;width=&amp;height=&amp;face=0&amp;fb=1" TargetMode="Externa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5800" y="28195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403280" y="1844640"/>
            <a:ext cx="640872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华文中宋"/>
              </a:rPr>
              <a:t>解一元一次方程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华文中宋"/>
              <a:ea typeface="华文中宋"/>
            </a:endParaRPr>
          </a:p>
        </p:txBody>
      </p:sp>
      <p:sp>
        <p:nvSpPr>
          <p:cNvPr id="43" name="矩形 9"/>
          <p:cNvSpPr/>
          <p:nvPr/>
        </p:nvSpPr>
        <p:spPr>
          <a:xfrm>
            <a:off x="-26640" y="64184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108000" y="0"/>
            <a:ext cx="1584360" cy="936720"/>
            <a:chOff x="108000" y="0"/>
            <a:chExt cx="1584360" cy="936720"/>
          </a:xfrm>
        </p:grpSpPr>
        <p:sp>
          <p:nvSpPr>
            <p:cNvPr id="46" name="AutoShape 5"/>
            <p:cNvSpPr/>
            <p:nvPr/>
          </p:nvSpPr>
          <p:spPr>
            <a:xfrm>
              <a:off x="108000" y="0"/>
              <a:ext cx="1584360" cy="936720"/>
            </a:xfrm>
            <a:prstGeom prst="horizontalScrol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377640" y="216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问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22"/>
          <p:cNvSpPr/>
          <p:nvPr/>
        </p:nvSpPr>
        <p:spPr>
          <a:xfrm>
            <a:off x="1051920" y="981000"/>
            <a:ext cx="731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辆客车和一辆卡车同时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出发沿同一公路同方向行驶，客车的行驶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 km/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卡车的行驶速度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km/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客车比卡车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两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间的路程是多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532800" y="21844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cc"/>
                </a:solidFill>
                <a:latin typeface="Arial"/>
              </a:rPr>
              <a:t>分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4"/>
          <p:cNvSpPr/>
          <p:nvPr/>
        </p:nvSpPr>
        <p:spPr>
          <a:xfrm>
            <a:off x="1634400" y="270180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地相距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能分别列式表客车和卡车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的行驶时间吗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25" descr=""/>
          <p:cNvPicPr/>
          <p:nvPr/>
        </p:nvPicPr>
        <p:blipFill>
          <a:blip r:embed="rId1"/>
          <a:stretch/>
        </p:blipFill>
        <p:spPr>
          <a:xfrm>
            <a:off x="2516040" y="2708280"/>
            <a:ext cx="327240" cy="360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6"/>
          <p:cNvSpPr/>
          <p:nvPr/>
        </p:nvSpPr>
        <p:spPr>
          <a:xfrm>
            <a:off x="735480" y="329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匀速运动中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ject 27" descr=""/>
          <p:cNvPicPr/>
          <p:nvPr/>
        </p:nvPicPr>
        <p:blipFill>
          <a:blip r:embed="rId2"/>
          <a:stretch/>
        </p:blipFill>
        <p:spPr>
          <a:xfrm>
            <a:off x="1908000" y="3213000"/>
            <a:ext cx="1146240" cy="5652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8"/>
          <p:cNvSpPr/>
          <p:nvPr/>
        </p:nvSpPr>
        <p:spPr>
          <a:xfrm>
            <a:off x="4128480" y="3305160"/>
            <a:ext cx="38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根据问题的条件，客车和卡车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的行驶时间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9"/>
          <p:cNvSpPr/>
          <p:nvPr/>
        </p:nvSpPr>
        <p:spPr>
          <a:xfrm>
            <a:off x="835200" y="3881520"/>
            <a:ext cx="26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以分别表示为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ject 30" descr=""/>
          <p:cNvPicPr/>
          <p:nvPr/>
        </p:nvPicPr>
        <p:blipFill>
          <a:blip r:embed="rId3"/>
          <a:stretch/>
        </p:blipFill>
        <p:spPr>
          <a:xfrm>
            <a:off x="2268360" y="3716280"/>
            <a:ext cx="355680" cy="649440"/>
          </a:xfrm>
          <a:prstGeom prst="rect">
            <a:avLst/>
          </a:prstGeom>
          <a:ln w="0">
            <a:noFill/>
          </a:ln>
        </p:spPr>
      </p:pic>
      <p:pic>
        <p:nvPicPr>
          <p:cNvPr id="57" name="Object 31" descr=""/>
          <p:cNvPicPr/>
          <p:nvPr/>
        </p:nvPicPr>
        <p:blipFill>
          <a:blip r:embed="rId4"/>
          <a:stretch/>
        </p:blipFill>
        <p:spPr>
          <a:xfrm>
            <a:off x="3132000" y="3716280"/>
            <a:ext cx="355680" cy="649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2"/>
          <p:cNvSpPr/>
          <p:nvPr/>
        </p:nvSpPr>
        <p:spPr>
          <a:xfrm>
            <a:off x="1277640" y="4529160"/>
            <a:ext cx="42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为客车比卡车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经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，所以      比      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ject 33" descr=""/>
          <p:cNvPicPr/>
          <p:nvPr/>
        </p:nvPicPr>
        <p:blipFill>
          <a:blip r:embed="rId5"/>
          <a:stretch/>
        </p:blipFill>
        <p:spPr>
          <a:xfrm>
            <a:off x="4284720" y="4365720"/>
            <a:ext cx="355680" cy="649080"/>
          </a:xfrm>
          <a:prstGeom prst="rect">
            <a:avLst/>
          </a:prstGeom>
          <a:ln w="0">
            <a:noFill/>
          </a:ln>
        </p:spPr>
      </p:pic>
      <p:pic>
        <p:nvPicPr>
          <p:cNvPr id="60" name="Object 34" descr=""/>
          <p:cNvPicPr/>
          <p:nvPr/>
        </p:nvPicPr>
        <p:blipFill>
          <a:blip r:embed="rId6"/>
          <a:stretch/>
        </p:blipFill>
        <p:spPr>
          <a:xfrm>
            <a:off x="4937040" y="4365720"/>
            <a:ext cx="355680" cy="649080"/>
          </a:xfrm>
          <a:prstGeom prst="rect">
            <a:avLst/>
          </a:prstGeom>
          <a:ln w="0">
            <a:noFill/>
          </a:ln>
        </p:spPr>
      </p:pic>
      <p:pic>
        <p:nvPicPr>
          <p:cNvPr id="61" name="Object 35" descr=""/>
          <p:cNvPicPr/>
          <p:nvPr/>
        </p:nvPicPr>
        <p:blipFill>
          <a:blip r:embed="rId7"/>
          <a:stretch/>
        </p:blipFill>
        <p:spPr>
          <a:xfrm>
            <a:off x="4356000" y="5251320"/>
            <a:ext cx="1152720" cy="6256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6"/>
          <p:cNvSpPr/>
          <p:nvPr/>
        </p:nvSpPr>
        <p:spPr>
          <a:xfrm>
            <a:off x="6870240" y="537840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7"/>
          <p:cNvSpPr/>
          <p:nvPr/>
        </p:nvSpPr>
        <p:spPr>
          <a:xfrm>
            <a:off x="179280" y="62024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列方程时，要先设未知数（通常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等字母表示未知数），然后根据问题中的相等关系，写出</a:t>
            </a:r>
            <a:r>
              <a:rPr b="1" lang="zh-CN" sz="1600" spc="-1" strike="noStrike">
                <a:solidFill>
                  <a:srgbClr val="cc00ff"/>
                </a:solidFill>
                <a:latin typeface="Arial"/>
              </a:rPr>
              <a:t>含有未知数的等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方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8"/>
          <p:cNvSpPr/>
          <p:nvPr/>
        </p:nvSpPr>
        <p:spPr>
          <a:xfrm>
            <a:off x="1634400" y="270828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两地相距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m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能分别列式表客车和卡车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的行驶时间吗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ject 39" descr=""/>
          <p:cNvPicPr/>
          <p:nvPr/>
        </p:nvPicPr>
        <p:blipFill>
          <a:blip r:embed="rId8"/>
          <a:stretch/>
        </p:blipFill>
        <p:spPr>
          <a:xfrm>
            <a:off x="2516040" y="2714760"/>
            <a:ext cx="3272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根据下列问题，设未知数并列方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）用一根长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4cm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的铁丝围成一个正方形，正方形的边长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）一台计算机已使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 70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小时，预计每月再使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小时，经过多少月这台计算机的使用时间达到规定的检修时间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2 45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小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）某校女生占全体学生数的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52﹪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，比男生多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人，这个学校有多少学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04800" y="2997360"/>
            <a:ext cx="30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：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设正方形的边长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χ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χ=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289880" y="3933720"/>
            <a:ext cx="6540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后这台计算机的使用时间达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时，那么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月后使用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700+1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2 4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1091160" y="5661000"/>
            <a:ext cx="5980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设这个学校的学生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那么女生数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男生数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-.5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列方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-0.5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8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473200" y="4516560"/>
            <a:ext cx="56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163160" y="18900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6313"/>
                </a:solidFill>
                <a:latin typeface="Arial"/>
              </a:rPr>
              <a:t>观察上面所列方程</a:t>
            </a:r>
            <a:r>
              <a:rPr b="1" lang="en-US" sz="2400" spc="-1" strike="noStrike">
                <a:solidFill>
                  <a:srgbClr val="196313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196313"/>
                </a:solidFill>
                <a:latin typeface="Arial"/>
              </a:rPr>
              <a:t>看看它们具有什么共同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95280" y="83664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00+150x=2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                                  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2x-(1-0.52)x=8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x=24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ject 6" descr=""/>
          <p:cNvPicPr/>
          <p:nvPr/>
        </p:nvPicPr>
        <p:blipFill>
          <a:blip r:embed="rId1"/>
          <a:stretch/>
        </p:blipFill>
        <p:spPr>
          <a:xfrm>
            <a:off x="4302000" y="620640"/>
            <a:ext cx="1565280" cy="8510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0" y="2276640"/>
            <a:ext cx="93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上面各方程只含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个未知数（元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未知数的次数都是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次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这样的方程叫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元一次方程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0" y="3141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归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4000" y="4508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际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195640" y="422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设未知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492360" y="4221000"/>
            <a:ext cx="20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找等量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479560" y="42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列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1979640" y="4797360"/>
            <a:ext cx="4535640" cy="0"/>
          </a:xfrm>
          <a:prstGeom prst="line">
            <a:avLst/>
          </a:prstGeom>
          <a:ln w="76320">
            <a:solidFill>
              <a:srgbClr val="800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7306200" y="45086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元一次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0" y="544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析实际问题中的数量关系，利用其中的相等关系列出方程，是用数学解决实际问题的一种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334520" y="37162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</a:rPr>
              <a:t>上面分析的过程可以表示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7"/>
          <p:cNvGrpSpPr/>
          <p:nvPr/>
        </p:nvGrpSpPr>
        <p:grpSpPr>
          <a:xfrm>
            <a:off x="0" y="0"/>
            <a:ext cx="870120" cy="785160"/>
            <a:chOff x="0" y="0"/>
            <a:chExt cx="870120" cy="785160"/>
          </a:xfrm>
        </p:grpSpPr>
        <p:pic>
          <p:nvPicPr>
            <p:cNvPr id="88" name="Picture 5" descr="u=1200030713,1600658935&amp;fm=13&amp;gp=0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6"/>
            <p:cNvSpPr/>
            <p:nvPr/>
          </p:nvSpPr>
          <p:spPr>
            <a:xfrm>
              <a:off x="552240" y="142560"/>
              <a:ext cx="31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9999"/>
                  </a:solidFill>
                  <a:latin typeface="Arial"/>
                </a:rPr>
                <a:t>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9999"/>
                  </a:solidFill>
                  <a:latin typeface="Arial"/>
                </a:rPr>
                <a:t>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8"/>
          <p:cNvSpPr/>
          <p:nvPr/>
        </p:nvSpPr>
        <p:spPr>
          <a:xfrm>
            <a:off x="0" y="42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方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χ=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容易知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χ=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使等式成立， 对于方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700+150χ=2 4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你知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于什么时，等式成立？我们来试一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014840" y="1555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来填下面的表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26920" y="2276640"/>
          <a:ext cx="7759800" cy="1309680"/>
        </p:xfrm>
        <a:graphic>
          <a:graphicData uri="http://schemas.openxmlformats.org/drawingml/2006/table">
            <a:tbl>
              <a:tblPr/>
              <a:tblGrid>
                <a:gridCol w="1707120"/>
                <a:gridCol w="837360"/>
                <a:gridCol w="837000"/>
                <a:gridCol w="894240"/>
                <a:gridCol w="776880"/>
                <a:gridCol w="846720"/>
                <a:gridCol w="1060560"/>
                <a:gridCol w="569160"/>
                <a:gridCol w="231840"/>
              </a:tblGrid>
              <a:tr h="669960"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i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0+150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7920" rIns="97920" tIns="48960" bIns="48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79560"/>
                          <a:tab algn="l" pos="1959120"/>
                          <a:tab algn="l" pos="2938320"/>
                          <a:tab algn="l" pos="3917880"/>
                          <a:tab algn="l" pos="4897440"/>
                          <a:tab algn="l" pos="5877000"/>
                          <a:tab algn="l" pos="6856560"/>
                          <a:tab algn="l" pos="7835760"/>
                          <a:tab algn="l" pos="8815320"/>
                          <a:tab algn="l" pos="9794880"/>
                          <a:tab algn="l" pos="10774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7920" marR="979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4"/>
          <p:cNvSpPr/>
          <p:nvPr/>
        </p:nvSpPr>
        <p:spPr>
          <a:xfrm>
            <a:off x="255888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335088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428760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507960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587016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2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6879960" y="30686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3"/>
          <p:cNvSpPr/>
          <p:nvPr/>
        </p:nvSpPr>
        <p:spPr>
          <a:xfrm>
            <a:off x="0" y="3860640"/>
            <a:ext cx="914400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于是我们知道当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时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 700+150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值是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 45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方程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 700+150=2 45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中的未知数的值应是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4"/>
          <p:cNvSpPr/>
          <p:nvPr/>
        </p:nvSpPr>
        <p:spPr>
          <a:xfrm>
            <a:off x="250920" y="486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方程就是求出使方程中等号左右两边相等的未知数的值，这个值就是方程的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5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</a:rPr>
              <a:t>思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Χ=1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χ=2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哪一个是方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52χ 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0.5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χ=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解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975960" y="1027080"/>
            <a:ext cx="27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据下列问题，设未知数，列出方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0" y="141300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环形跑道一周长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00m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，沿跑道跑多少周，可以跑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3000m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甲种铅笔每枝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0.3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元，乙种铅笔每枝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0.6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元，用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9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元钱买了两种铅笔共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枝，两种铅笔各买了多少枝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一个梯形的下底比上底多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㎝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，高是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㎝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，面积是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0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㎝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，求上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用买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个大水杯的钱，可以买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15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个小水杯，大水杯比小水杯的单价多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元，两种水杯的单价各是多少元？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14"/>
          <p:cNvSpPr txBox="1"/>
          <p:nvPr/>
        </p:nvSpPr>
        <p:spPr>
          <a:xfrm>
            <a:off x="324000" y="189000"/>
            <a:ext cx="1944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课堂练习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721480" y="-160200"/>
            <a:ext cx="79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559440" y="352116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：设沿跑道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题意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x=3000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5077800" y="3592440"/>
            <a:ext cx="311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：设甲种铅笔买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支，则乙种铅笔买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-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支，由题意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x+0.6(20-x)=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80320" y="5032440"/>
            <a:ext cx="34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：设上底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cm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则下底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+2)c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题意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Object 19" descr=""/>
          <p:cNvPicPr/>
          <p:nvPr/>
        </p:nvPicPr>
        <p:blipFill>
          <a:blip r:embed="rId3"/>
          <a:stretch/>
        </p:blipFill>
        <p:spPr>
          <a:xfrm>
            <a:off x="826920" y="5805360"/>
            <a:ext cx="2232360" cy="690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0"/>
          <p:cNvSpPr/>
          <p:nvPr/>
        </p:nvSpPr>
        <p:spPr>
          <a:xfrm>
            <a:off x="5168520" y="4960800"/>
            <a:ext cx="308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：方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小水杯的单价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元，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水杯的单价是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+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题意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+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5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859280" y="589752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设大水杯的单价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元，则小水杯的单价是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题意，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x=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-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3132000" y="404640"/>
            <a:ext cx="2087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课堂小结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1484280"/>
            <a:ext cx="84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列方程时，要先设未知数（通常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字母表示未知数），然后根据问题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等关系，写出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含有未知数的等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50920" y="30495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含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个未知数（元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未知数的次数都是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次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这样的方程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元一次方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34800" y="4437000"/>
            <a:ext cx="841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方程就是求出使方程中等号左右两边相等的未知数的值，这个值就是方程的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pic0861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WordArt 3" descr=""/>
          <p:cNvPicPr/>
          <p:nvPr/>
        </p:nvPicPr>
        <p:blipFill>
          <a:blip r:embed="rId2"/>
          <a:stretch/>
        </p:blipFill>
        <p:spPr>
          <a:xfrm>
            <a:off x="1785960" y="2127240"/>
            <a:ext cx="5572080" cy="267336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1"/>
          <p:cNvSpPr/>
          <p:nvPr/>
        </p:nvSpPr>
        <p:spPr>
          <a:xfrm>
            <a:off x="3301920" y="3108240"/>
            <a:ext cx="254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8B31-BE7B-4387-88FD-ADD46F2E70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7:22:0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9:05Z</dcterms:modified>
  <cp:revision>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