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camera.wav" ContentType="audio/x-wav"/>
  <Override PartName="/ppt/media/image14.gif" ContentType="image/gif"/>
  <Override PartName="/ppt/media/image13.jpeg" ContentType="image/jpeg"/>
  <Override PartName="/ppt/media/image11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cashreg.wav" ContentType="audio/x-wav"/>
  <Override PartName="/ppt/media/image12.jpeg" ContentType="image/jpeg"/>
  <Override PartName="/ppt/media/image6.png" ContentType="image/png"/>
  <Override PartName="/ppt/media/image7.jpeg" ContentType="image/jpeg"/>
  <Override PartName="/ppt/media/wind.wav" ContentType="audio/x-wav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D752-E608-4DEE-B27E-D605B3341CC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FBE6-C62F-4B1B-B2F8-15A7D4D943EC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1A65-8D6B-4F60-AB8C-80A87A1D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7C07-CACD-4380-878C-A9556D8D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22AD9-B391-4328-8ABD-C69CD74F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61FC8-1573-45A0-AE62-86D15444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3A3FD-320D-4D61-A26D-EF3D04FB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40497-3AD5-4BEC-A3DF-20E09E10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24FA4-EAE1-460C-B8A1-D08CDED7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874DF-2765-4318-AC70-7B1E0B28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D026D-BCE7-436E-8DEB-145EF8B4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F7DDF-3E4D-4342-9EAC-E4E0A8EE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F7A10-F9ED-4A89-BFCF-3FC31C3C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60E6F-8A11-40FC-B95D-724D33FF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94A-E03C-4514-B011-47F01B40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E4FA5-7A1F-4B0F-B2D7-E0C3817B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0E1EA-D53C-43D1-A2EF-EE6CC552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FC7CE-DA9D-4B5A-887B-0204269E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59F26-8C68-40A4-A352-CD532F8D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AE08C-F3C0-4386-A360-13A8483F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C57B9-605E-4C45-A073-60914F42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94430-B167-4EF5-AD97-D195762E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AEB5E-3F42-49F7-A194-AE32EFDB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FAF99-C7DF-4CD7-B8CE-B697CDD3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5EADF-4D68-40D2-8DE5-77B4DD5C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AC7-E2E8-4A50-B29D-572E1038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4BC35-544E-4A30-974B-E3B25145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AD45D-E58A-4E41-8EF7-7DF0FF95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E10B3-26F6-4266-97E1-CD6E9B27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0F532-B1EA-48E9-BF10-0872AA06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0A167-2C8F-457B-91EF-DCA9F019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B1B27-08E8-418C-9A84-99140B44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2F610-9F43-4587-9DDF-250952B3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9AB9D-E7BF-4FC8-A0F4-18581648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4A140-673D-4C36-83B8-08A4F05B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8A05C-3116-4A4B-B289-5FF3F78C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4685-3FE3-4548-84ED-05D439C8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79234-BFA2-44AD-9A60-0A535836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A795A-CFFE-4F49-8899-F1A62526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3804D-C42E-447A-BE7B-4A8F02B2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37996-55EE-40CE-AA58-D5C7336B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0364D-D688-4312-879C-304CE347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2ABC3-7964-43DA-9D44-17ADEB29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C869F-6897-4875-AD6B-187DCF6B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A866C-7B6B-4E64-B651-F8F1DBD9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D5B6F-749E-4B68-A7C5-6EDA605B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A8E53-71EE-438F-A48F-85A4A552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38D3-AABB-42DA-903D-1CA0D23F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9BF1A-C3A0-4B3A-8A67-F528772B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5CE23-5C8C-4B71-9EED-E94CE5E0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6EBA0-7555-46EA-B658-CCA93979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C83B2-EC2E-47FE-ABA6-50A08458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12A90-268F-4A43-8B33-6FDE9704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237E0-DF69-41E9-8CBA-D3A8FF93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773D3-9F88-4DFB-8F30-96E52082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61AF9-BF54-40A5-89C6-ACBC823B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B10BF4-4349-4FAA-A047-14B8CF84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7BDE9-942E-4986-A611-A2E4E1A1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4222-522E-489C-8C95-A8794F27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0AC4C-48CD-439A-A1C4-22971669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82AEE5-A019-4929-B7CF-E7117538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52AA8-DDE0-4C59-BAE6-C9E8AB7F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478E8-E9A5-416B-8C7F-A46A2E0A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B54A16-3E8D-49EA-8581-BF2CFFF6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0F253-003B-4309-A600-7468641A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734C1-D4F7-4518-90A1-F3E1C737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84DCF7-35F6-468A-8752-D311AAAA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DAD08-580A-4F49-8694-60DBEE16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A49F3C-A78E-4FE8-95BE-68ACCB7A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9423-6964-4551-A807-35213551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89F5FF-D9FE-4D1A-90EA-C751F804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3CDB05-3E78-4DF3-BA9B-CEEE125E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AB39CB-0E4B-4EBB-84C4-21BEB6C2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DA3975-C89B-4626-BF04-16DDD8C0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6115EC-D0F4-4898-8F49-2F862977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C9040A-B74D-465E-907F-A08F6049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9BF93-42F1-4C6B-9A64-7BDF912E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5D52C8-C887-4A41-84E8-6ED3EA8C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8769E4-8CFD-4F70-981D-FDC05281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C3DD9B-4DCA-4121-AF5E-7299EB79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5C9F-159F-49A3-AA16-0230881A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68655D-B08C-40DC-BB47-84ECCD6A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D474FC-044E-43A4-B51C-388DE781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B8C5DC-B269-4EDE-B32F-6A6B2FD5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EA78B-7734-4BA3-9DCA-3F749B4B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760B9F-810F-4B29-A1E8-55F98579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5FE994-5095-45E8-911B-770F40AD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6CA775-4056-4729-9BDC-782117F9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7681B0-651E-4BE7-BE3E-8BA27654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FE53D4-5A35-42D1-9C5B-61E80DB9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0EC7B1-7188-4FFD-A8B0-1C24741D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F7D1-3F47-4E25-AD47-DB542551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436FC2-0662-4E9C-B1E2-A12A9683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70E2C1-6C70-42F3-B637-ADF7634F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805375-A6F7-4F0F-A9E9-9D6CF11C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C7B67F-70DB-4F93-9A6E-CE2A8468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9ECF73-E8B8-4A7F-AD61-CAD3EC3A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AC479F-1F4D-4437-8713-D03D2F81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D60B53-4419-4348-9B7F-CC667832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27786A-5F02-4B99-AED9-DF05F20E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3503ED-0E2F-4F89-871B-221B0C2B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9209F-571F-4E96-B10B-C64ED7A6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ECCF-974A-43B8-9465-DCACB99A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D9BB6A-1D62-49F7-865A-5AAA5472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2C74F9-329E-4D6E-BF69-929CA1CC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427EE8-F32F-49C4-BFAE-CD46DC84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235CAB-2393-4CA6-803D-0B33B88D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7B89D2-14D2-4198-AC6C-336AB3CA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1CE2AF-216A-4095-A13A-67126B53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BD390D-018C-42BC-89C7-61621702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FB3A69-48FA-4AB1-A0B9-3DE97A5E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A255F5-64FF-4B2C-8016-D03D55EB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AF56A2-06B2-445E-BD36-1251F0CC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B2F-8716-44B3-B247-9231739B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0D80-33D9-4EF4-A612-D6DFA7E8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7F48B-5AAA-4813-BA79-169A5B7D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41C074-8BFD-4541-82D3-9ADCC424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DFBFBA-9C84-4690-9D5F-9E0CB14D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561B74-58A9-4B7A-93C1-0EADCF6D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37B9AD-2A0D-48B6-8795-297ABC68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77A846-D552-4B32-A0F3-18937CB0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3AC15D-0E5B-444D-985D-85493EC9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E13227-1E55-4404-A4BC-883920B5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8FF551-80A2-4853-B323-CD96C1B1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9095CF-77E5-4474-9CE7-8AC44182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47D4-63EE-40DB-A1E4-506CBD8F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C41D3D-54FF-4327-9969-5DA85AAE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61B58F-25DD-40F0-A5CF-985A3F89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8BFE1C-A7F8-4790-8071-C50D293A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C21AD0-D8C7-4579-9442-533FAC0A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2416BC-0E79-470E-A1AF-F359F36C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E09A6E-AF64-4E35-9656-56F952CF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2EABBF-CFB1-47AB-8103-86F5DD34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C845D1-6222-4794-AB97-9CDDABE7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CEED96-AF52-4BAB-9132-C29318AE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52287C-1EAA-4E3D-9AE5-FBDCC9A6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426E-7C09-48EA-807E-BD7D3088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158163-2F67-40E3-B263-1DAEAE47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612B0C-E047-486B-B11B-13EAF60E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6C5677-8BA2-4485-99A9-1C66460D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8D8163-E04D-4CAD-A15C-491B7FBD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278763-A5C5-41AE-A1BD-974169FF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1FA0E5-CF68-4545-AD0B-25A3635A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A79005-9220-40F7-A77C-DB224DCE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D8E524-876F-402B-A6CC-0EDEEFBA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8C5D94-80BD-44A5-BBC4-3DA97B73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5A4C0C-A92F-4FC9-94AB-2E9BA8A6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26A9-15DB-49EB-A56F-A52B383E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9143D9-E12B-45AA-AAD1-CEF6AA5C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6151F8-F55C-4AA0-8742-469D8159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BE1114-2700-4D8C-BAC3-635824DA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028986-F492-46DA-A666-92164414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DF21C7-C675-4331-8606-63705EC7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C36970-7C27-4C91-901E-20B6D003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6738C1-5E97-48C4-AA42-19F069CF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0B6AAC-1914-447F-B68B-F6A7631D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D1399B-3179-4412-AF50-3D936563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0AC936-245C-4122-ACCA-CC6B1155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52C2-32AE-4A14-80C6-51FE698D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4B8D7B-82B9-416F-BD1C-FC1C1CDA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2177E3-2B4A-4682-B083-E67E9F37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F25360-E5C6-40DA-A7EA-75E939AF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6AA586-AD82-4F91-98B5-D1D7BCD5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03E87D-E878-4E1B-AA2F-3FA0424F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C1C937-C7E9-4BF1-9934-E4A25BFD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332DB3-036A-4C1D-8231-5D49B7E1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948C3F-A105-41C1-9E27-FA35BCDE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C18C9C-62E9-49F5-95EF-66128135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A6FF12-8B91-4ABB-B77C-220E97A9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BE96B-B4C6-4953-BA44-0DF6904F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DCB964-97A5-4BBF-A7AA-EFF8EFDC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8EFF85-5E22-4E13-8884-D126AD14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CA7569-3286-4F98-A073-32892A19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2257BF-5474-48BF-965E-5B23B2B9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B8F531-9240-49B7-89B2-B17B59CB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878D88-0780-46A0-967E-944B427E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06E946-78D2-410C-8A8F-27BE7065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EADD00-73DE-4228-AFE0-78687BF9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74ABD2-F579-455E-8808-6724D575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D25026-D961-4EC8-ADE2-F3676385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6C26B-2F5B-453C-AD95-2CCB5D16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4D75D9-728D-43E5-B666-3CB2FBDE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64C250-68A0-4F5D-9C8B-B7D63480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396F5E-8849-4698-A5CD-E373189B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ACAF02-AD80-4A06-9F2A-27957F24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BA6DD1-8689-45C0-BF99-178F5E60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C8724B-9073-4A47-A6D4-57D64E35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43133F-A647-4577-B7FC-28950676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A58CDD-F78F-4C86-BDDB-1D6C296D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C2C24C-D1F1-4DAD-B3A5-A9C13B34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19A5D5-B4C3-46DA-899F-023DBF4C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5D27D-1284-4F37-9576-5ACA793E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B1886D-658C-48BD-9965-8B14749C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8B196D-222E-41F9-97BE-1DCEBF50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1E6C70-E2FC-4F6F-84A9-037C4E4B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831B92-17B4-46FB-BDF0-9EEED9FD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709F8A-F775-444D-A8C1-060F6D0E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2E5AA5-5443-444B-A880-A18875CB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673E87-ADEA-4DAE-8C00-98AC3ECE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DA642C-0F5F-4A8F-9454-9125A5B1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80DED4-9110-4CC4-B318-06DE79D7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F3E580-3F5A-4F0F-AECB-B648D011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1960E-6652-4040-8E83-901F5D9E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D3219A-DBBB-4B2F-A692-04073DA1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9D7C66-0538-4A1A-92AD-727592D6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3B5FFB-1AB2-46D6-8EC2-54E04AA0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11DAE7-0DA2-42FE-B9F9-499F0D7C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100B8A-54D4-4168-B66B-2BB5EEC8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22E8E4-5A3A-4307-84E3-14BC5CEE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8F2985-9DFB-4F25-ADFD-B6066632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9D9AFB-9B4F-49E7-AA98-EB3E02B1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08EB6D-9037-4D89-84B8-6FC321F6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868F7-E55D-4CE2-9513-0FB5DCA5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9F4-61B7-48E0-81F9-B09E782B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F0682-32A5-4204-B099-D3927856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6E1AE-62E0-4EFD-9642-CAEE246B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EE5D7-DD9F-47BB-95D2-F063F1F6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9CC7C-B5F4-4699-86AB-78D93A55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55752-52CB-4612-A577-57A23451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E2609-CC2E-4C5C-B0FD-A550B91D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AA618-16CB-4E97-AAE1-B6F3B2E5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A5620-1529-4050-B5C6-39AB5469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CF328-0BF9-4663-9BD4-387C1E9A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EF6E5-7360-423F-8797-48339C2F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542-866D-4ADF-ADE2-CC9772D4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BD4AD-D28B-4BE0-975E-8BB430C0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77987-041D-497E-BD9C-54B1C29F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428F7-6FEA-4923-A63F-F11C9A5E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56C2B-89BA-467C-871A-D86F76F1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855EE-8A3A-4358-BF21-F7A8C6A3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CA321-AB1C-4AA1-A0E3-5C4FC962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50647-5520-4A69-97DD-7E0F9015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1DC64-99FD-40BE-887E-552A3667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2CF1D-C046-4078-A735-7E0903FD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C3616-FAF7-4697-84D7-9465103D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1AE-F2AA-4F8B-BA97-2E1255D5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9E629-1C21-4D96-AF45-29FEEAB8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F0E05-9B90-4F41-88D4-420B5AB3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02818-ABBC-432E-AF57-655D57E2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03D6E-1B3F-4FCD-815A-08F5A526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8EB6A-3E58-4446-849B-168CEF81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A363D-CD92-4104-9506-EDA4FD8E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E58A2-8E8A-49A2-9DE1-0988D631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D152E-2135-4655-A2DE-CD719D5D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0FEFB-2ECE-4EFD-8C60-31D96D10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81A66-4C60-401C-8BE3-0BA77206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91F-55E9-48FF-9110-3FDA7D46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81991-EAF7-416D-961C-44EED12B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EF187-9385-4304-9D7C-55975997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24272-94BA-413E-940C-24FC89C7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85699-605B-4588-8E7C-E9261714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7A6BF-F4AE-4B33-8F1A-7082E6CE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3DED3-2BE0-4888-906E-63AEF427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D3510-56F5-4378-81CB-D2F85988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36216-3144-4B1C-A1E5-2C4CF3E4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8C52C-5B94-42E8-A864-2AE7F080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DB552-E8F0-4CB6-B7D6-7B2B1027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917-EC1C-4D67-89BA-9B44292A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D47FF-F6DD-4E89-B191-429C70CE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458BC-3FE5-4081-8058-97686611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78FE2-0FBE-4246-BFA3-19B40707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FBA4F-28D2-4FBE-A2D7-7505F11E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4066A-96EE-48AC-84AF-267B8EB1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2D9BC-1A57-4260-B051-2FABBC44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50885-FCA8-45D8-A527-F43845D8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1DD0A-BADB-4D78-83C0-B584DB7B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9C8EC-177E-4150-BD53-E30E5C05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E9495-EA7D-41B9-A1D2-AD31CE54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F53-B385-4FF5-93C7-96EA3092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D8E29-336E-4D75-BD37-B9278EE3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B5646-B3FF-4ADF-BE68-52EA3A22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F0D5F-8B5D-4F0B-95B5-CDD49DF0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06083-EC70-4215-A2FB-0B38D401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D3FEF-6EC9-44FA-B85B-828EC150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6E033-ECC6-4F08-8B71-75C48559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B3BEB-507E-4178-B10A-E24D6FBD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E3FF2-FBAE-4808-BDE2-441C197B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118D0-6597-4D86-99DF-FCFB8B7D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1922C-C6C1-4243-ADB3-00C7B4DB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232A-977F-41E1-A75A-637E3823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AA7D1-B745-4BBF-BCAA-CFCBDDCE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68767-739B-40F1-BCA7-EA7384B4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8746F-8519-449C-A42D-46520EDF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C9A7B-8082-4BB1-961B-29AC9C12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756CE-E732-4BDB-8562-66CE41A7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2CDB2-1D1B-42DB-BE5A-B7E1CF8E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7992D-B0A3-4262-9011-75DF0EB3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84AA9-E035-40A3-A65A-93B53C72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70AFA-1C79-406B-9C7B-1C34C233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11D95-36A6-40BB-B04D-280CFE82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E88B-D235-4C6D-BFE0-98066ACBF11E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1972-1C6E-4CBF-A76B-58D2D27F403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452F-58F7-4309-B814-56E1972363D0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F171-BC75-4A29-AE16-CCF42D1AF59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394F-290B-4599-BEA5-AEA077B9F37C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E070-861D-4F53-BB6B-723CF9DF2D0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A9C3-F6B2-4DF7-86CD-DA54161465DA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D3D5-B261-425C-80F7-60CE1692BD3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8D0E-46B1-4805-8425-F18DECB24616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C353-38C8-47E4-9A30-7EE6CFE75A3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94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8"/>
            <p:cNvSpPr/>
            <p:nvPr/>
          </p:nvSpPr>
          <p:spPr>
            <a:xfrm>
              <a:off x="5141160" y="1036080"/>
              <a:ext cx="109152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9"/>
            <p:cNvSpPr/>
            <p:nvPr/>
          </p:nvSpPr>
          <p:spPr>
            <a:xfrm>
              <a:off x="6385680" y="2482920"/>
              <a:ext cx="794160" cy="82908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5"/>
            <p:cNvSpPr/>
            <p:nvPr/>
          </p:nvSpPr>
          <p:spPr>
            <a:xfrm>
              <a:off x="7986960" y="2661840"/>
              <a:ext cx="93888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808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54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dt" idx="4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3B9E-C2BB-4919-8B6F-B1AF35BD066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 type="ftr" idx="4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5ABF-EC84-4FD4-9BDC-A89A3BD646A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 type="dt" idx="4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B9D0-AAAB-4A1F-ACC1-1BBACE016C7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 type="ftr" idx="4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 type="sldNum" idx="4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D68C-5C4E-4A04-BE80-100BFC8C649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dt" idx="46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4807-A9ED-49A4-AFEF-E1BA3BC939B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 type="ftr" idx="47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 type="sldNum" idx="48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355D-51F1-440A-95BD-99860B8A371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49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1D97-0D13-4CC0-B77F-52D52AACAC4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50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51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CD75-9973-4C7B-AD90-2E830231ED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 type="dt" idx="52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F9CE-3F78-42AA-907B-30CDBF38CD9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 type="ftr" idx="53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 type="sldNum" idx="54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A101-D7E0-4B7A-B67D-7C8BAC40A0F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dt" idx="55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445C-74D3-4143-8C41-3BC198C2237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 type="ftr" idx="56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 type="sldNum" idx="57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B887-6119-4FE3-BDD3-ED8F3A0D93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94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208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222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236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50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64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8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80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AEEE-D1AE-4F0D-B3B5-ECB981DB09D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8F9E-D959-499D-B860-E260248F48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dt" idx="58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7C4F-7562-4BC8-968B-50D9B74EC59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59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 type="sldNum" idx="60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EC1B-54F5-42F9-816D-F6E9803627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 type="dt" idx="6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CFCC-826B-4D23-9A07-A5332D7E9F0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 type="ftr" idx="6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 type="sldNum" idx="6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1C05-EB98-43D8-891F-0F096A4C85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 type="dt" idx="6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376F-307D-4922-9801-1D59460B720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 type="ftr" idx="6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 type="sldNum" idx="6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0EE5-6A4E-4139-BE87-37B4B6C0E3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dt" idx="6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5996-7361-4C13-9C7E-33D67A1D6E2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ftr" idx="6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sldNum" idx="6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745E-E457-4F52-8D51-E9C8A9B9E1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dt" idx="70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6FBE-E972-4F91-B375-A09F015803D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 type="ftr" idx="71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 type="sldNum" idx="72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FD8E-B00A-4865-8B17-B569997237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3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7CE8-52E7-482C-9C02-2A79A0AE2ABB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8F7F-6C0D-4EFD-9402-0AB55611DB5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7E07-E516-40A4-A0C0-4DC718282679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CD87-B2E0-4CCB-9CD6-67EDF45D7FD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A286-C369-4A10-A151-F3D2BE8FBA16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AEFB-A6DC-4CF4-AAAC-8AF3299EB0A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E48C-EAD0-4F78-8201-2BD574406E67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517D-E29B-4689-B2EB-DBE1AECBC88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F2A8-5C8F-4CD9-82AB-959E8B168F92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B81C-82DF-4E2A-9B7E-39229857972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09D6-B664-4824-B381-0A98E5552696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4586-2ED5-4287-A258-7A8A36A9F5A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C5A1-921C-4A58-A4BD-49351A20ABBA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C9F9-8892-48B4-9392-5A982FEFBF3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cashreg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5" name=""/>
          <p:cNvGraphicFramePr/>
          <p:nvPr/>
        </p:nvGraphicFramePr>
        <p:xfrm>
          <a:off x="428760" y="428760"/>
          <a:ext cx="5929200" cy="63792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637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6  Meet my family!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6" name="Rectangle 6"/>
          <p:cNvSpPr/>
          <p:nvPr/>
        </p:nvSpPr>
        <p:spPr>
          <a:xfrm>
            <a:off x="2583000" y="2133720"/>
            <a:ext cx="388764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宋体"/>
              </a:rPr>
              <a:t>第五课时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矩形 8"/>
          <p:cNvSpPr/>
          <p:nvPr/>
        </p:nvSpPr>
        <p:spPr>
          <a:xfrm>
            <a:off x="2163960" y="6093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3" descr="白雪公主"/>
          <p:cNvPicPr/>
          <p:nvPr/>
        </p:nvPicPr>
        <p:blipFill>
          <a:blip r:embed="rId2"/>
          <a:stretch/>
        </p:blipFill>
        <p:spPr>
          <a:xfrm>
            <a:off x="6435720" y="3352680"/>
            <a:ext cx="2708280" cy="3097440"/>
          </a:xfrm>
          <a:prstGeom prst="rect">
            <a:avLst/>
          </a:prstGeom>
          <a:ln w="0">
            <a:noFill/>
          </a:ln>
        </p:spPr>
      </p:pic>
      <p:sp>
        <p:nvSpPr>
          <p:cNvPr id="1469" name="Rectangle 4"/>
          <p:cNvSpPr/>
          <p:nvPr/>
        </p:nvSpPr>
        <p:spPr>
          <a:xfrm>
            <a:off x="1143000" y="838080"/>
            <a:ext cx="7162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0" name="WordArt 7" descr=""/>
          <p:cNvPicPr/>
          <p:nvPr/>
        </p:nvPicPr>
        <p:blipFill>
          <a:blip r:embed="rId3"/>
          <a:stretch/>
        </p:blipFill>
        <p:spPr>
          <a:xfrm>
            <a:off x="2133720" y="1251000"/>
            <a:ext cx="4913280" cy="2917800"/>
          </a:xfrm>
          <a:prstGeom prst="rect">
            <a:avLst/>
          </a:prstGeom>
          <a:ln w="0">
            <a:noFill/>
          </a:ln>
        </p:spPr>
      </p:pic>
      <p:sp>
        <p:nvSpPr>
          <p:cNvPr id="1471" name="页脚占位符 5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" dur="2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1D94-6709-4060-8F45-BB7F2B81DE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Text Box 3"/>
          <p:cNvSpPr/>
          <p:nvPr/>
        </p:nvSpPr>
        <p:spPr>
          <a:xfrm>
            <a:off x="5143680" y="2349360"/>
            <a:ext cx="367632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5500" spc="-1" strike="noStrike">
                <a:solidFill>
                  <a:srgbClr val="ff0000"/>
                </a:solidFill>
                <a:latin typeface="Arial"/>
              </a:rPr>
              <a:t>as</a:t>
            </a: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5500" spc="-1" strike="noStrike">
                <a:solidFill>
                  <a:srgbClr val="ff0000"/>
                </a:solidFill>
                <a:latin typeface="Arial"/>
              </a:rPr>
              <a:t>et</a:t>
            </a: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ball  player</a:t>
            </a:r>
            <a:endParaRPr b="1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9" name="Picture 4" descr="C:\Users\Administrator\AppData\Roaming\Tencent\Users\22453923\QQ\WinTemp\RichOle\DK438~IKY@M02M1{_W~1248.jpg"/>
          <p:cNvPicPr/>
          <p:nvPr/>
        </p:nvPicPr>
        <p:blipFill>
          <a:blip r:embed="rId1"/>
          <a:stretch/>
        </p:blipFill>
        <p:spPr>
          <a:xfrm>
            <a:off x="1071720" y="1428840"/>
            <a:ext cx="27493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Picture 3" descr="Act like a driver"/>
          <p:cNvPicPr/>
          <p:nvPr/>
        </p:nvPicPr>
        <p:blipFill>
          <a:blip r:embed="rId1"/>
          <a:srcRect l="0" t="16170" r="11121" b="0"/>
          <a:stretch/>
        </p:blipFill>
        <p:spPr>
          <a:xfrm>
            <a:off x="3071880" y="571680"/>
            <a:ext cx="2228760" cy="2435040"/>
          </a:xfrm>
          <a:prstGeom prst="rect">
            <a:avLst/>
          </a:prstGeom>
          <a:ln w="0">
            <a:noFill/>
          </a:ln>
        </p:spPr>
      </p:pic>
      <p:pic>
        <p:nvPicPr>
          <p:cNvPr id="1431" name="Picture 4" descr="Act like a doctor"/>
          <p:cNvPicPr/>
          <p:nvPr/>
        </p:nvPicPr>
        <p:blipFill>
          <a:blip r:embed="rId2"/>
          <a:srcRect l="17877" t="15975" r="17877" b="0"/>
          <a:stretch/>
        </p:blipFill>
        <p:spPr>
          <a:xfrm>
            <a:off x="5940360" y="549360"/>
            <a:ext cx="2449440" cy="2448000"/>
          </a:xfrm>
          <a:prstGeom prst="rect">
            <a:avLst/>
          </a:prstGeom>
          <a:ln w="0">
            <a:noFill/>
          </a:ln>
        </p:spPr>
      </p:pic>
      <p:pic>
        <p:nvPicPr>
          <p:cNvPr id="1432" name="Picture 5" descr=""/>
          <p:cNvPicPr/>
          <p:nvPr/>
        </p:nvPicPr>
        <p:blipFill>
          <a:blip r:embed="rId3"/>
          <a:srcRect l="16751" t="4530" r="12688" b="11831"/>
          <a:stretch/>
        </p:blipFill>
        <p:spPr>
          <a:xfrm>
            <a:off x="933480" y="3357720"/>
            <a:ext cx="2630520" cy="2673360"/>
          </a:xfrm>
          <a:prstGeom prst="rect">
            <a:avLst/>
          </a:prstGeom>
          <a:ln w="0">
            <a:noFill/>
          </a:ln>
        </p:spPr>
      </p:pic>
      <p:pic>
        <p:nvPicPr>
          <p:cNvPr id="1433" name="Picture 6" descr=""/>
          <p:cNvPicPr/>
          <p:nvPr/>
        </p:nvPicPr>
        <p:blipFill>
          <a:blip r:embed="rId4"/>
          <a:srcRect l="7813" t="4057" r="12462" b="12323"/>
          <a:stretch/>
        </p:blipFill>
        <p:spPr>
          <a:xfrm>
            <a:off x="4643280" y="3459240"/>
            <a:ext cx="2521080" cy="249084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7" descr="C:\Users\Administrator\AppData\Roaming\Tencent\Users\22453923\QQ\WinTemp\RichOle\DK438~IKY@M02M1{_W~1248.jpg"/>
          <p:cNvPicPr/>
          <p:nvPr/>
        </p:nvPicPr>
        <p:blipFill>
          <a:blip r:embed="rId5"/>
          <a:stretch/>
        </p:blipFill>
        <p:spPr>
          <a:xfrm>
            <a:off x="1143000" y="785880"/>
            <a:ext cx="1751040" cy="2109600"/>
          </a:xfrm>
          <a:prstGeom prst="rect">
            <a:avLst/>
          </a:prstGeom>
          <a:ln w="0">
            <a:noFill/>
          </a:ln>
        </p:spPr>
      </p:pic>
      <p:sp>
        <p:nvSpPr>
          <p:cNvPr id="1435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Picture 2" descr="10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326280"/>
          </a:xfrm>
          <a:prstGeom prst="rect">
            <a:avLst/>
          </a:prstGeom>
          <a:ln w="0">
            <a:noFill/>
          </a:ln>
        </p:spPr>
      </p:pic>
      <p:sp>
        <p:nvSpPr>
          <p:cNvPr id="1437" name="Text Box 3"/>
          <p:cNvSpPr/>
          <p:nvPr/>
        </p:nvSpPr>
        <p:spPr>
          <a:xfrm>
            <a:off x="228600" y="0"/>
            <a:ext cx="20574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et’s do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8" name="Picture 4" descr="C:\Users\Administrator\AppData\Roaming\Tencent\Users\22453923\QQ\WinTemp\RichOle\DK438~IKY@M02M1{_W~1248.jpg"/>
          <p:cNvPicPr/>
          <p:nvPr/>
        </p:nvPicPr>
        <p:blipFill>
          <a:blip r:embed="rId2"/>
          <a:stretch/>
        </p:blipFill>
        <p:spPr>
          <a:xfrm>
            <a:off x="6429240" y="3500280"/>
            <a:ext cx="2143440" cy="26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9" name=""/>
          <p:cNvGraphicFramePr/>
          <p:nvPr/>
        </p:nvGraphicFramePr>
        <p:xfrm>
          <a:off x="6858000" y="6072120"/>
          <a:ext cx="2286000" cy="37152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basketball play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f4ff"/>
                    </a:solidFill>
                  </a:tcPr>
                </a:tc>
              </a:tr>
            </a:tbl>
          </a:graphicData>
        </a:graphic>
      </p:graphicFrame>
      <p:sp>
        <p:nvSpPr>
          <p:cNvPr id="1440" name="页脚占位符 5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Picture 4" descr="5"/>
          <p:cNvPicPr/>
          <p:nvPr/>
        </p:nvPicPr>
        <p:blipFill>
          <a:blip r:embed="rId1"/>
          <a:srcRect l="0" t="0" r="0" b="2806"/>
          <a:stretch/>
        </p:blipFill>
        <p:spPr>
          <a:xfrm>
            <a:off x="0" y="141300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1442" name="Text Box 5"/>
          <p:cNvSpPr/>
          <p:nvPr/>
        </p:nvSpPr>
        <p:spPr>
          <a:xfrm>
            <a:off x="34920" y="11916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Read and writ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页脚占位符 3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Picture 4" descr="6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472360"/>
          </a:xfrm>
          <a:prstGeom prst="rect">
            <a:avLst/>
          </a:prstGeom>
          <a:ln w="0">
            <a:noFill/>
          </a:ln>
        </p:spPr>
      </p:pic>
      <p:sp>
        <p:nvSpPr>
          <p:cNvPr id="1445" name="Text Box 5"/>
          <p:cNvSpPr/>
          <p:nvPr/>
        </p:nvSpPr>
        <p:spPr>
          <a:xfrm>
            <a:off x="34920" y="11916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Write and sa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页脚占位符 3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Rectangle 4"/>
          <p:cNvSpPr/>
          <p:nvPr/>
        </p:nvSpPr>
        <p:spPr>
          <a:xfrm>
            <a:off x="0" y="-573840"/>
            <a:ext cx="939636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填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y father is a ________. He teaches Engli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My aunt is a ____________. She helps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帮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octor in the hospita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An apple a day keeps the _________ aw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My brother likes basketball 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is a _______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 My uncle is a __________.He likes ca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 My grandpa works a farm. He is a 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Text Box 7"/>
          <p:cNvSpPr/>
          <p:nvPr/>
        </p:nvSpPr>
        <p:spPr>
          <a:xfrm>
            <a:off x="3276720" y="333360"/>
            <a:ext cx="151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8"/>
          <p:cNvSpPr/>
          <p:nvPr/>
        </p:nvSpPr>
        <p:spPr>
          <a:xfrm>
            <a:off x="-1065240" y="51246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9"/>
          <p:cNvSpPr/>
          <p:nvPr/>
        </p:nvSpPr>
        <p:spPr>
          <a:xfrm>
            <a:off x="5651640" y="278136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o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10"/>
          <p:cNvSpPr/>
          <p:nvPr/>
        </p:nvSpPr>
        <p:spPr>
          <a:xfrm>
            <a:off x="3420360" y="333360"/>
            <a:ext cx="16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ach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11"/>
          <p:cNvSpPr/>
          <p:nvPr/>
        </p:nvSpPr>
        <p:spPr>
          <a:xfrm>
            <a:off x="3419640" y="1197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ur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Text Box 12"/>
          <p:cNvSpPr/>
          <p:nvPr/>
        </p:nvSpPr>
        <p:spPr>
          <a:xfrm>
            <a:off x="2268360" y="4221000"/>
            <a:ext cx="39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ketball play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Text Box 13"/>
          <p:cNvSpPr/>
          <p:nvPr/>
        </p:nvSpPr>
        <p:spPr>
          <a:xfrm>
            <a:off x="3348000" y="5157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ri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14"/>
          <p:cNvSpPr/>
          <p:nvPr/>
        </p:nvSpPr>
        <p:spPr>
          <a:xfrm>
            <a:off x="6948360" y="6093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arm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页脚占位符 10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Picture 3" descr="20060317234634c03a7"/>
          <p:cNvPicPr/>
          <p:nvPr/>
        </p:nvPicPr>
        <p:blipFill>
          <a:blip r:embed="rId1"/>
          <a:stretch/>
        </p:blipFill>
        <p:spPr>
          <a:xfrm>
            <a:off x="900000" y="1125360"/>
            <a:ext cx="3971880" cy="2791080"/>
          </a:xfrm>
          <a:prstGeom prst="rect">
            <a:avLst/>
          </a:prstGeom>
          <a:ln w="0">
            <a:noFill/>
          </a:ln>
        </p:spPr>
      </p:pic>
      <p:sp>
        <p:nvSpPr>
          <p:cNvPr id="1458" name="Text Box 4"/>
          <p:cNvSpPr/>
          <p:nvPr/>
        </p:nvSpPr>
        <p:spPr>
          <a:xfrm>
            <a:off x="0" y="260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football   play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Picture 5" descr="Img246401832"/>
          <p:cNvPicPr/>
          <p:nvPr/>
        </p:nvPicPr>
        <p:blipFill>
          <a:blip r:embed="rId2"/>
          <a:stretch/>
        </p:blipFill>
        <p:spPr>
          <a:xfrm>
            <a:off x="5580000" y="836640"/>
            <a:ext cx="2743200" cy="3733920"/>
          </a:xfrm>
          <a:prstGeom prst="rect">
            <a:avLst/>
          </a:prstGeom>
          <a:ln w="0">
            <a:noFill/>
          </a:ln>
        </p:spPr>
      </p:pic>
      <p:sp>
        <p:nvSpPr>
          <p:cNvPr id="1460" name="Text Box 6"/>
          <p:cNvSpPr/>
          <p:nvPr/>
        </p:nvSpPr>
        <p:spPr>
          <a:xfrm>
            <a:off x="3708360" y="47242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basketball   play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页脚占位符 5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3"/>
          <p:cNvSpPr/>
          <p:nvPr/>
        </p:nvSpPr>
        <p:spPr>
          <a:xfrm>
            <a:off x="28584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Picture 4" descr="图文-美职棒洋基VS魔鬼鱼球被击出的一瞬间"/>
          <p:cNvPicPr/>
          <p:nvPr/>
        </p:nvPicPr>
        <p:blipFill>
          <a:blip r:embed="rId1"/>
          <a:stretch/>
        </p:blipFill>
        <p:spPr>
          <a:xfrm>
            <a:off x="1600200" y="1393920"/>
            <a:ext cx="5791320" cy="3711600"/>
          </a:xfrm>
          <a:prstGeom prst="rect">
            <a:avLst/>
          </a:prstGeom>
          <a:ln w="0">
            <a:noFill/>
          </a:ln>
        </p:spPr>
      </p:pic>
      <p:sp>
        <p:nvSpPr>
          <p:cNvPr id="1464" name="Text Box 5"/>
          <p:cNvSpPr/>
          <p:nvPr/>
        </p:nvSpPr>
        <p:spPr>
          <a:xfrm>
            <a:off x="2362320" y="730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baseball    play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页脚占位符 4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文本框 1"/>
          <p:cNvSpPr/>
          <p:nvPr/>
        </p:nvSpPr>
        <p:spPr>
          <a:xfrm>
            <a:off x="733320" y="5376960"/>
            <a:ext cx="66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6:49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7:48Z</dcterms:modified>
  <cp:revision>17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