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rbrake.wav" ContentType="audio/x-wav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C11-7228-4E4D-9037-B3F3B74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8A8-3E95-4E7F-A791-9BE3FAE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05C-C351-4711-9701-7E0F995F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423-D4EC-40EF-A842-AF50BA66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D24-01D6-4B0B-870B-7A4B17C4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2C80-5B97-462C-A4D8-D4F1C8D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2B65-C435-4389-9643-CB17F1C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5253-C377-40F0-BAA6-F30B507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D7E-2B78-405F-9C75-1508E886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258-DF23-4332-81CB-015E246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C34-447C-4915-8DF2-4D2EF67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ABB-9373-4D1B-A1C8-F5ED0C73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D2FE-AD25-4D51-84F6-BF0C4DC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2D1-11FE-42CB-96EB-8C5FEF8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8E0-E6E1-4861-A65E-67FAD4F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D34-1043-4561-9A15-EE212CF0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4CDB-B4D4-49BF-95F3-BC98AC83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A0EB-3906-4BB7-91C2-DFF060CD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F97D-C473-4B52-9216-63B4010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2E8E-AAF3-4F9A-98BC-493A3C3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CEAA-5CFB-4AF8-AC2B-EF2AA3EB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C11F-7D44-46B1-88DC-24DE8CEF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D49-B74C-47B2-BC45-E05E966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4A98-9684-4A36-9E5D-6D9453B9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04BA-68C3-42FC-8D81-9D9834A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23EF-196A-4594-A893-E006096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A2DC-EFE9-4725-B9A5-853283F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2D83-0252-46BC-9FF8-901F1786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6367-9360-480D-ACF6-181C773B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A14C-A8A7-4345-9234-75C6DF6A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61B-AD00-4433-9802-24CACAE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F4D-1B77-4631-B732-3F8A4B3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F73-8728-43DD-9EE1-98E5CB8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2DC-4C27-4C83-8155-A204C2AE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AF8-19D9-4D99-BE38-31B0C32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FBC-3ED6-4914-89D7-09A63A0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073"/>
          <p:cNvGrpSpPr/>
          <p:nvPr/>
        </p:nvGrpSpPr>
        <p:grpSpPr>
          <a:xfrm>
            <a:off x="0" y="-4680"/>
            <a:ext cx="1063440" cy="6858000"/>
            <a:chOff x="0" y="-4680"/>
            <a:chExt cx="1063440" cy="6858000"/>
          </a:xfrm>
        </p:grpSpPr>
        <p:grpSp>
          <p:nvGrpSpPr>
            <p:cNvPr id="1" name="组合 3074"/>
            <p:cNvGrpSpPr/>
            <p:nvPr/>
          </p:nvGrpSpPr>
          <p:grpSpPr>
            <a:xfrm>
              <a:off x="41040" y="-4680"/>
              <a:ext cx="1014120" cy="6857640"/>
              <a:chOff x="41040" y="-4680"/>
              <a:chExt cx="1014120" cy="6857640"/>
            </a:xfrm>
          </p:grpSpPr>
          <p:sp>
            <p:nvSpPr>
              <p:cNvPr id="2" name="任意多边形 3075"/>
              <p:cNvSpPr/>
              <p:nvPr/>
            </p:nvSpPr>
            <p:spPr>
              <a:xfrm flipH="1">
                <a:off x="50040" y="-4680"/>
                <a:ext cx="9932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任意多边形 3076"/>
              <p:cNvSpPr/>
              <p:nvPr/>
            </p:nvSpPr>
            <p:spPr>
              <a:xfrm flipH="1">
                <a:off x="48960" y="169200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任意多边形 3077"/>
              <p:cNvSpPr/>
              <p:nvPr/>
            </p:nvSpPr>
            <p:spPr>
              <a:xfrm flipH="1">
                <a:off x="50400" y="12873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任意多边形 3078"/>
              <p:cNvSpPr/>
              <p:nvPr/>
            </p:nvSpPr>
            <p:spPr>
              <a:xfrm flipH="1">
                <a:off x="48960" y="14940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任意多边形 3079"/>
              <p:cNvSpPr/>
              <p:nvPr/>
            </p:nvSpPr>
            <p:spPr>
              <a:xfrm flipH="1">
                <a:off x="50400" y="98496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任意多边形 3080"/>
              <p:cNvSpPr/>
              <p:nvPr/>
            </p:nvSpPr>
            <p:spPr>
              <a:xfrm flipH="1">
                <a:off x="50400" y="680400"/>
                <a:ext cx="9932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任意多边形 3081"/>
              <p:cNvSpPr/>
              <p:nvPr/>
            </p:nvSpPr>
            <p:spPr>
              <a:xfrm flipH="1">
                <a:off x="49320" y="370440"/>
                <a:ext cx="100584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任意多边形 3082"/>
              <p:cNvSpPr/>
              <p:nvPr/>
            </p:nvSpPr>
            <p:spPr>
              <a:xfrm flipH="1">
                <a:off x="40680" y="3938400"/>
                <a:ext cx="993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任意多边形 3083"/>
              <p:cNvSpPr/>
              <p:nvPr/>
            </p:nvSpPr>
            <p:spPr>
              <a:xfrm flipH="1">
                <a:off x="42120" y="35337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任意多边形 3084"/>
              <p:cNvSpPr/>
              <p:nvPr/>
            </p:nvSpPr>
            <p:spPr>
              <a:xfrm flipH="1">
                <a:off x="41040" y="2394360"/>
                <a:ext cx="9932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任意多边形 3085"/>
              <p:cNvSpPr/>
              <p:nvPr/>
            </p:nvSpPr>
            <p:spPr>
              <a:xfrm flipH="1">
                <a:off x="42120" y="323028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任意多边形 3086"/>
              <p:cNvSpPr/>
              <p:nvPr/>
            </p:nvSpPr>
            <p:spPr>
              <a:xfrm flipH="1">
                <a:off x="40680" y="29253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任意多边形 3087"/>
              <p:cNvSpPr/>
              <p:nvPr/>
            </p:nvSpPr>
            <p:spPr>
              <a:xfrm flipH="1">
                <a:off x="42840" y="2617560"/>
                <a:ext cx="1005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任意多边形 3088"/>
              <p:cNvSpPr/>
              <p:nvPr/>
            </p:nvSpPr>
            <p:spPr>
              <a:xfrm flipH="1">
                <a:off x="48600" y="496908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任意多边形 3089"/>
              <p:cNvSpPr/>
              <p:nvPr/>
            </p:nvSpPr>
            <p:spPr>
              <a:xfrm flipH="1">
                <a:off x="50040" y="456444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任意多边形 3090"/>
              <p:cNvSpPr/>
              <p:nvPr/>
            </p:nvSpPr>
            <p:spPr>
              <a:xfrm flipH="1">
                <a:off x="40680" y="567144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任意多边形 3091"/>
              <p:cNvSpPr/>
              <p:nvPr/>
            </p:nvSpPr>
            <p:spPr>
              <a:xfrm flipH="1" rot="16200000">
                <a:off x="365400" y="6182640"/>
                <a:ext cx="345960" cy="994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任意多边形 3092"/>
              <p:cNvSpPr/>
              <p:nvPr/>
            </p:nvSpPr>
            <p:spPr>
              <a:xfrm flipH="1">
                <a:off x="40680" y="62031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任意多边形 3093"/>
              <p:cNvSpPr/>
              <p:nvPr/>
            </p:nvSpPr>
            <p:spPr>
              <a:xfrm flipH="1">
                <a:off x="42840" y="5895000"/>
                <a:ext cx="100584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任意多边形 3094"/>
            <p:cNvSpPr/>
            <p:nvPr/>
          </p:nvSpPr>
          <p:spPr>
            <a:xfrm flipH="1" rot="16200000">
              <a:off x="-3101040" y="3096720"/>
              <a:ext cx="6858000" cy="655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3095"/>
            <p:cNvSpPr/>
            <p:nvPr/>
          </p:nvSpPr>
          <p:spPr>
            <a:xfrm flipH="1" rot="16200000">
              <a:off x="-25146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A53-CDCA-43D9-9850-2E0BC9D13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DF4-55DE-43E9-AC39-FF9DB87FE2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4D9-AE6E-47CD-B0F5-FE9B002CF7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4097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106" name="组合 4098"/>
            <p:cNvGrpSpPr/>
            <p:nvPr/>
          </p:nvGrpSpPr>
          <p:grpSpPr>
            <a:xfrm>
              <a:off x="-360" y="2479320"/>
              <a:ext cx="9147240" cy="1012680"/>
              <a:chOff x="-360" y="2479320"/>
              <a:chExt cx="9147240" cy="1012680"/>
            </a:xfrm>
          </p:grpSpPr>
          <p:sp>
            <p:nvSpPr>
              <p:cNvPr id="107" name="任意多边形 4099"/>
              <p:cNvSpPr/>
              <p:nvPr/>
            </p:nvSpPr>
            <p:spPr>
              <a:xfrm flipH="1" rot="5400000">
                <a:off x="4090680" y="-157536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任意多边形 4100"/>
              <p:cNvSpPr/>
              <p:nvPr/>
            </p:nvSpPr>
            <p:spPr>
              <a:xfrm flipH="1" rot="5400000">
                <a:off x="605412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任意多边形 4101"/>
              <p:cNvSpPr/>
              <p:nvPr/>
            </p:nvSpPr>
            <p:spPr>
              <a:xfrm flipH="1" rot="5400000">
                <a:off x="659304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任意多边形 4102"/>
              <p:cNvSpPr/>
              <p:nvPr/>
            </p:nvSpPr>
            <p:spPr>
              <a:xfrm flipH="1" rot="5400000">
                <a:off x="824328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任意多边形 4103"/>
              <p:cNvSpPr/>
              <p:nvPr/>
            </p:nvSpPr>
            <p:spPr>
              <a:xfrm flipH="1" rot="5400000">
                <a:off x="7098120" y="275112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任意多边形 4104"/>
              <p:cNvSpPr/>
              <p:nvPr/>
            </p:nvSpPr>
            <p:spPr>
              <a:xfrm flipH="1" rot="5400000">
                <a:off x="7450560" y="269712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任意多边形 4105"/>
              <p:cNvSpPr/>
              <p:nvPr/>
            </p:nvSpPr>
            <p:spPr>
              <a:xfrm flipH="1" rot="5400000">
                <a:off x="789408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任意多边形 4106"/>
              <p:cNvSpPr/>
              <p:nvPr/>
            </p:nvSpPr>
            <p:spPr>
              <a:xfrm flipH="1" rot="5400000">
                <a:off x="305712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任意多边形 4107"/>
              <p:cNvSpPr/>
              <p:nvPr/>
            </p:nvSpPr>
            <p:spPr>
              <a:xfrm flipH="1" rot="5400000">
                <a:off x="3596040" y="264168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任意多边形 4108"/>
              <p:cNvSpPr/>
              <p:nvPr/>
            </p:nvSpPr>
            <p:spPr>
              <a:xfrm flipH="1" rot="5400000">
                <a:off x="524952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4109"/>
              <p:cNvSpPr/>
              <p:nvPr/>
            </p:nvSpPr>
            <p:spPr>
              <a:xfrm flipH="1" rot="5400000">
                <a:off x="4102560" y="274320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4110"/>
              <p:cNvSpPr/>
              <p:nvPr/>
            </p:nvSpPr>
            <p:spPr>
              <a:xfrm flipH="1" rot="5400000">
                <a:off x="445572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4111"/>
              <p:cNvSpPr/>
              <p:nvPr/>
            </p:nvSpPr>
            <p:spPr>
              <a:xfrm flipH="1" rot="5400000">
                <a:off x="4896000" y="273240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4112"/>
              <p:cNvSpPr/>
              <p:nvPr/>
            </p:nvSpPr>
            <p:spPr>
              <a:xfrm flipH="1" rot="5400000">
                <a:off x="168228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4113"/>
              <p:cNvSpPr/>
              <p:nvPr/>
            </p:nvSpPr>
            <p:spPr>
              <a:xfrm flipH="1" rot="5400000">
                <a:off x="222120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4114"/>
              <p:cNvSpPr/>
              <p:nvPr/>
            </p:nvSpPr>
            <p:spPr>
              <a:xfrm flipH="1" rot="5400000">
                <a:off x="87732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4115"/>
              <p:cNvSpPr/>
              <p:nvPr/>
            </p:nvSpPr>
            <p:spPr>
              <a:xfrm flipH="1">
                <a:off x="-720" y="247968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任意多边形 4116"/>
              <p:cNvSpPr/>
              <p:nvPr/>
            </p:nvSpPr>
            <p:spPr>
              <a:xfrm flipH="1" rot="5400000">
                <a:off x="838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任意多边形 4117"/>
              <p:cNvSpPr/>
              <p:nvPr/>
            </p:nvSpPr>
            <p:spPr>
              <a:xfrm flipH="1" rot="5400000">
                <a:off x="524160" y="273240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任意多边形 4118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4119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7C35-6495-45CD-B254-33E3B0FEF4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049"/>
          <p:cNvSpPr/>
          <p:nvPr/>
        </p:nvSpPr>
        <p:spPr>
          <a:xfrm>
            <a:off x="1219320" y="17524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2051"/>
          <p:cNvSpPr txBox="1"/>
          <p:nvPr/>
        </p:nvSpPr>
        <p:spPr>
          <a:xfrm>
            <a:off x="1752480" y="31240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面试技巧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2590920"/>
            <a:ext cx="7620120" cy="360"/>
            <a:chOff x="1143000" y="2590920"/>
            <a:chExt cx="7620120" cy="360"/>
          </a:xfrm>
        </p:grpSpPr>
        <p:sp>
          <p:nvSpPr>
            <p:cNvPr id="172" name="直接连接符 2052"/>
            <p:cNvSpPr/>
            <p:nvPr/>
          </p:nvSpPr>
          <p:spPr>
            <a:xfrm>
              <a:off x="1143000" y="2590920"/>
              <a:ext cx="76201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143000" y="259092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5640" y="1341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幼圆"/>
              </a:rPr>
              <a:t>开始面试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6" name="对象 43011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200400"/>
          </a:xfrm>
          <a:prstGeom prst="rect">
            <a:avLst/>
          </a:prstGeom>
          <a:ln w="0">
            <a:noFill/>
          </a:ln>
        </p:spPr>
      </p:pic>
      <p:sp>
        <p:nvSpPr>
          <p:cNvPr id="217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宋体"/>
              </a:rPr>
              <a:t>结束面试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0" name="对象 45059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2880" y="685800"/>
            <a:ext cx="758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隶书"/>
              </a:rPr>
              <a:t>演练，远比真正的上舞台重要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幼圆"/>
              </a:rPr>
              <a:t>培养从容的表演风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十字星 47111"/>
          <p:cNvSpPr/>
          <p:nvPr/>
        </p:nvSpPr>
        <p:spPr>
          <a:xfrm>
            <a:off x="0" y="3657600"/>
            <a:ext cx="1295280" cy="289548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1193040 h 2895480"/>
              <a:gd name="textAreaBottom" fmla="*/ 17024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十字星 47112"/>
          <p:cNvSpPr/>
          <p:nvPr/>
        </p:nvSpPr>
        <p:spPr>
          <a:xfrm>
            <a:off x="6934320" y="5257800"/>
            <a:ext cx="685800" cy="1600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659160 h 1600200"/>
              <a:gd name="textAreaBottom" fmla="*/ 9410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十字星 47113"/>
          <p:cNvSpPr/>
          <p:nvPr/>
        </p:nvSpPr>
        <p:spPr>
          <a:xfrm>
            <a:off x="5105520" y="1752480"/>
            <a:ext cx="2133360" cy="2667240"/>
          </a:xfrm>
          <a:custGeom>
            <a:avLst/>
            <a:gdLst>
              <a:gd name="textAreaLeft" fmla="*/ 879120 w 2133360"/>
              <a:gd name="textAreaRight" fmla="*/ 1254240 w 2133360"/>
              <a:gd name="textAreaTop" fmla="*/ 1099080 h 2667240"/>
              <a:gd name="textAreaBottom" fmla="*/ 15681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十字星 47114"/>
          <p:cNvSpPr/>
          <p:nvPr/>
        </p:nvSpPr>
        <p:spPr>
          <a:xfrm>
            <a:off x="1981080" y="609480"/>
            <a:ext cx="381240" cy="1295640"/>
          </a:xfrm>
          <a:custGeom>
            <a:avLst/>
            <a:gdLst>
              <a:gd name="textAreaLeft" fmla="*/ 156960 w 381240"/>
              <a:gd name="textAreaRight" fmla="*/ 224280 w 38124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不                                               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不同的观众有着不同的喜好</a:t>
            </a:r>
            <a:br>
              <a:rPr sz="54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请准备千奇百怪的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对象 51203" descr=""/>
          <p:cNvPicPr/>
          <p:nvPr/>
        </p:nvPicPr>
        <p:blipFill>
          <a:blip r:embed="rId1"/>
          <a:stretch/>
        </p:blipFill>
        <p:spPr>
          <a:xfrm>
            <a:off x="0" y="380880"/>
            <a:ext cx="4876920" cy="3124440"/>
          </a:xfrm>
          <a:prstGeom prst="rect">
            <a:avLst/>
          </a:prstGeom>
          <a:ln w="0">
            <a:noFill/>
          </a:ln>
        </p:spPr>
      </p:pic>
      <p:sp>
        <p:nvSpPr>
          <p:cNvPr id="232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4513"/>
          <p:cNvSpPr txBox="1"/>
          <p:nvPr/>
        </p:nvSpPr>
        <p:spPr>
          <a:xfrm>
            <a:off x="1371600" y="83808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99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祝你成功！</a:t>
            </a:r>
            <a:endParaRPr b="1" lang="en-US" sz="6000" spc="1" strike="noStrike">
              <a:ln w="19080">
                <a:solidFill>
                  <a:srgbClr val="ff99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7" name="对象 6451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6324480" cy="3352680"/>
          </a:xfrm>
          <a:prstGeom prst="rect">
            <a:avLst/>
          </a:prstGeom>
          <a:ln w="0">
            <a:noFill/>
          </a:ln>
        </p:spPr>
      </p:pic>
      <p:sp>
        <p:nvSpPr>
          <p:cNvPr id="238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对象 8193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746748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8194"/>
          <p:cNvSpPr/>
          <p:nvPr/>
        </p:nvSpPr>
        <p:spPr>
          <a:xfrm>
            <a:off x="182880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个圆你联想到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8120" y="1219320"/>
            <a:ext cx="6095880" cy="360"/>
            <a:chOff x="3048120" y="1219320"/>
            <a:chExt cx="6095880" cy="360"/>
          </a:xfrm>
        </p:grpSpPr>
        <p:sp>
          <p:nvSpPr>
            <p:cNvPr id="178" name="直接连接符 8195"/>
            <p:cNvSpPr/>
            <p:nvPr/>
          </p:nvSpPr>
          <p:spPr>
            <a:xfrm>
              <a:off x="3048120" y="1219320"/>
              <a:ext cx="6095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048120" y="1219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文本框 8196"/>
          <p:cNvSpPr/>
          <p:nvPr/>
        </p:nvSpPr>
        <p:spPr>
          <a:xfrm>
            <a:off x="3429000" y="380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面试有规律可循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隶书"/>
              </a:rPr>
              <a:t>面试的两大基本原则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自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企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对象 11267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133720" cy="525780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筛选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挑选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混合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4339"/>
          <p:cNvSpPr txBox="1"/>
          <p:nvPr/>
        </p:nvSpPr>
        <p:spPr>
          <a:xfrm rot="5400000">
            <a:off x="5295600" y="2476440"/>
            <a:ext cx="541008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隶书"/>
              </a:rPr>
              <a:t>面试类型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隶书"/>
              <a:ea typeface="隶书"/>
            </a:endParaRPr>
          </a:p>
        </p:txBody>
      </p:sp>
      <p:sp>
        <p:nvSpPr>
          <p:cNvPr id="189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02360" y="456840"/>
            <a:ext cx="194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66"/>
                </a:solidFill>
                <a:latin typeface="Times New Roman"/>
                <a:ea typeface="汉鼎繁琥珀"/>
              </a:rPr>
              <a:t>面试形式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5676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对一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组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串联式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不同类型的面试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称职而作好充分准备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却消极冷淡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经验不足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过训练，但能力不强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准备不足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却心不在焉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隶书"/>
              </a:rPr>
              <a:t>为另一种舞台表演形式而打扮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矩形 31747"/>
          <p:cNvSpPr txBox="1"/>
          <p:nvPr/>
        </p:nvSpPr>
        <p:spPr>
          <a:xfrm>
            <a:off x="1447920" y="4038480"/>
            <a:ext cx="6095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00008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修饰你的外表！</a:t>
            </a:r>
            <a:endParaRPr b="0" lang="en-US" sz="3200" spc="1" strike="noStrike">
              <a:ln w="19080">
                <a:solidFill>
                  <a:srgbClr val="00008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矩形 36867"/>
          <p:cNvSpPr txBox="1"/>
          <p:nvPr/>
        </p:nvSpPr>
        <p:spPr>
          <a:xfrm>
            <a:off x="1600200" y="1981080"/>
            <a:ext cx="68580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latin typeface="黑体"/>
              </a:rPr>
              <a:t>出色表演的诀窍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latin typeface="黑体"/>
              <a:ea typeface="黑体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5105520"/>
            <a:ext cx="6629400" cy="360"/>
            <a:chOff x="1676520" y="5105520"/>
            <a:chExt cx="6629400" cy="360"/>
          </a:xfrm>
        </p:grpSpPr>
        <p:sp>
          <p:nvSpPr>
            <p:cNvPr id="204" name="直接连接符 36868"/>
            <p:cNvSpPr/>
            <p:nvPr/>
          </p:nvSpPr>
          <p:spPr>
            <a:xfrm>
              <a:off x="1676520" y="5105520"/>
              <a:ext cx="66294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676520" y="510552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76520" y="5486400"/>
            <a:ext cx="6629400" cy="360"/>
            <a:chOff x="1676520" y="5486400"/>
            <a:chExt cx="6629400" cy="360"/>
          </a:xfrm>
        </p:grpSpPr>
        <p:sp>
          <p:nvSpPr>
            <p:cNvPr id="207" name="直接连接符 36869"/>
            <p:cNvSpPr/>
            <p:nvPr/>
          </p:nvSpPr>
          <p:spPr>
            <a:xfrm>
              <a:off x="1676520" y="5486400"/>
              <a:ext cx="66294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676520" y="54864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幼圆"/>
              </a:rPr>
              <a:t>面试的前一天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2" name="对象 41987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124080"/>
          </a:xfrm>
          <a:prstGeom prst="rect">
            <a:avLst/>
          </a:prstGeom>
          <a:ln w="0">
            <a:noFill/>
          </a:ln>
        </p:spPr>
      </p:pic>
      <p:sp>
        <p:nvSpPr>
          <p:cNvPr id="213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37Z</dcterms:created>
  <dc:creator/>
  <dc:description/>
  <cp:keywords>面试 技巧</cp:keywords>
  <dc:language>en-US</dc:language>
  <cp:lastModifiedBy>An</cp:lastModifiedBy>
  <dcterms:modified xsi:type="dcterms:W3CDTF">2016-05-01T01:05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