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D5B7-CAF4-46EC-9DD1-080421BA2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5D62-8AAD-439C-83E2-0B9592CF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B38F-44B7-442E-945D-8D0A2B08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D573-E44D-45F7-BD04-15E1A253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1DF3-3139-4D26-AD39-07C1F113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9022-DD99-4357-9CC8-8B9A9A05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B02C-A51C-4ECA-9A89-86719F82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61E6-A36F-41F3-A67B-B796ADF5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0679-A17E-45BD-A1B8-1F94883C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EE58-0297-4C60-8F1E-B21EA8E8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DBA6-2981-45CD-8F2B-0FA1D5BF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5291-D8E3-4DAF-95A1-C399DCAE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65EF-797A-4AE5-813D-A856858A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BC3C-8429-4E76-BD89-14AF2481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1A21-783A-4B51-8641-C958B79C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648E-4663-4598-B45C-CA8E4D02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68DC-28AB-4B77-9707-BA6433957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D193-C81A-4840-8CD6-AC815926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F462-33BD-4E5A-B2E1-4F0A5DF3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23D4-5733-478B-A7AE-350E9F29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1F26-845C-43E3-A8DC-BE96C617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5579-EF6B-466D-B99D-E01E2458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D1D3-211D-48FD-82D6-9FDD37E8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63AE-1B25-453A-A62C-018FE298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A8FF-0273-42BC-BDC3-4D78FCC6B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C468-59D7-4904-97ED-80C8A8A38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561960" y="907920"/>
            <a:ext cx="822960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Unit2 My days of the week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（第一课时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day_of_the_week.mp3" descr=""/>
          <p:cNvPicPr/>
          <p:nvPr/>
        </p:nvPicPr>
        <p:blipFill>
          <a:blip r:embed="rId1"/>
          <a:stretch/>
        </p:blipFill>
        <p:spPr>
          <a:xfrm>
            <a:off x="7596360" y="5518080"/>
            <a:ext cx="736560" cy="863640"/>
          </a:xfrm>
          <a:prstGeom prst="rect">
            <a:avLst/>
          </a:prstGeom>
          <a:ln w="0">
            <a:noFill/>
          </a:ln>
        </p:spPr>
      </p:pic>
      <p:sp>
        <p:nvSpPr>
          <p:cNvPr id="84" name="矩形 7"/>
          <p:cNvSpPr/>
          <p:nvPr/>
        </p:nvSpPr>
        <p:spPr>
          <a:xfrm>
            <a:off x="1645200" y="574668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106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j0295241"/>
          <p:cNvPicPr/>
          <p:nvPr/>
        </p:nvPicPr>
        <p:blipFill>
          <a:blip r:embed="rId2"/>
          <a:stretch/>
        </p:blipFill>
        <p:spPr>
          <a:xfrm>
            <a:off x="7667640" y="5013360"/>
            <a:ext cx="6764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A9B1-17B2-44B7-81B7-577CB48665B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我们都有哪些课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hinese(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语文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　　　　　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nglish(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英语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th(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数学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　　　　　　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usic(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音乐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mputer(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电脑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　　　　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rt(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美术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cience(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科学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　　　　　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.E.(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体育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oral Education(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思想品德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ocial Studies(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社会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8"/>
          <p:cNvSpPr/>
          <p:nvPr/>
        </p:nvSpPr>
        <p:spPr>
          <a:xfrm>
            <a:off x="857160" y="2160720"/>
            <a:ext cx="660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da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187280" y="4005360"/>
            <a:ext cx="716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ff"/>
                </a:solidFill>
                <a:latin typeface="Arial"/>
                <a:ea typeface="楷体_GB2312"/>
              </a:rPr>
              <a:t>星期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979640" y="2276640"/>
            <a:ext cx="55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Mon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未命名1"/>
          <p:cNvPicPr/>
          <p:nvPr/>
        </p:nvPicPr>
        <p:blipFill>
          <a:blip r:embed="rId1"/>
          <a:stretch/>
        </p:blipFill>
        <p:spPr>
          <a:xfrm>
            <a:off x="0" y="1844640"/>
            <a:ext cx="2637000" cy="316692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1"/>
          <p:cNvSpPr/>
          <p:nvPr/>
        </p:nvSpPr>
        <p:spPr>
          <a:xfrm>
            <a:off x="695160" y="6008760"/>
            <a:ext cx="60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Tues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da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187280" y="4005360"/>
            <a:ext cx="716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ff"/>
                </a:solidFill>
                <a:latin typeface="Arial"/>
                <a:ea typeface="楷体_GB2312"/>
              </a:rPr>
              <a:t>星期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979640" y="2276640"/>
            <a:ext cx="55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Tue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未命名1"/>
          <p:cNvPicPr/>
          <p:nvPr/>
        </p:nvPicPr>
        <p:blipFill>
          <a:blip r:embed="rId1"/>
          <a:stretch/>
        </p:blipFill>
        <p:spPr>
          <a:xfrm>
            <a:off x="652320" y="1989000"/>
            <a:ext cx="21574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Wednes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da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1187280" y="4005360"/>
            <a:ext cx="716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ff"/>
                </a:solidFill>
                <a:latin typeface="Arial"/>
                <a:ea typeface="楷体_GB2312"/>
              </a:rPr>
              <a:t>星期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979640" y="2276640"/>
            <a:ext cx="55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Wed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未命名1"/>
          <p:cNvPicPr/>
          <p:nvPr/>
        </p:nvPicPr>
        <p:blipFill>
          <a:blip r:embed="rId1"/>
          <a:stretch/>
        </p:blipFill>
        <p:spPr>
          <a:xfrm>
            <a:off x="652320" y="1989000"/>
            <a:ext cx="21574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Thurs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da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187280" y="4005360"/>
            <a:ext cx="716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ff"/>
                </a:solidFill>
                <a:latin typeface="Arial"/>
                <a:ea typeface="楷体_GB2312"/>
              </a:rPr>
              <a:t>星期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979640" y="2276640"/>
            <a:ext cx="55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Thu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未命名1"/>
          <p:cNvPicPr/>
          <p:nvPr/>
        </p:nvPicPr>
        <p:blipFill>
          <a:blip r:embed="rId1"/>
          <a:stretch/>
        </p:blipFill>
        <p:spPr>
          <a:xfrm>
            <a:off x="652320" y="1989000"/>
            <a:ext cx="21574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Fri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da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187280" y="4005360"/>
            <a:ext cx="716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ff"/>
                </a:solidFill>
                <a:latin typeface="Arial"/>
                <a:ea typeface="楷体_GB2312"/>
              </a:rPr>
              <a:t>星期五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979640" y="2276640"/>
            <a:ext cx="55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Fri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未命名1"/>
          <p:cNvPicPr/>
          <p:nvPr/>
        </p:nvPicPr>
        <p:blipFill>
          <a:blip r:embed="rId1"/>
          <a:stretch/>
        </p:blipFill>
        <p:spPr>
          <a:xfrm>
            <a:off x="652320" y="1989000"/>
            <a:ext cx="21574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eekd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1844640"/>
            <a:ext cx="9144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完全形式）　（缩写）　　（中文意思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ay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　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.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星期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ues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ay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ue.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星期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dnes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ay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d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　   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星期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urs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ay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u.               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星期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i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ay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i.                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星期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07:01:0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8:59Z</dcterms:modified>
  <cp:revision>1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