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331D-F20E-47AD-AE7E-59CDA87651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C44-71B3-49C9-8A54-5B6646B10C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6AA-A8DA-43A1-95D4-2C36655F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61E-0BF8-420C-AA3B-8AE85A74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8F1-7F70-4F43-BD10-E5B67BD7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02A-7F4E-44B9-A19D-067CC8AD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419-C4CE-4180-93FA-E78E77AA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2F7-9915-458B-9028-1EE258D5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7FF-D07F-4B8A-8FCE-B0C5BFE0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631-1D15-49EA-A188-5A305039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128-D689-4C85-AAB6-7FC3003B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7E8-2210-43A9-BD02-8A405A0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6C1-2DAC-45AB-A328-40C1B4E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B51-8F52-4FD7-9FE4-D108B37F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267D-CCCB-4FD4-AF2C-44738D5C6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3  My fri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2819520" y="2438280"/>
            <a:ext cx="3700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第三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489760" y="60199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00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and repeat “Let’s talk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ut the “Let’s talk” with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1612800" y="5195880"/>
            <a:ext cx="591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FA87-6B63-4741-AFD6-51DC760B70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isten and answ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365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my student. He’s a good, good boy. He’s tall and thin. He’s a good ,good b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99880" y="6400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69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troduce your family </a:t>
            </a:r>
            <a:br>
              <a:rPr sz="44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学生四人一组讨论自己带来的照片：介绍照片里的人是谁，用学过的句型描述人物特点。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教师选取学生进行汇报，引出词汇：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fat, thin, beautiful, tall, stro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3716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et’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 boy. He is my stu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friendly. He is tall and th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752480" y="685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pl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2133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/She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/She h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/Her sho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/Her bag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s/he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0666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翻译句子，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name is Zhang P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s tall and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s glasses and his shoes are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ad and dra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18288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have a friend. He is a boy. He has a big face, a small nose, a big mouth and small eyes. He has short hair. He is tall and strong. His name is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下列每组单词排列成正确的句子，只写序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①friend  ②a  ③I  ④have ⑤good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①tall  ②strong  ③He  ④is ⑤and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①His ② is ③ name  ④Zhang Peng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选出不同类的单词，并将选项写在前面括号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 1. A.tall   B. strong  C. thin  D.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 2. A.he    B.she       C. it      D.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 3. A.glasses    B.shoes  C. bag  D.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 4. A.his            B.her      C.your   D.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7:44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9:37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