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3C99-2EC2-4706-B303-0D66539694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1324-FAC7-4B86-8B05-2D334E03FDC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3CE-FB7A-4DFC-9147-71E81B15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379-96F2-4ACE-AF60-13BA77DD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197-26FD-4315-A338-7B351101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6ED-0AD6-4323-9FF4-CCC54C04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02DC-98AC-4CE6-BA10-A4DF07D5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3EE2-5B9F-4D75-B80F-F89BA9A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884A-2618-47FB-9042-0370BC64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187B-B0E3-40F0-A47B-4FA0C329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3A19-0620-4AA1-840F-7963D7B0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81E6-57C2-4141-B518-DCA99E2C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0E2C-A6E4-41D1-9DC9-3BEE8423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2B7-A0E4-4F06-B1CD-9FDE0722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D7AA-00BB-4399-B98E-54044A63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90DA-1EA9-4338-AD4D-759918CF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9E4F-16FC-4FED-92E6-D8D712EB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6FB4-3FB7-4D0F-9209-C9075CFB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C091-0EA7-42E3-AD98-E28161E7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42D-39F6-4529-A07F-6EE48B0E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C15-8A0B-47DE-ACDA-AEA468AC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793-2DE9-4329-92DB-69D2AB70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74F-30CA-4141-A1FE-E8CE7D3C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755-FCE7-4523-8CE7-F32DE252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519-8DA2-4C13-919E-17A66A2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F63-233E-4B19-9806-1E8DE4A2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DED9-D348-4AC6-B81C-400BEB622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878B-F5AE-45C4-A636-1F0EA8193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2"/>
          <a:stretch/>
        </p:blipFill>
        <p:spPr>
          <a:xfrm>
            <a:off x="1652760" y="2646360"/>
            <a:ext cx="5473440" cy="3484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1530360" y="1052640"/>
            <a:ext cx="56833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能量与太阳</a:t>
            </a:r>
            <a:endParaRPr b="1" lang="en-US" sz="2800" spc="-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2070360" y="6237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3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简洁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DDAF-B00C-4D27-BFF1-0333F81754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870200" y="836640"/>
            <a:ext cx="5248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在我们使用的能量中，哪些是重要的能源？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676520" y="32227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煤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459240" y="322272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石油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818320" y="3222720"/>
            <a:ext cx="132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天然气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562040" y="549360"/>
            <a:ext cx="1514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能量与太阳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57040" y="2409840"/>
            <a:ext cx="81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黑体"/>
              </a:rPr>
              <a:t>问题一：这些能源是怎么形成的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  <a:ea typeface="黑体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482200" y="3573360"/>
            <a:ext cx="363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黑体"/>
              </a:rPr>
              <a:t>问题二：这些能源与太阳的关系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  <a:ea typeface="黑体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014560" y="47116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黑体"/>
              </a:rPr>
              <a:t>问题三：能源枯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828800" y="549360"/>
            <a:ext cx="2314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煤带给我们的信息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6" descr="1749929930211409411"/>
          <p:cNvPicPr/>
          <p:nvPr/>
        </p:nvPicPr>
        <p:blipFill>
          <a:blip r:embed="rId2"/>
          <a:stretch/>
        </p:blipFill>
        <p:spPr>
          <a:xfrm>
            <a:off x="611280" y="1700280"/>
            <a:ext cx="3006720" cy="2255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5623200" y="1838160"/>
            <a:ext cx="49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Verdana"/>
                <a:ea typeface="黑体"/>
              </a:rPr>
              <a:t>信息一：煤块上有植物的痕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471920" y="2492280"/>
            <a:ext cx="246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Verdana"/>
                <a:ea typeface="黑体"/>
              </a:rPr>
              <a:t>信息二：煤大多夹在岩石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932800" y="3141720"/>
            <a:ext cx="49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Verdana"/>
                <a:ea typeface="黑体"/>
              </a:rPr>
              <a:t>信息三：煤埋藏在地下是一层层的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540160" y="4941720"/>
            <a:ext cx="444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Verdana"/>
                <a:ea typeface="黑体"/>
              </a:rPr>
              <a:t>煤是怎么形成的？由什么东西形成？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726080" y="3860640"/>
            <a:ext cx="32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Verdana"/>
                <a:ea typeface="黑体"/>
              </a:rPr>
              <a:t>信息四：亿万年前，地球上植物茂盛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015720" y="549360"/>
            <a:ext cx="384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石油、天然气的形成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68360" y="2757960"/>
            <a:ext cx="80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关于石油的成因，目前大多数人主张有机生成说。古代低等动植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其中以繁殖量最大的浮游生物为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，同泥沙一起在低洼的浅海、海湾或湖泊中沉积下来，首先形成有机淤泥。这种有机淤泥被新的沉积物所覆盖，造成与空气隔绝的环境。随着低洼地区泥沙的不断沉降，沉积物不断加厚，有机淤泥承受的压力和温度也不断加大，在嫌气细菌、温度、压力等因素的作用下。逐渐变成分散的油滴，这些油滴在压力作用下逐渐移到多孔隙的储油岩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沙岩和砾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中，并聚集在一定的地质构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如穹隆构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之中，这就形成了油田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4581360"/>
          <a:ext cx="7704000" cy="111744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然气是储存于地下多孔岩石或石油中的可燃气体，它的成因与石油的成因相似。由于它比石油轻，所以常位于石油的上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090520" y="549360"/>
            <a:ext cx="418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煤、石油、天然气的能量来自哪里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676520" y="52387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煤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179960" y="522936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石油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323040" y="5229360"/>
            <a:ext cx="132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天然气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8" descr="tianqi2_0178"/>
          <p:cNvPicPr/>
          <p:nvPr/>
        </p:nvPicPr>
        <p:blipFill>
          <a:blip r:embed="rId2"/>
          <a:stretch/>
        </p:blipFill>
        <p:spPr>
          <a:xfrm>
            <a:off x="3780000" y="1197000"/>
            <a:ext cx="1214280" cy="1206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3946680" y="3429000"/>
            <a:ext cx="132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动植物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4427640" y="24922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2123640" y="4221000"/>
            <a:ext cx="1871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457200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5724360" y="4221000"/>
            <a:ext cx="1152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646280" y="620640"/>
            <a:ext cx="284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存储了亿万年的太阳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38560" y="1844640"/>
            <a:ext cx="26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Verdana"/>
                <a:ea typeface="黑体"/>
              </a:rPr>
              <a:t>还有哪些能量与太阳能有关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803240" y="322272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风能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603600" y="321300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水能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602320" y="3222720"/>
            <a:ext cx="132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生物能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425680" y="4581360"/>
            <a:ext cx="475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大多数能量最终来自于太阳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523800" y="17002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煤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50880" y="292428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石油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6680" y="4292640"/>
            <a:ext cx="132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天然气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614760" y="3079080"/>
            <a:ext cx="381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全球石油储量的使用年限共计为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0.5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中国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2.1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3759120" y="4374360"/>
            <a:ext cx="4010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全球天然气储量的使用年限共计为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3.3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中国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1.8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609000" y="1915560"/>
            <a:ext cx="3733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全球煤炭储量的使用年限共计为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50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中国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319400" y="765000"/>
            <a:ext cx="338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节约能源   寻找新能源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257480" y="2112840"/>
            <a:ext cx="1247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Verdana"/>
                <a:ea typeface="黑体"/>
              </a:rPr>
              <a:t>节约能源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038480" y="2100240"/>
            <a:ext cx="3114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Verdana"/>
                <a:ea typeface="黑体"/>
              </a:rPr>
              <a:t>节能降耗   节能减排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168200" y="2997360"/>
            <a:ext cx="98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Verdana"/>
                <a:ea typeface="黑体"/>
              </a:rPr>
              <a:t>新能源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436280" y="47962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地热、风能、海水的动能、原子能、直接利用的太阳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04560" y="4003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沼气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900000" y="6059520"/>
            <a:ext cx="63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00:24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7:25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