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DE8-55F7-4540-8DF9-509658D2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B5F2-E1DD-47BD-9DB7-99FE5A9A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657-7DBB-4FA9-8874-4C2F3399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CC5-830E-4DAC-922C-3ADC358C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F3CB-2C04-417E-B67F-5F97AC1C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363-D5FE-4A03-9B5F-1B0FAF6B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51F-211B-455B-BF35-14DA81EC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994-1DBB-4EC0-9A92-56A7E2AC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7978-B4AD-4398-AC8C-911D4DD2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783-2286-4FD8-A722-5655E32C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4CC-66B6-4980-BD40-F6FC8573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D82-011A-4045-85D8-E516F46D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2F45-6CDB-4C67-8F8A-B3DCE09ED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F:\ppt\704a\人教版四年级语文上册《去年的树》PPT课件\1-131121092GA16.jpg"/>
          <p:cNvPicPr/>
          <p:nvPr/>
        </p:nvPicPr>
        <p:blipFill>
          <a:blip r:embed="rId16"/>
          <a:stretch/>
        </p:blipFill>
        <p:spPr>
          <a:xfrm>
            <a:off x="0" y="0"/>
            <a:ext cx="9137520" cy="6842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6920" y="2665440"/>
            <a:ext cx="77756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方正毡笔黑简体"/>
                <a:ea typeface="方正毡笔黑简体"/>
              </a:rPr>
              <a:t>11 </a:t>
            </a:r>
            <a:r>
              <a:rPr b="0" lang="zh-CN" sz="9600" spc="-1" strike="noStrike">
                <a:solidFill>
                  <a:srgbClr val="ff0000"/>
                </a:solidFill>
                <a:latin typeface="方正毡笔黑简体"/>
                <a:ea typeface="方正毡笔黑简体"/>
              </a:rPr>
              <a:t>去年的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2542320" y="5877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1466-B5D6-45B0-B581-68C9896FF5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读懂了什么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620640" y="32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你有什么疑问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鸟儿为什么要把唱过的歌唱给灯火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棵树和一只鸟儿是好朋友。鸟儿站在树枝上，天天给树唱歌。树呢，也天天听着鸟儿唱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接着，她就唱起去年唱过的歌给灯火听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树对鸟儿说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再见了，小鸟！明年你再回来，还唱歌给我听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鸟儿说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好。我明年春天一定回来，给你唱歌。请等着我吧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立在这儿的那棵树，到什么地方去了呀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鸟儿问树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树根回答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伐木人用斧子把它砍倒，拉到山谷里去了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她问大门：“门先生，我的好朋友树在哪儿，您知道吗？”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大门回答说：“树么，在厂子里给切成细条儿，做成火柴，运到那边的村子里卖掉了。”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鸟儿问女孩：“小姑娘，请告诉我，你知道火柴在哪儿吗？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女孩回答说：“火柴已经用光了，可是，火柴点燃的火，还在这盏灯里亮着。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228600" y="6365880"/>
            <a:ext cx="72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“看”的内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鸟儿睁大眼睛，盯着灯火看了一会儿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唱完歌儿，鸟儿以又对着灯火看了一会儿，飞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课文为什么取名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去年的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而不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今年的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鸟和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比较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去年的树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今年的树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提问：今年还有树吗？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比较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去年的树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鸟与树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4:51:33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25:17Z</dcterms:modified>
  <cp:revision>8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