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1.png" ContentType="image/png"/>
  <Override PartName="/ppt/media/image20.wmf" ContentType="image/x-wmf"/>
  <Override PartName="/ppt/media/image4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8000663" cy="14400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00F-CE4A-409E-9046-D3B8DA1B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1440" y="577440"/>
            <a:ext cx="16198920" cy="23986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68480"/>
                <a:tab algn="l" pos="5737320"/>
                <a:tab algn="l" pos="8605800"/>
              </a:tabLst>
            </a:pP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1440" y="3358800"/>
            <a:ext cx="1619892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1440" y="8323200"/>
            <a:ext cx="1619892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D74-9A9C-4F80-BA76-FFF2BC77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1440" y="577440"/>
            <a:ext cx="16198920" cy="23986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68480"/>
                <a:tab algn="l" pos="5737320"/>
                <a:tab algn="l" pos="8605800"/>
              </a:tabLst>
            </a:pP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1440" y="3358800"/>
            <a:ext cx="79048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201960" y="3358800"/>
            <a:ext cx="79048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1440" y="8323200"/>
            <a:ext cx="79048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201960" y="8323200"/>
            <a:ext cx="79048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9511-E103-46EF-BBB0-BA71AC83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577440"/>
            <a:ext cx="16198920" cy="23986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68480"/>
                <a:tab algn="l" pos="5737320"/>
                <a:tab algn="l" pos="8605800"/>
              </a:tabLst>
            </a:pP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1440" y="3358800"/>
            <a:ext cx="52156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 fontScale="93000"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378120" y="3358800"/>
            <a:ext cx="52156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 fontScale="93000"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55160" y="3358800"/>
            <a:ext cx="52156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 fontScale="93000"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1440" y="8323200"/>
            <a:ext cx="52156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 fontScale="93000"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378120" y="8323200"/>
            <a:ext cx="52156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 fontScale="93000"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855160" y="8323200"/>
            <a:ext cx="52156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 fontScale="93000"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BFE6-3969-41EC-BB62-550B3051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D039-11A0-4013-975C-90C2BADC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1440" y="577440"/>
            <a:ext cx="16198920" cy="23986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68480"/>
                <a:tab algn="l" pos="5737320"/>
                <a:tab algn="l" pos="8605800"/>
              </a:tabLst>
            </a:pP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01440" y="3358800"/>
            <a:ext cx="16198920" cy="95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1E6E-1082-4C34-8558-358691B4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1440" y="577440"/>
            <a:ext cx="16198920" cy="23986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68480"/>
                <a:tab algn="l" pos="5737320"/>
                <a:tab algn="l" pos="8605800"/>
              </a:tabLst>
            </a:pP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1440" y="3358800"/>
            <a:ext cx="16198920" cy="950436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5267-EC6F-45CD-81E3-B32848F1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1440" y="577440"/>
            <a:ext cx="16198920" cy="23986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68480"/>
                <a:tab algn="l" pos="5737320"/>
                <a:tab algn="l" pos="8605800"/>
              </a:tabLst>
            </a:pP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1440" y="3358800"/>
            <a:ext cx="7904880" cy="950436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9201960" y="3358800"/>
            <a:ext cx="7904880" cy="950436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2E40-DE45-4392-B4B1-65DAF0DB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1440" y="577440"/>
            <a:ext cx="16198920" cy="23986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68480"/>
                <a:tab algn="l" pos="5737320"/>
                <a:tab algn="l" pos="8605800"/>
              </a:tabLst>
            </a:pP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14E1-574B-413F-8352-0420B685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01440" y="577440"/>
            <a:ext cx="16198920" cy="11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75"/>
              </a:spcBef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6EAC-166F-408D-9D25-AEACCA1C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1440" y="577440"/>
            <a:ext cx="16198920" cy="23986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68480"/>
                <a:tab algn="l" pos="5737320"/>
                <a:tab algn="l" pos="8605800"/>
              </a:tabLst>
            </a:pP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1440" y="3358800"/>
            <a:ext cx="79048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201960" y="3358800"/>
            <a:ext cx="7904880" cy="950436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01440" y="8323200"/>
            <a:ext cx="79048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47FD-3C2B-4BAE-BBE4-24BA1622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1440" y="577440"/>
            <a:ext cx="16198920" cy="23986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68480"/>
                <a:tab algn="l" pos="5737320"/>
                <a:tab algn="l" pos="8605800"/>
              </a:tabLst>
            </a:pP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1440" y="3358800"/>
            <a:ext cx="16198920" cy="95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BE1-78B6-4610-8AD2-A9A0E936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1440" y="577440"/>
            <a:ext cx="16198920" cy="23986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68480"/>
                <a:tab algn="l" pos="5737320"/>
                <a:tab algn="l" pos="8605800"/>
              </a:tabLst>
            </a:pP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1440" y="3358800"/>
            <a:ext cx="7904880" cy="950436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9201960" y="3358800"/>
            <a:ext cx="79048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201960" y="8323200"/>
            <a:ext cx="79048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3B5A-AFAB-41A6-93F6-9B0AD49D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1440" y="577440"/>
            <a:ext cx="16198920" cy="23986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68480"/>
                <a:tab algn="l" pos="5737320"/>
                <a:tab algn="l" pos="8605800"/>
              </a:tabLst>
            </a:pP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1440" y="3358800"/>
            <a:ext cx="79048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201960" y="3358800"/>
            <a:ext cx="79048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01440" y="8323200"/>
            <a:ext cx="1619892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D63A-972B-4DE9-9B6F-54440856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577440"/>
            <a:ext cx="16198920" cy="23986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68480"/>
                <a:tab algn="l" pos="5737320"/>
                <a:tab algn="l" pos="8605800"/>
              </a:tabLst>
            </a:pP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1440" y="3358800"/>
            <a:ext cx="1619892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01440" y="8323200"/>
            <a:ext cx="1619892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CADC-F567-4446-B455-C690451C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1440" y="577440"/>
            <a:ext cx="16198920" cy="23986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68480"/>
                <a:tab algn="l" pos="5737320"/>
                <a:tab algn="l" pos="8605800"/>
              </a:tabLst>
            </a:pP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1440" y="3358800"/>
            <a:ext cx="79048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201960" y="3358800"/>
            <a:ext cx="79048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01440" y="8323200"/>
            <a:ext cx="79048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201960" y="8323200"/>
            <a:ext cx="79048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E94D-8E54-41C3-ADD9-52A27810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1440" y="577440"/>
            <a:ext cx="16198920" cy="23986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68480"/>
                <a:tab algn="l" pos="5737320"/>
                <a:tab algn="l" pos="8605800"/>
              </a:tabLst>
            </a:pP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1440" y="3358800"/>
            <a:ext cx="52156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 fontScale="93000"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378120" y="3358800"/>
            <a:ext cx="52156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 fontScale="93000"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55160" y="3358800"/>
            <a:ext cx="52156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 fontScale="93000"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01440" y="8323200"/>
            <a:ext cx="52156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 fontScale="93000"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6378120" y="8323200"/>
            <a:ext cx="52156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 fontScale="93000"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1855160" y="8323200"/>
            <a:ext cx="52156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 fontScale="93000"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0254-622B-4FCD-9411-B6604E2C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1440" y="577440"/>
            <a:ext cx="16198920" cy="23986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68480"/>
                <a:tab algn="l" pos="5737320"/>
                <a:tab algn="l" pos="8605800"/>
              </a:tabLst>
            </a:pP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1440" y="3358800"/>
            <a:ext cx="16198920" cy="950436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4EC-4819-4DC6-A070-B9DCF7DF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1440" y="577440"/>
            <a:ext cx="16198920" cy="23986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68480"/>
                <a:tab algn="l" pos="5737320"/>
                <a:tab algn="l" pos="8605800"/>
              </a:tabLst>
            </a:pP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1440" y="3358800"/>
            <a:ext cx="7904880" cy="950436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201960" y="3358800"/>
            <a:ext cx="7904880" cy="950436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A80-4DBF-4FFE-9B48-96ACB623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577440"/>
            <a:ext cx="16198920" cy="23986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68480"/>
                <a:tab algn="l" pos="5737320"/>
                <a:tab algn="l" pos="8605800"/>
              </a:tabLst>
            </a:pP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553-1A59-4F9F-BF3C-77384149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1440" y="577440"/>
            <a:ext cx="16198920" cy="11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75"/>
              </a:spcBef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EE7-E661-4328-9205-00918170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577440"/>
            <a:ext cx="16198920" cy="23986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68480"/>
                <a:tab algn="l" pos="5737320"/>
                <a:tab algn="l" pos="8605800"/>
              </a:tabLst>
            </a:pP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1440" y="3358800"/>
            <a:ext cx="79048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201960" y="3358800"/>
            <a:ext cx="7904880" cy="950436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1440" y="8323200"/>
            <a:ext cx="79048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5B53-BD11-4AD9-82C3-6828E2D3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1440" y="577440"/>
            <a:ext cx="16198920" cy="23986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68480"/>
                <a:tab algn="l" pos="5737320"/>
                <a:tab algn="l" pos="8605800"/>
              </a:tabLst>
            </a:pP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1440" y="3358800"/>
            <a:ext cx="7904880" cy="950436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201960" y="3358800"/>
            <a:ext cx="79048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201960" y="8323200"/>
            <a:ext cx="79048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F946-B5D1-4E71-84B4-99A15680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1440" y="577440"/>
            <a:ext cx="16198920" cy="23986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68480"/>
                <a:tab algn="l" pos="5737320"/>
                <a:tab algn="l" pos="8605800"/>
              </a:tabLst>
            </a:pP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1440" y="3358800"/>
            <a:ext cx="79048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201960" y="3358800"/>
            <a:ext cx="790488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1440" y="8323200"/>
            <a:ext cx="16198920" cy="45334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2868480"/>
                <a:tab algn="l" pos="5737320"/>
                <a:tab algn="l" pos="86058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A38-C276-49F0-9523-2D7A9695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1440" y="577440"/>
            <a:ext cx="16198920" cy="2398680"/>
          </a:xfrm>
          <a:prstGeom prst="rect">
            <a:avLst/>
          </a:prstGeom>
          <a:noFill/>
          <a:ln w="0">
            <a:noFill/>
          </a:ln>
        </p:spPr>
        <p:txBody>
          <a:bodyPr lIns="162000" rIns="16200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7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1440" y="3358800"/>
            <a:ext cx="16198920" cy="9504360"/>
          </a:xfrm>
          <a:prstGeom prst="rect">
            <a:avLst/>
          </a:prstGeom>
          <a:noFill/>
          <a:ln w="0">
            <a:noFill/>
          </a:ln>
        </p:spPr>
        <p:txBody>
          <a:bodyPr lIns="162000" rIns="162000" tIns="81000" bIns="81000" anchor="t">
            <a:normAutofit/>
          </a:bodyPr>
          <a:p>
            <a:pPr marL="608040" indent="-60804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8096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2" marL="16192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3" marL="2430360" indent="-81108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4" marL="3240000" indent="-1620720"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5" marL="3240000" indent="-1620720"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6" marL="3240000" indent="-1620720"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01440" y="13112640"/>
            <a:ext cx="4197240" cy="998640"/>
          </a:xfrm>
          <a:prstGeom prst="rect">
            <a:avLst/>
          </a:prstGeom>
          <a:noFill/>
          <a:ln w="0">
            <a:noFill/>
          </a:ln>
        </p:spPr>
        <p:txBody>
          <a:bodyPr lIns="162000" rIns="162000" tIns="81000" bIns="81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F74C-39CC-4E43-B9FE-6BFBE3886A49}" type="datetime">
              <a:rPr b="0" lang="zh-CN" sz="2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49520" y="13112640"/>
            <a:ext cx="5699160" cy="998640"/>
          </a:xfrm>
          <a:prstGeom prst="rect">
            <a:avLst/>
          </a:prstGeom>
          <a:noFill/>
          <a:ln w="0">
            <a:noFill/>
          </a:ln>
        </p:spPr>
        <p:txBody>
          <a:bodyPr lIns="162000" rIns="162000" tIns="81000" bIns="81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899520" y="13112640"/>
            <a:ext cx="4200840" cy="998640"/>
          </a:xfrm>
          <a:prstGeom prst="rect">
            <a:avLst/>
          </a:prstGeom>
          <a:noFill/>
          <a:ln w="0">
            <a:noFill/>
          </a:ln>
        </p:spPr>
        <p:txBody>
          <a:bodyPr lIns="162000" rIns="162000" tIns="81000" bIns="81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1902-18F8-4B0D-8FAF-C9C4BBDE245B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1440" y="577440"/>
            <a:ext cx="16198920" cy="239868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68480"/>
                <a:tab algn="l" pos="5737320"/>
                <a:tab algn="l" pos="8605800"/>
              </a:tabLst>
            </a:pPr>
            <a:r>
              <a:rPr b="0" lang="en-US" sz="1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01440" y="3358800"/>
            <a:ext cx="16198920" cy="950436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 fontScale="73000"/>
          </a:bodyPr>
          <a:p>
            <a:pPr marL="786600" indent="-786600">
              <a:spcBef>
                <a:spcPts val="2475"/>
              </a:spcBef>
              <a:buClr>
                <a:srgbClr val="000000"/>
              </a:buClr>
              <a:buFont typeface="Arial"/>
              <a:buChar char="•"/>
              <a:tabLst>
                <a:tab algn="l" pos="2868480"/>
                <a:tab algn="l" pos="5737320"/>
                <a:tab algn="l" pos="860580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  <a:p>
            <a:pPr lvl="1" marL="1047240" indent="1046160">
              <a:spcBef>
                <a:spcPts val="2475"/>
              </a:spcBef>
              <a:buClr>
                <a:srgbClr val="000000"/>
              </a:buClr>
              <a:buFont typeface="Arial"/>
              <a:buChar char="–"/>
              <a:tabLst>
                <a:tab algn="l" pos="2868480"/>
                <a:tab algn="l" pos="5737320"/>
                <a:tab algn="l" pos="860580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  <a:p>
            <a:pPr lvl="2" marL="2093760">
              <a:spcBef>
                <a:spcPts val="2475"/>
              </a:spcBef>
              <a:buClr>
                <a:srgbClr val="000000"/>
              </a:buClr>
              <a:buFont typeface="Arial"/>
              <a:buChar char="•"/>
              <a:tabLst>
                <a:tab algn="l" pos="2868480"/>
                <a:tab algn="l" pos="5737320"/>
                <a:tab algn="l" pos="860580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  <a:p>
            <a:pPr lvl="3" marL="3143880" indent="-1050120">
              <a:spcBef>
                <a:spcPts val="2475"/>
              </a:spcBef>
              <a:buClr>
                <a:srgbClr val="000000"/>
              </a:buClr>
              <a:buFont typeface="Arial"/>
              <a:buChar char="–"/>
              <a:tabLst>
                <a:tab algn="l" pos="2868480"/>
                <a:tab algn="l" pos="5737320"/>
                <a:tab algn="l" pos="860580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  <a:p>
            <a:pPr lvl="4" marL="4190400" indent="-2096280">
              <a:spcBef>
                <a:spcPts val="2475"/>
              </a:spcBef>
              <a:buClr>
                <a:srgbClr val="000000"/>
              </a:buClr>
              <a:buFont typeface="Arial"/>
              <a:buChar char="»"/>
              <a:tabLst>
                <a:tab algn="l" pos="2868480"/>
                <a:tab algn="l" pos="5737320"/>
                <a:tab algn="l" pos="860580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  <a:p>
            <a:pPr lvl="5" marL="4190400" indent="-2096280">
              <a:spcBef>
                <a:spcPts val="2475"/>
              </a:spcBef>
              <a:buClr>
                <a:srgbClr val="000000"/>
              </a:buClr>
              <a:buFont typeface="Arial"/>
              <a:buChar char="»"/>
              <a:tabLst>
                <a:tab algn="l" pos="2868480"/>
                <a:tab algn="l" pos="5737320"/>
                <a:tab algn="l" pos="860580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  <a:p>
            <a:pPr lvl="6" marL="4190400" indent="-2096280">
              <a:spcBef>
                <a:spcPts val="2475"/>
              </a:spcBef>
              <a:buClr>
                <a:srgbClr val="000000"/>
              </a:buClr>
              <a:buFont typeface="Arial"/>
              <a:buChar char="»"/>
              <a:tabLst>
                <a:tab algn="l" pos="2868480"/>
                <a:tab algn="l" pos="5737320"/>
                <a:tab algn="l" pos="860580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01440" y="13112640"/>
            <a:ext cx="4197240" cy="99864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E4C3-ED8A-407D-A1AF-AF44692D9D76}" type="datetime">
              <a:rPr b="0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149520" y="13112640"/>
            <a:ext cx="5699160" cy="99864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2899520" y="13112640"/>
            <a:ext cx="4200840" cy="99864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DE3E-AB16-4920-8DFC-258C8AC53941}" type="slidenum">
              <a:rPr b="0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4" descr=""/>
          <p:cNvPicPr/>
          <p:nvPr/>
        </p:nvPicPr>
        <p:blipFill>
          <a:blip r:embed="rId2"/>
          <a:stretch/>
        </p:blipFill>
        <p:spPr>
          <a:xfrm>
            <a:off x="3567240" y="3098880"/>
            <a:ext cx="12674520" cy="386856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6"/>
          <p:cNvSpPr/>
          <p:nvPr/>
        </p:nvSpPr>
        <p:spPr>
          <a:xfrm>
            <a:off x="16624440" y="13104720"/>
            <a:ext cx="927000" cy="879480"/>
          </a:xfrm>
          <a:prstGeom prst="rightArrow">
            <a:avLst>
              <a:gd name="adj1" fmla="val 50000"/>
              <a:gd name="adj2" fmla="val 26346"/>
            </a:avLst>
          </a:prstGeom>
          <a:solidFill>
            <a:srgbClr val="cc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"/>
          <p:cNvSpPr/>
          <p:nvPr/>
        </p:nvSpPr>
        <p:spPr>
          <a:xfrm>
            <a:off x="500040" y="13104720"/>
            <a:ext cx="81295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6149880" y="13112640"/>
            <a:ext cx="56991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81000" bIns="81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l0211194.wav" descr=""/>
          <p:cNvPicPr/>
          <p:nvPr/>
        </p:nvPicPr>
        <p:blipFill>
          <a:blip r:embed="rId1"/>
          <a:stretch/>
        </p:blipFill>
        <p:spPr>
          <a:xfrm>
            <a:off x="474840" y="13279320"/>
            <a:ext cx="599760" cy="639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8972640" y="7170840"/>
            <a:ext cx="57240" cy="60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8972640" y="7170840"/>
            <a:ext cx="57240" cy="60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4"/>
          <a:stretch/>
        </p:blipFill>
        <p:spPr>
          <a:xfrm>
            <a:off x="8972640" y="7170840"/>
            <a:ext cx="57240" cy="60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5"/>
          <a:stretch/>
        </p:blipFill>
        <p:spPr>
          <a:xfrm>
            <a:off x="0" y="-2887560"/>
            <a:ext cx="18545040" cy="198831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7953480" y="9642600"/>
            <a:ext cx="1004544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81000" bIns="810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9000" spc="-1" strike="noStrike">
                <a:solidFill>
                  <a:srgbClr val="000000"/>
                </a:solidFill>
                <a:latin typeface="Arial"/>
              </a:rPr>
              <a:t>号车前面有几辆车</a:t>
            </a:r>
            <a:r>
              <a:rPr b="1" lang="zh-CN" sz="9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9000" spc="-1" strike="noStrike">
                <a:solidFill>
                  <a:srgbClr val="000000"/>
                </a:solidFill>
                <a:latin typeface="Arial"/>
              </a:rPr>
              <a:t>它的后面是几号车</a:t>
            </a:r>
            <a:r>
              <a:rPr b="1" lang="zh-CN" sz="9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598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QQ截图20120807152000"/>
          <p:cNvPicPr/>
          <p:nvPr/>
        </p:nvPicPr>
        <p:blipFill>
          <a:blip r:embed="rId1"/>
          <a:stretch/>
        </p:blipFill>
        <p:spPr>
          <a:xfrm>
            <a:off x="0" y="0"/>
            <a:ext cx="18113400" cy="1230300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1"/>
          <p:cNvSpPr/>
          <p:nvPr/>
        </p:nvSpPr>
        <p:spPr>
          <a:xfrm>
            <a:off x="2286000" y="12033360"/>
            <a:ext cx="110840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 rot="19680000">
            <a:off x="-396360" y="1546200"/>
            <a:ext cx="69292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1" strike="noStrike">
                <a:ln w="12600">
                  <a:solidFill>
                    <a:srgbClr val="ff00ff"/>
                  </a:solidFill>
                  <a:round/>
                </a:ln>
                <a:solidFill>
                  <a:srgbClr val="ff99cc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数学小游戏</a:t>
            </a:r>
            <a:endParaRPr b="1" lang="en-US" sz="3100" spc="1" strike="noStrike">
              <a:ln w="12600">
                <a:solidFill>
                  <a:srgbClr val="ff00ff"/>
                </a:solidFill>
                <a:round/>
              </a:ln>
              <a:solidFill>
                <a:srgbClr val="ff99cc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" name="WordArt 3"/>
          <p:cNvSpPr txBox="1"/>
          <p:nvPr/>
        </p:nvSpPr>
        <p:spPr>
          <a:xfrm rot="240000">
            <a:off x="1650960" y="1374840"/>
            <a:ext cx="13884480" cy="889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00"/>
                </a:solidFill>
                <a:latin typeface="宋体"/>
              </a:rPr>
              <a:t>介绍自己的位置</a:t>
            </a:r>
            <a:endParaRPr b="1" lang="en-US" sz="3100" spc="1" strike="noStrike">
              <a:ln w="9360">
                <a:solidFill>
                  <a:srgbClr val="000000"/>
                </a:solidFill>
                <a:round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149880" y="13112640"/>
            <a:ext cx="56991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6920" rIns="286920" tIns="143640" bIns="14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611680" y="5977080"/>
            <a:ext cx="1005696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81000" bIns="81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Object 5" descr=""/>
          <p:cNvPicPr/>
          <p:nvPr/>
        </p:nvPicPr>
        <p:blipFill>
          <a:blip r:embed="rId2"/>
          <a:stretch/>
        </p:blipFill>
        <p:spPr>
          <a:xfrm>
            <a:off x="8543880" y="7054920"/>
            <a:ext cx="114480" cy="288720"/>
          </a:xfrm>
          <a:prstGeom prst="rect">
            <a:avLst/>
          </a:prstGeom>
          <a:ln w="0">
            <a:noFill/>
          </a:ln>
        </p:spPr>
      </p:pic>
      <p:pic>
        <p:nvPicPr>
          <p:cNvPr id="150" name="矩形 1" descr=""/>
          <p:cNvPicPr/>
          <p:nvPr/>
        </p:nvPicPr>
        <p:blipFill>
          <a:blip r:embed="rId3"/>
          <a:stretch/>
        </p:blipFill>
        <p:spPr>
          <a:xfrm>
            <a:off x="5472000" y="5435640"/>
            <a:ext cx="88725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21960" y="396720"/>
            <a:ext cx="16154280" cy="120672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68480"/>
                <a:tab algn="l" pos="5737320"/>
                <a:tab algn="l" pos="8605800"/>
              </a:tabLst>
            </a:pPr>
            <a:r>
              <a:rPr b="0" lang="zh-CN" sz="1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12760" y="2666520"/>
            <a:ext cx="17573760" cy="10960200"/>
          </a:xfrm>
          <a:prstGeom prst="rect">
            <a:avLst/>
          </a:prstGeom>
          <a:noFill/>
          <a:ln w="0">
            <a:noFill/>
          </a:ln>
        </p:spPr>
        <p:txBody>
          <a:bodyPr lIns="286920" rIns="286920" tIns="143640" bIns="143640" anchor="t">
            <a:normAutofit fontScale="52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5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5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5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5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5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5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5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56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5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5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5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5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5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5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5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5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5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5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5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4343120" y="700200"/>
            <a:ext cx="2733480" cy="73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5040" rIns="185040" tIns="92520" bIns="92520" anchor="ctr">
            <a:noAutofit/>
          </a:bodyPr>
          <a:p>
            <a:pPr algn="ctr">
              <a:tabLst>
                <a:tab algn="l" pos="0"/>
                <a:tab algn="l" pos="1851120"/>
                <a:tab algn="l" pos="3701880"/>
                <a:tab algn="l" pos="5553000"/>
                <a:tab algn="l" pos="7404120"/>
                <a:tab algn="l" pos="925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1"/>
          <p:cNvSpPr/>
          <p:nvPr/>
        </p:nvSpPr>
        <p:spPr>
          <a:xfrm>
            <a:off x="12899880" y="13346280"/>
            <a:ext cx="41990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5040" rIns="185040" tIns="92520" bIns="92520" anchor="ctr">
            <a:noAutofit/>
          </a:bodyPr>
          <a:p>
            <a:pPr algn="r">
              <a:tabLst>
                <a:tab algn="l" pos="0"/>
                <a:tab algn="l" pos="1851120"/>
                <a:tab algn="l" pos="3701880"/>
                <a:tab algn="l" pos="5553000"/>
                <a:tab algn="l" pos="7404120"/>
                <a:tab algn="l" pos="9255240"/>
              </a:tabLst>
            </a:pPr>
            <a:fld id="{0D54D9B7-B246-4F06-9F58-305943BC3B7A}" type="slidenum">
              <a:rPr b="0" lang="zh-CN" sz="2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28"/>
          <p:cNvSpPr/>
          <p:nvPr/>
        </p:nvSpPr>
        <p:spPr>
          <a:xfrm>
            <a:off x="3319560" y="375120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3" descr=""/>
          <p:cNvPicPr/>
          <p:nvPr/>
        </p:nvPicPr>
        <p:blipFill>
          <a:blip r:embed="rId15"/>
          <a:stretch/>
        </p:blipFill>
        <p:spPr>
          <a:xfrm>
            <a:off x="2521080" y="0"/>
            <a:ext cx="15520680" cy="9888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6229800" y="10221840"/>
            <a:ext cx="79441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第     第     第      第      第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6004080" y="10399680"/>
            <a:ext cx="969840" cy="9698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8159760" y="10336320"/>
            <a:ext cx="969840" cy="9684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/>
          <p:cNvSpPr/>
          <p:nvPr/>
        </p:nvSpPr>
        <p:spPr>
          <a:xfrm>
            <a:off x="10348920" y="10363320"/>
            <a:ext cx="969840" cy="9698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/>
          <p:cNvSpPr/>
          <p:nvPr/>
        </p:nvSpPr>
        <p:spPr>
          <a:xfrm>
            <a:off x="15032160" y="10363320"/>
            <a:ext cx="969840" cy="9698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12663360" y="10377360"/>
            <a:ext cx="970200" cy="9702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6155640" y="10336320"/>
            <a:ext cx="674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8308080" y="10280520"/>
            <a:ext cx="674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10441800" y="10307520"/>
            <a:ext cx="674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12824640" y="10336320"/>
            <a:ext cx="674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15152040" y="10307520"/>
            <a:ext cx="674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5"/>
          <p:cNvSpPr/>
          <p:nvPr/>
        </p:nvSpPr>
        <p:spPr>
          <a:xfrm>
            <a:off x="1531080" y="11307600"/>
            <a:ext cx="3675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有    人排队。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6"/>
          <p:cNvSpPr/>
          <p:nvPr/>
        </p:nvSpPr>
        <p:spPr>
          <a:xfrm>
            <a:off x="1550880" y="11396520"/>
            <a:ext cx="970200" cy="9702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1670040" y="11341080"/>
            <a:ext cx="674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8"/>
          <p:cNvSpPr/>
          <p:nvPr/>
        </p:nvSpPr>
        <p:spPr>
          <a:xfrm>
            <a:off x="1665360" y="12649320"/>
            <a:ext cx="15292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排第    ，他前面有    人，后面有    人。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6"/>
          <a:stretch/>
        </p:blipFill>
        <p:spPr>
          <a:xfrm>
            <a:off x="441360" y="12725280"/>
            <a:ext cx="1108080" cy="1094040"/>
          </a:xfrm>
          <a:prstGeom prst="rect">
            <a:avLst/>
          </a:prstGeom>
          <a:ln w="0">
            <a:noFill/>
          </a:ln>
        </p:spPr>
      </p:pic>
      <p:sp>
        <p:nvSpPr>
          <p:cNvPr id="103" name="矩形 20"/>
          <p:cNvSpPr/>
          <p:nvPr/>
        </p:nvSpPr>
        <p:spPr>
          <a:xfrm>
            <a:off x="3546360" y="12760200"/>
            <a:ext cx="970200" cy="9702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1"/>
          <p:cNvSpPr/>
          <p:nvPr/>
        </p:nvSpPr>
        <p:spPr>
          <a:xfrm>
            <a:off x="3693960" y="12704760"/>
            <a:ext cx="674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2"/>
          <p:cNvSpPr/>
          <p:nvPr/>
        </p:nvSpPr>
        <p:spPr>
          <a:xfrm>
            <a:off x="8991720" y="12801600"/>
            <a:ext cx="969840" cy="9698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3"/>
          <p:cNvSpPr/>
          <p:nvPr/>
        </p:nvSpPr>
        <p:spPr>
          <a:xfrm>
            <a:off x="14533560" y="12801600"/>
            <a:ext cx="969840" cy="9698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4"/>
          <p:cNvSpPr/>
          <p:nvPr/>
        </p:nvSpPr>
        <p:spPr>
          <a:xfrm>
            <a:off x="9097200" y="12731760"/>
            <a:ext cx="674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5"/>
          <p:cNvSpPr/>
          <p:nvPr/>
        </p:nvSpPr>
        <p:spPr>
          <a:xfrm>
            <a:off x="14666760" y="12760200"/>
            <a:ext cx="674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0"/>
          <p:cNvGrpSpPr/>
          <p:nvPr/>
        </p:nvGrpSpPr>
        <p:grpSpPr>
          <a:xfrm>
            <a:off x="4986360" y="10495080"/>
            <a:ext cx="12145320" cy="3442320"/>
            <a:chOff x="4986360" y="10495080"/>
            <a:chExt cx="12145320" cy="3442320"/>
          </a:xfrm>
        </p:grpSpPr>
        <p:pic>
          <p:nvPicPr>
            <p:cNvPr id="110" name="Picture 6" descr="小精灵-018"/>
            <p:cNvPicPr/>
            <p:nvPr/>
          </p:nvPicPr>
          <p:blipFill>
            <a:blip r:embed="rId1"/>
            <a:stretch/>
          </p:blipFill>
          <p:spPr>
            <a:xfrm>
              <a:off x="13597560" y="10495080"/>
              <a:ext cx="3534120" cy="344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8" descr="008-2"/>
            <p:cNvPicPr/>
            <p:nvPr/>
          </p:nvPicPr>
          <p:blipFill>
            <a:blip r:embed="rId2"/>
            <a:stretch/>
          </p:blipFill>
          <p:spPr>
            <a:xfrm>
              <a:off x="4986360" y="10495080"/>
              <a:ext cx="8946720" cy="282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5"/>
            <p:cNvSpPr/>
            <p:nvPr/>
          </p:nvSpPr>
          <p:spPr>
            <a:xfrm>
              <a:off x="5811120" y="10937880"/>
              <a:ext cx="71517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从图中还可以提出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什么问题？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图片 15" descr=""/>
          <p:cNvPicPr/>
          <p:nvPr/>
        </p:nvPicPr>
        <p:blipFill>
          <a:blip r:embed="rId3"/>
          <a:stretch/>
        </p:blipFill>
        <p:spPr>
          <a:xfrm>
            <a:off x="1442880" y="0"/>
            <a:ext cx="15921360" cy="1014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6149880" y="13112640"/>
            <a:ext cx="56991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81000" bIns="81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-826920" y="0"/>
            <a:ext cx="22086720" cy="143953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644400" y="4371840"/>
            <a:ext cx="2679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81000" bIns="810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0000"/>
                </a:solidFill>
                <a:latin typeface="Arial"/>
              </a:rPr>
              <a:t>涂</a:t>
            </a:r>
            <a:r>
              <a:rPr b="1" lang="zh-CN" sz="5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56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349360" y="679320"/>
            <a:ext cx="812340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81000" bIns="81000" anchor="t">
            <a:spAutoFit/>
          </a:bodyPr>
          <a:p>
            <a:pPr>
              <a:spcBef>
                <a:spcPts val="3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0000cc"/>
                </a:solidFill>
                <a:latin typeface="Arial"/>
              </a:rPr>
              <a:t>从左边起涂色。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0" y="10317240"/>
            <a:ext cx="427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81000" bIns="810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0000"/>
                </a:solidFill>
                <a:latin typeface="Arial"/>
              </a:rPr>
              <a:t>涂第</a:t>
            </a:r>
            <a:r>
              <a:rPr b="1" lang="zh-CN" sz="5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56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6149880" y="13112640"/>
            <a:ext cx="56991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81000" bIns="81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2" descr=""/>
          <p:cNvPicPr/>
          <p:nvPr/>
        </p:nvPicPr>
        <p:blipFill>
          <a:blip r:embed="rId1"/>
          <a:stretch/>
        </p:blipFill>
        <p:spPr>
          <a:xfrm>
            <a:off x="-738360" y="-630360"/>
            <a:ext cx="21098160" cy="15030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1906560" y="679320"/>
            <a:ext cx="812340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81000" bIns="81000" anchor="t">
            <a:spAutoFit/>
          </a:bodyPr>
          <a:p>
            <a:pPr>
              <a:spcBef>
                <a:spcPts val="3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0000cc"/>
                </a:solidFill>
                <a:latin typeface="Arial"/>
              </a:rPr>
              <a:t>从左边起涂色。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6360" y="3914640"/>
            <a:ext cx="2679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81000" bIns="810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0000"/>
                </a:solidFill>
                <a:latin typeface="Arial"/>
              </a:rPr>
              <a:t>涂</a:t>
            </a:r>
            <a:r>
              <a:rPr b="1" lang="zh-CN" sz="5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56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2120" y="10317240"/>
            <a:ext cx="427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81000" bIns="810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0000"/>
                </a:solidFill>
                <a:latin typeface="Arial"/>
              </a:rPr>
              <a:t>涂第</a:t>
            </a:r>
            <a:r>
              <a:rPr b="1" lang="zh-CN" sz="5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56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6149880" y="13112640"/>
            <a:ext cx="56991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81000" bIns="81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-771480" y="0"/>
            <a:ext cx="20864520" cy="14400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1538280" y="928800"/>
            <a:ext cx="812340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81000" bIns="81000" anchor="t">
            <a:spAutoFit/>
          </a:bodyPr>
          <a:p>
            <a:pPr>
              <a:spcBef>
                <a:spcPts val="3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0000cc"/>
                </a:solidFill>
                <a:latin typeface="Arial"/>
              </a:rPr>
              <a:t>从左边起涂色。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87360" y="10594800"/>
            <a:ext cx="427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81000" bIns="810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0000"/>
                </a:solidFill>
                <a:latin typeface="Arial"/>
              </a:rPr>
              <a:t>涂第</a:t>
            </a:r>
            <a:r>
              <a:rPr b="1" lang="zh-CN" sz="5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56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09480" y="4662360"/>
            <a:ext cx="2679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81000" bIns="810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0000"/>
                </a:solidFill>
                <a:latin typeface="Arial"/>
              </a:rPr>
              <a:t>涂</a:t>
            </a:r>
            <a:r>
              <a:rPr b="1" lang="zh-CN" sz="5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56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6149880" y="13112640"/>
            <a:ext cx="56991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81000" bIns="81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17998920" cy="14400360"/>
          </a:xfrm>
          <a:prstGeom prst="rect">
            <a:avLst/>
          </a:prstGeom>
          <a:solidFill>
            <a:srgbClr val="f9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2300400" y="0"/>
            <a:ext cx="13561920" cy="144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6149880" y="13112640"/>
            <a:ext cx="56991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81000" bIns="81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7998920" cy="144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上山"/>
          <p:cNvPicPr/>
          <p:nvPr/>
        </p:nvPicPr>
        <p:blipFill>
          <a:blip r:embed="rId1"/>
          <a:stretch/>
        </p:blipFill>
        <p:spPr>
          <a:xfrm>
            <a:off x="41400" y="-61920"/>
            <a:ext cx="9067680" cy="8742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下山"/>
          <p:cNvPicPr/>
          <p:nvPr/>
        </p:nvPicPr>
        <p:blipFill>
          <a:blip r:embed="rId2"/>
          <a:stretch/>
        </p:blipFill>
        <p:spPr>
          <a:xfrm>
            <a:off x="9229680" y="5448240"/>
            <a:ext cx="8724960" cy="873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00:13:55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xinxing</cp:lastModifiedBy>
  <dcterms:modified xsi:type="dcterms:W3CDTF">2017-04-16T15:54:13Z</dcterms:modified>
  <cp:revision>31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