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F91B-8F7C-4F4D-B003-41E827FE9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613D-251E-4677-B1FA-4DA49DCD59E9}" type="slidenum">
              <a:rPr b="0" lang="en-US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325-34D3-4ED6-862A-39456FA3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051-86CC-4EC7-9953-EB574A48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66C-AC91-48BC-927C-29BC6C4E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E55-3B15-4A70-9AAC-56DD53D5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E516-88DD-4D2D-A1D9-1B331A53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78EF-A2BC-4836-9FC2-3B2D9B85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4082-AB47-4F74-A908-DAE7EF33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5372-26F1-4495-B702-47F3999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11B7-78DF-4789-87C5-FA4CB574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1072-4D3F-4FF8-BAC3-DC14FD32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8CEA-9A47-4AF0-BFA1-26C55C0E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C4A-2C3F-4FF6-8D6D-A6E915C8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F979-96F5-4E95-A8A1-A47EA97C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CEF7-EA10-42C2-B2DC-8DE7835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B38F-F489-454E-B5D0-64600843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D970-A809-4F3C-81F7-6917197D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49F2-38C1-435F-9EE2-D5D2D9D5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9EF-2EF9-4E20-AA90-01E87C91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B85-59A8-4249-8D33-629EA37B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7A6-A1BD-49F5-A3B4-E470CC34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969-AD8D-4E9B-B13D-8D07CFC5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947-64D0-456D-BFA7-A22061FB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878-F672-4A71-BCDF-2E5AE6B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D9C-84DE-4358-A818-645933D3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5400"/>
                <a:ext cx="1833480" cy="1663560"/>
                <a:chOff x="852480" y="4055400"/>
                <a:chExt cx="1833480" cy="16635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4160"/>
                  <a:ext cx="474480" cy="12186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400" y="4973040"/>
                  <a:ext cx="10872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360" y="5569560"/>
                  <a:ext cx="19836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E10B-4C77-4049-A627-1BA48BD0B1E7}" type="datetime">
              <a:rPr b="0" lang="zh-CN" sz="14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B23-9FC3-463F-9EB0-3DA7AC309D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C18F-0740-4AB2-A53B-D1098C1A475C}" type="datetime">
              <a:rPr b="0" lang="zh-CN" sz="1400" spc="-1" strike="noStrike">
                <a:solidFill>
                  <a:srgbClr val="006699"/>
                </a:solidFill>
                <a:latin typeface="Verdan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1ECE-D7C9-446E-A0FE-24AFC78014D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0" y="220176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75" name="WordArt 20"/>
          <p:cNvSpPr txBox="1"/>
          <p:nvPr/>
        </p:nvSpPr>
        <p:spPr>
          <a:xfrm>
            <a:off x="1332000" y="1052640"/>
            <a:ext cx="640872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我们的小缆车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2173680" y="62722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258920" y="24908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物体都有一个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向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力，这就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重力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074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1903320" y="5446800"/>
            <a:ext cx="53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模板下载：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792000" y="1052640"/>
            <a:ext cx="23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课外探究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39640" y="299880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静止的小车有没有受到力的作用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7"/>
          <p:cNvSpPr txBox="1"/>
          <p:nvPr/>
        </p:nvSpPr>
        <p:spPr>
          <a:xfrm>
            <a:off x="1835280" y="1989000"/>
            <a:ext cx="518292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合作愉快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6133-3E9B-4525-A33B-B8D0821ECA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3"/>
          <p:cNvSpPr/>
          <p:nvPr/>
        </p:nvSpPr>
        <p:spPr>
          <a:xfrm>
            <a:off x="1692360" y="29480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5" descr="3641427"/>
          <p:cNvPicPr/>
          <p:nvPr/>
        </p:nvPicPr>
        <p:blipFill>
          <a:blip r:embed="rId1"/>
          <a:stretch/>
        </p:blipFill>
        <p:spPr>
          <a:xfrm>
            <a:off x="4498920" y="189000"/>
            <a:ext cx="4381560" cy="6381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940280" y="5554800"/>
            <a:ext cx="17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高山缆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7348680" y="230040"/>
            <a:ext cx="176040" cy="347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5076720" y="166680"/>
            <a:ext cx="2089080" cy="36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4572000" y="2376360"/>
            <a:ext cx="2262240" cy="1557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12" descr="DSC_9319"/>
          <p:cNvPicPr/>
          <p:nvPr/>
        </p:nvPicPr>
        <p:blipFill>
          <a:blip r:embed="rId2"/>
          <a:stretch/>
        </p:blipFill>
        <p:spPr>
          <a:xfrm>
            <a:off x="250920" y="166680"/>
            <a:ext cx="3983040" cy="6404040"/>
          </a:xfrm>
          <a:prstGeom prst="rect">
            <a:avLst/>
          </a:prstGeom>
          <a:ln w="0">
            <a:noFill/>
          </a:ln>
        </p:spPr>
      </p:pic>
      <p:sp>
        <p:nvSpPr>
          <p:cNvPr id="184" name="Line 13"/>
          <p:cNvSpPr/>
          <p:nvPr/>
        </p:nvSpPr>
        <p:spPr>
          <a:xfrm>
            <a:off x="2340000" y="3933720"/>
            <a:ext cx="1893960" cy="1943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943200" y="5554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Verdana"/>
                <a:ea typeface="黑体"/>
              </a:rPr>
              <a:t>轨道缆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379680" y="3576600"/>
            <a:ext cx="1708200" cy="712800"/>
          </a:xfrm>
          <a:prstGeom prst="wedgeRoundRectCallout">
            <a:avLst>
              <a:gd name="adj1" fmla="val -62175"/>
              <a:gd name="adj2" fmla="val 99888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379680" y="3735360"/>
            <a:ext cx="17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Verdana"/>
                <a:ea typeface="黑体"/>
              </a:rPr>
              <a:t>钢缆绳的拉力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776480" y="3068640"/>
            <a:ext cx="639720" cy="507960"/>
          </a:xfrm>
          <a:prstGeom prst="line">
            <a:avLst/>
          </a:prstGeom>
          <a:ln w="763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230560" y="522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安装一辆小缆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06320" y="3014640"/>
            <a:ext cx="83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建议垫圈要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一个一个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的增加，记录刚好使小车运动起来的垫圈数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765000" y="2233440"/>
            <a:ext cx="771840" cy="3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提示：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000080" y="1301760"/>
            <a:ext cx="74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黑体"/>
              </a:rPr>
              <a:t>测试挂几个垫圈，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黑体"/>
              </a:rPr>
              <a:t>刚好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黑体"/>
              </a:rPr>
              <a:t>使小车运动起来？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1434960" y="3805200"/>
            <a:ext cx="65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观察小车和垫圈往哪个方向运动？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1685880" y="4599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注意分工配合，碰到问题，尝试解决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献给爱丽丝.mp3" descr=""/>
          <p:cNvPicPr/>
          <p:nvPr/>
        </p:nvPicPr>
        <p:blipFill>
          <a:blip r:embed="rId1"/>
          <a:stretch/>
        </p:blipFill>
        <p:spPr>
          <a:xfrm>
            <a:off x="7885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916360" y="522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安装一辆小缆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06320" y="2998800"/>
            <a:ext cx="83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建议垫圈要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一个一个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的增加，记录刚好使小车运动起来的垫圈数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533520" y="2233440"/>
            <a:ext cx="771480" cy="3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提示：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685880" y="1301760"/>
            <a:ext cx="74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黑体"/>
              </a:rPr>
              <a:t>测试挂几个垫圈，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黑体"/>
              </a:rPr>
              <a:t>刚好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黑体"/>
              </a:rPr>
              <a:t>使小车运动起来？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434960" y="3789360"/>
            <a:ext cx="65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观察小车和垫圈往哪个方向运动？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685880" y="45831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注意分工配合，碰到问题，尝试解决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871560" y="95580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研究拉力大小与小车运动快慢的关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604800" y="2178000"/>
            <a:ext cx="114300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推测：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332080" y="2192400"/>
            <a:ext cx="57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拉力大，小车跑得快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87156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2332080" y="290520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拉力小，小车跑得慢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3246480" y="516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332080" y="458316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这个实验该怎么做呢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24"/>
          <p:cNvSpPr txBox="1"/>
          <p:nvPr/>
        </p:nvSpPr>
        <p:spPr>
          <a:xfrm>
            <a:off x="814320" y="4583160"/>
            <a:ext cx="93348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讨论：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908000" y="4428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研究拉力大小与小车运动关系的记录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03440" y="804960"/>
            <a:ext cx="72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挂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个垫圈，刚好能使小车运动起来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1912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03440" y="1557360"/>
          <a:ext cx="7813440" cy="4221000"/>
        </p:xfrm>
        <a:graphic>
          <a:graphicData uri="http://schemas.openxmlformats.org/drawingml/2006/table">
            <a:tbl>
              <a:tblPr/>
              <a:tblGrid>
                <a:gridCol w="2376000"/>
                <a:gridCol w="1368720"/>
                <a:gridCol w="406872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拉力大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垫圈的个数</a:t>
                      </a:r>
                      <a:r>
                        <a:rPr b="0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实验次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                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小车运动的快慢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从起点到终点时间                   快慢顺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4" name="Line 43"/>
          <p:cNvSpPr/>
          <p:nvPr/>
        </p:nvSpPr>
        <p:spPr>
          <a:xfrm>
            <a:off x="4484520" y="20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6227640" y="2060640"/>
            <a:ext cx="0" cy="371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45"/>
          <p:cNvSpPr/>
          <p:nvPr/>
        </p:nvSpPr>
        <p:spPr>
          <a:xfrm>
            <a:off x="1187280" y="2568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Text Box 46"/>
          <p:cNvSpPr/>
          <p:nvPr/>
        </p:nvSpPr>
        <p:spPr>
          <a:xfrm>
            <a:off x="1279440" y="411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47"/>
          <p:cNvSpPr/>
          <p:nvPr/>
        </p:nvSpPr>
        <p:spPr>
          <a:xfrm>
            <a:off x="4448160" y="27860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48"/>
          <p:cNvSpPr/>
          <p:nvPr/>
        </p:nvSpPr>
        <p:spPr>
          <a:xfrm>
            <a:off x="4448160" y="315108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49"/>
          <p:cNvSpPr/>
          <p:nvPr/>
        </p:nvSpPr>
        <p:spPr>
          <a:xfrm>
            <a:off x="4448160" y="388152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50"/>
          <p:cNvSpPr/>
          <p:nvPr/>
        </p:nvSpPr>
        <p:spPr>
          <a:xfrm>
            <a:off x="4448160" y="424656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51"/>
          <p:cNvSpPr/>
          <p:nvPr/>
        </p:nvSpPr>
        <p:spPr>
          <a:xfrm>
            <a:off x="4448160" y="502128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52"/>
          <p:cNvSpPr/>
          <p:nvPr/>
        </p:nvSpPr>
        <p:spPr>
          <a:xfrm>
            <a:off x="4448160" y="539100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1074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献给爱丽丝.mp3" descr=""/>
          <p:cNvPicPr/>
          <p:nvPr/>
        </p:nvPicPr>
        <p:blipFill>
          <a:blip r:embed="rId1"/>
          <a:stretch/>
        </p:blipFill>
        <p:spPr>
          <a:xfrm>
            <a:off x="8193240" y="591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6" name="WordArt 7"/>
          <p:cNvSpPr txBox="1"/>
          <p:nvPr/>
        </p:nvSpPr>
        <p:spPr>
          <a:xfrm>
            <a:off x="2700360" y="4579920"/>
            <a:ext cx="3181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碰到问题  尝试解决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539640" y="981000"/>
            <a:ext cx="19670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实验提示：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5280" y="2133720"/>
            <a:ext cx="1029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实验完成了，要马上整理好实验材料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小组内轻声交流，你们的数据是否支持原先的推测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074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献给爱丽丝.mp3" descr=""/>
          <p:cNvPicPr/>
          <p:nvPr/>
        </p:nvPicPr>
        <p:blipFill>
          <a:blip r:embed="rId1"/>
          <a:stretch/>
        </p:blipFill>
        <p:spPr>
          <a:xfrm>
            <a:off x="8193240" y="591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31" name="WordArt 4"/>
          <p:cNvSpPr txBox="1"/>
          <p:nvPr/>
        </p:nvSpPr>
        <p:spPr>
          <a:xfrm>
            <a:off x="2700360" y="4421160"/>
            <a:ext cx="3181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碰到问题  尝试解决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468360" y="981000"/>
            <a:ext cx="1727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实验提示：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95280" y="2133720"/>
            <a:ext cx="1029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实验完成了，要马上整理好实验材料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小组内轻声交流，你们的数据是否支持原先的推测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755640" y="1052640"/>
            <a:ext cx="115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思考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413080" y="215280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垫圈起了什么作用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献给爱丽丝.mp3" descr=""/>
          <p:cNvPicPr/>
          <p:nvPr/>
        </p:nvPicPr>
        <p:blipFill>
          <a:blip r:embed="rId1"/>
          <a:stretch/>
        </p:blipFill>
        <p:spPr>
          <a:xfrm>
            <a:off x="7885080" y="55897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2413080" y="35290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是什么力拉动了小车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4:37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10Z</dcterms:modified>
  <cp:revision>3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