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FD5D-D6DC-4F98-8469-0F5DC325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0B2-80CA-4D97-878D-0B30C60A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2B0-D07A-4BCD-9D97-181B1A12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0C6-89B3-4E3B-9B3D-3758E8D8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44F9-D918-4221-8CC1-DC088411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6ABE-17EE-4C82-ADF6-6B96122B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1BD0-BDF8-44F9-9F67-0423C6B3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CA2C-4D14-449E-9CFD-11A1E5A0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AF21-FECD-417F-925E-1AA03F25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F1DE-CBCF-4E37-80B4-956D67F1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19EE-6D22-4700-A046-19573F9D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25C-1D36-4629-9E60-7DC2CE56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3639-83D1-4251-AA21-78E09583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1C51-151F-4116-BB9B-CAD054E7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D637-D9F4-468E-B36F-A02FF65E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6724-1A66-41B1-81F4-670B8637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F780-097B-4F27-9D17-54E6FAA8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657-7A5F-4BB7-82B7-8C58E9F1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369-CEF6-4699-8694-547A855E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433-17FC-4B35-83D5-D6BAEAF0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8BB-8548-4DCE-9CE9-481B80D1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0C40-8CEB-4D16-A416-19A5D258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400-A23D-4AE0-9A4B-006DA2E8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255-CC1A-409E-A3B6-F6F842A1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 rot="16200000">
            <a:off x="6172200" y="3200400"/>
            <a:ext cx="472464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 rot="16200000">
            <a:off x="-1828440" y="3276000"/>
            <a:ext cx="47242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523880" y="304920"/>
            <a:ext cx="60199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447920" y="6095880"/>
            <a:ext cx="60195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4" name="Picture 6" descr="D:\PPT\宣導短片\1.bmp"/>
          <p:cNvPicPr/>
          <p:nvPr/>
        </p:nvPicPr>
        <p:blipFill>
          <a:blip r:embed="rId3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D:\PPT\宣導短片\2.bmp"/>
          <p:cNvPicPr/>
          <p:nvPr/>
        </p:nvPicPr>
        <p:blipFill>
          <a:blip r:embed="rId4"/>
          <a:stretch/>
        </p:blipFill>
        <p:spPr>
          <a:xfrm>
            <a:off x="746748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D:\PPT\宣導短片\3.BMP"/>
          <p:cNvPicPr/>
          <p:nvPr/>
        </p:nvPicPr>
        <p:blipFill>
          <a:blip r:embed="rId5"/>
          <a:stretch/>
        </p:blipFill>
        <p:spPr>
          <a:xfrm>
            <a:off x="7467480" y="5257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D:\PPT\宣導短片\4.bmp"/>
          <p:cNvPicPr/>
          <p:nvPr/>
        </p:nvPicPr>
        <p:blipFill>
          <a:blip r:embed="rId6"/>
          <a:stretch/>
        </p:blipFill>
        <p:spPr>
          <a:xfrm>
            <a:off x="2286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dt" idx="2"/>
          </p:nvPr>
        </p:nvSpPr>
        <p:spPr>
          <a:xfrm>
            <a:off x="685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29E6-9652-4C44-B63D-C51B66E97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 rot="16200000">
            <a:off x="6172200" y="3200400"/>
            <a:ext cx="472464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 rot="16200000">
            <a:off x="-1828440" y="3276000"/>
            <a:ext cx="47242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523880" y="304920"/>
            <a:ext cx="60199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447920" y="6095880"/>
            <a:ext cx="60195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53" name="Picture 7" descr="D:\PPT\宣導短片\1.bmp"/>
          <p:cNvPicPr/>
          <p:nvPr/>
        </p:nvPicPr>
        <p:blipFill>
          <a:blip r:embed="rId3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D:\PPT\宣導短片\2.bmp"/>
          <p:cNvPicPr/>
          <p:nvPr/>
        </p:nvPicPr>
        <p:blipFill>
          <a:blip r:embed="rId4"/>
          <a:stretch/>
        </p:blipFill>
        <p:spPr>
          <a:xfrm>
            <a:off x="746748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D:\PPT\宣導短片\3.BMP"/>
          <p:cNvPicPr/>
          <p:nvPr/>
        </p:nvPicPr>
        <p:blipFill>
          <a:blip r:embed="rId5"/>
          <a:stretch/>
        </p:blipFill>
        <p:spPr>
          <a:xfrm>
            <a:off x="7467480" y="5257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D:\PPT\宣導短片\4.bmp"/>
          <p:cNvPicPr/>
          <p:nvPr/>
        </p:nvPicPr>
        <p:blipFill>
          <a:blip r:embed="rId6"/>
          <a:stretch/>
        </p:blipFill>
        <p:spPr>
          <a:xfrm>
            <a:off x="2286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0477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dt" idx="5"/>
          </p:nvPr>
        </p:nvSpPr>
        <p:spPr>
          <a:xfrm>
            <a:off x="685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6294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F196-21DF-4400-A511-E3BB8FA30093}" type="slidenum">
              <a:rPr b="0" lang="en-US" sz="1400" spc="-1" strike="noStrike">
                <a:solidFill>
                  <a:srgbClr val="ff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78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要的是葫芦</a:t>
            </a:r>
            <a:endParaRPr b="1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599480" y="2124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我会拼读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22680" y="3048120"/>
            <a:ext cx="753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ff"/>
                </a:solidFill>
                <a:latin typeface="Gulim"/>
                <a:ea typeface="Gulim"/>
              </a:rPr>
              <a:t>h</a:t>
            </a:r>
            <a:r>
              <a:rPr b="1" lang="en-US" sz="5400" spc="-1" strike="noStrike">
                <a:solidFill>
                  <a:srgbClr val="ffccff"/>
                </a:solidFill>
                <a:latin typeface="Times New Roman"/>
                <a:ea typeface="Gulim"/>
              </a:rPr>
              <a:t>ú</a:t>
            </a:r>
            <a:r>
              <a:rPr b="1" lang="en-US" sz="5400" spc="-1" strike="noStrike">
                <a:solidFill>
                  <a:srgbClr val="ffccff"/>
                </a:solidFill>
                <a:latin typeface="Gulim"/>
                <a:ea typeface="Gulim"/>
              </a:rPr>
              <a:t> l</a:t>
            </a:r>
            <a:r>
              <a:rPr b="1" lang="en-US" sz="5400" spc="-1" strike="noStrike">
                <a:solidFill>
                  <a:srgbClr val="ffccff"/>
                </a:solidFill>
                <a:latin typeface="Times New Roman"/>
                <a:ea typeface="Gulim"/>
              </a:rPr>
              <a:t>ú</a:t>
            </a:r>
            <a:r>
              <a:rPr b="1" lang="en-US" sz="5400" spc="-1" strike="noStrike">
                <a:solidFill>
                  <a:srgbClr val="ffccff"/>
                </a:solidFill>
                <a:latin typeface="Gulim"/>
                <a:ea typeface="Gulim"/>
              </a:rPr>
              <a:t> t</a:t>
            </a:r>
            <a:r>
              <a:rPr b="1" lang="en-US" sz="5400" spc="-1" strike="noStrike">
                <a:solidFill>
                  <a:srgbClr val="ffccff"/>
                </a:solidFill>
                <a:latin typeface="Times New Roman"/>
                <a:ea typeface="Gulim"/>
              </a:rPr>
              <a:t>é</a:t>
            </a:r>
            <a:r>
              <a:rPr b="1" lang="en-US" sz="5400" spc="-1" strike="noStrike">
                <a:solidFill>
                  <a:srgbClr val="ffccff"/>
                </a:solidFill>
                <a:latin typeface="Gulim"/>
                <a:ea typeface="Gulim"/>
              </a:rPr>
              <a:t>ng wa dīng  l</a:t>
            </a:r>
            <a:r>
              <a:rPr b="1" lang="en-US" sz="5400" spc="-1" strike="noStrike">
                <a:solidFill>
                  <a:srgbClr val="ffccff"/>
                </a:solidFill>
                <a:latin typeface="Times New Roman"/>
                <a:ea typeface="Gulim"/>
              </a:rPr>
              <a:t>í</a:t>
            </a:r>
            <a:r>
              <a:rPr b="1" lang="en-US" sz="5400" spc="-1" strike="noStrike">
                <a:solidFill>
                  <a:srgbClr val="ffccff"/>
                </a:solidFill>
                <a:latin typeface="Gulim"/>
                <a:ea typeface="Gulim"/>
              </a:rPr>
              <a:t>n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葫 芦 藤  哇  盯  邻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2513160" y="41292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251208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会写</a:t>
            </a:r>
            <a:endParaRPr b="0" lang="en-US" sz="8000" spc="-1" strike="noStrike">
              <a:solidFill>
                <a:srgbClr val="ffcc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09680" y="1828800"/>
          <a:ext cx="457200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1" name="Text Box 14"/>
          <p:cNvSpPr/>
          <p:nvPr/>
        </p:nvSpPr>
        <p:spPr>
          <a:xfrm>
            <a:off x="3488040" y="1828800"/>
            <a:ext cx="2161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哇</a:t>
            </a:r>
            <a:endParaRPr b="0" lang="en-US" sz="26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2" name="AutoShape 17">
            <a:hlinkClick r:id="" action="ppaction://hlinkshowjump?jump=lastslide"/>
            <a:hlinkClick r:id="rId2"/>
          </p:cNvPr>
          <p:cNvSpPr/>
          <p:nvPr/>
        </p:nvSpPr>
        <p:spPr>
          <a:xfrm>
            <a:off x="6248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鼓掌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会写</a:t>
            </a:r>
            <a:endParaRPr b="0" lang="en-US" sz="8000" spc="-1" strike="noStrike">
              <a:solidFill>
                <a:srgbClr val="ffcc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09680" y="1828800"/>
          <a:ext cx="457200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14"/>
          <p:cNvSpPr/>
          <p:nvPr/>
        </p:nvSpPr>
        <p:spPr>
          <a:xfrm>
            <a:off x="3488040" y="1828800"/>
            <a:ext cx="2161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怪</a:t>
            </a:r>
            <a:endParaRPr b="0" lang="en-US" sz="26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1069920" y="2863440"/>
            <a:ext cx="10033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奇怪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7253280" y="3016080"/>
            <a:ext cx="10033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怪病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8" name="AutoShape 17">
            <a:hlinkClick r:id="" action="ppaction://hlinkshowjump?jump=lastslide"/>
            <a:hlinkClick r:id="rId2"/>
          </p:cNvPr>
          <p:cNvSpPr/>
          <p:nvPr/>
        </p:nvSpPr>
        <p:spPr>
          <a:xfrm>
            <a:off x="6248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鼓掌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会写</a:t>
            </a:r>
            <a:endParaRPr b="0" lang="en-US" sz="8000" spc="-1" strike="noStrike">
              <a:solidFill>
                <a:srgbClr val="ffcc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09680" y="1828800"/>
          <a:ext cx="457200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14"/>
          <p:cNvSpPr/>
          <p:nvPr/>
        </p:nvSpPr>
        <p:spPr>
          <a:xfrm>
            <a:off x="3488040" y="1828800"/>
            <a:ext cx="2161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慢</a:t>
            </a:r>
            <a:endParaRPr b="0" lang="en-US" sz="26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1069920" y="2634840"/>
            <a:ext cx="10033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慢慢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7013520" y="2939760"/>
            <a:ext cx="10033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太慢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4" name="AutoShape 17">
            <a:hlinkClick r:id="" action="ppaction://hlinkshowjump?jump=lastslide"/>
            <a:hlinkClick r:id="rId2"/>
          </p:cNvPr>
          <p:cNvSpPr/>
          <p:nvPr/>
        </p:nvSpPr>
        <p:spPr>
          <a:xfrm>
            <a:off x="6248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鼓掌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我会读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149560" y="2209680"/>
            <a:ext cx="429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叶子上的虫还用治？</a:t>
            </a:r>
            <a:endParaRPr b="0" lang="en-US" sz="6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叶子上的虫不用治。</a:t>
            </a:r>
            <a:endParaRPr b="0" lang="en-US" sz="6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lastslide"/>
            <a:hlinkClick r:id="rId2"/>
          </p:cNvPr>
          <p:cNvSpPr/>
          <p:nvPr/>
        </p:nvSpPr>
        <p:spPr>
          <a:xfrm>
            <a:off x="6248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鼓掌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219320" y="1325520"/>
            <a:ext cx="67816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有几个虫子怕什么！</a:t>
            </a:r>
            <a:endParaRPr b="0" lang="en-US" sz="6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有几个虫子不可怕。</a:t>
            </a:r>
            <a:endParaRPr b="0" lang="en-US" sz="6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9" name="AutoShape 3">
            <a:hlinkClick r:id="" action="ppaction://hlinkshowjump?jump=lastslide"/>
            <a:hlinkClick r:id="rId2"/>
          </p:cNvPr>
          <p:cNvSpPr/>
          <p:nvPr/>
        </p:nvSpPr>
        <p:spPr>
          <a:xfrm>
            <a:off x="6248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鼓掌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1828800" y="2133720"/>
            <a:ext cx="49528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真聪明！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1" name="AutoShape 3">
            <a:hlinkClick r:id="rId2" action="ppaction://hlinksldjump"/>
          </p:cNvPr>
          <p:cNvSpPr/>
          <p:nvPr/>
        </p:nvSpPr>
        <p:spPr>
          <a:xfrm>
            <a:off x="16002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言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2" name="AutoShape 5">
            <a:hlinkClick r:id="rId3" action="ppaction://hlinksldjump"/>
          </p:cNvPr>
          <p:cNvSpPr/>
          <p:nvPr/>
        </p:nvSpPr>
        <p:spPr>
          <a:xfrm>
            <a:off x="22096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每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3" name="AutoShape 7">
            <a:hlinkClick r:id="rId4" action="ppaction://hlinksldjump"/>
          </p:cNvPr>
          <p:cNvSpPr/>
          <p:nvPr/>
        </p:nvSpPr>
        <p:spPr>
          <a:xfrm>
            <a:off x="289548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治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4" name="AutoShape 9">
            <a:hlinkClick r:id="rId5" action="ppaction://hlinksldjump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棵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5" name="AutoShape 11">
            <a:hlinkClick r:id="rId6" action="ppaction://hlinksldjump"/>
          </p:cNvPr>
          <p:cNvSpPr/>
          <p:nvPr/>
        </p:nvSpPr>
        <p:spPr>
          <a:xfrm>
            <a:off x="43434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挂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6" name="AutoShape 13">
            <a:hlinkClick r:id="rId7" action="ppaction://hlinksldjump"/>
          </p:cNvPr>
          <p:cNvSpPr/>
          <p:nvPr/>
        </p:nvSpPr>
        <p:spPr>
          <a:xfrm>
            <a:off x="51814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哇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7" name="AutoShape 15">
            <a:hlinkClick r:id="rId8" action="ppaction://hlinksldjump"/>
          </p:cNvPr>
          <p:cNvSpPr/>
          <p:nvPr/>
        </p:nvSpPr>
        <p:spPr>
          <a:xfrm>
            <a:off x="59436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怪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8" name="AutoShape 17">
            <a:hlinkClick r:id="rId9" action="ppaction://hlinksldjump"/>
          </p:cNvPr>
          <p:cNvSpPr/>
          <p:nvPr/>
        </p:nvSpPr>
        <p:spPr>
          <a:xfrm>
            <a:off x="655308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慢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9" name="AutoShape 19">
            <a:hlinkClick r:id="rId10" action="ppaction://hlinksldjump"/>
          </p:cNvPr>
          <p:cNvSpPr/>
          <p:nvPr/>
        </p:nvSpPr>
        <p:spPr>
          <a:xfrm>
            <a:off x="304920" y="2438280"/>
            <a:ext cx="457200" cy="15242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1524240"/>
              <a:gd name="textAreaBottom" fmla="*/ 1494720 h 1524240"/>
            </a:gdLst>
            <a:ahLst/>
            <a:rect l="textAreaLeft" t="textAreaTop" r="textAreaRight" b="textAreaBottom"/>
            <a:pathLst>
              <a:path w="21600" h="71972">
                <a:moveTo>
                  <a:pt x="0" y="0"/>
                </a:moveTo>
                <a:lnTo>
                  <a:pt x="21600" y="0"/>
                </a:lnTo>
                <a:lnTo>
                  <a:pt x="21600" y="71972"/>
                </a:lnTo>
                <a:lnTo>
                  <a:pt x="0" y="71972"/>
                </a:lnTo>
                <a:close/>
              </a:path>
              <a:path fill="lightenLess" w="21600" h="71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1972">
                <a:moveTo>
                  <a:pt x="21600" y="0"/>
                </a:moveTo>
                <a:lnTo>
                  <a:pt x="21600" y="71972"/>
                </a:lnTo>
                <a:lnTo>
                  <a:pt x="20200" y="70572"/>
                </a:lnTo>
                <a:lnTo>
                  <a:pt x="20200" y="1400"/>
                </a:lnTo>
                <a:close/>
              </a:path>
              <a:path fill="darkenLess" w="21600" h="71972">
                <a:moveTo>
                  <a:pt x="21600" y="71972"/>
                </a:moveTo>
                <a:lnTo>
                  <a:pt x="0" y="71972"/>
                </a:lnTo>
                <a:lnTo>
                  <a:pt x="1400" y="70572"/>
                </a:lnTo>
                <a:lnTo>
                  <a:pt x="20200" y="70572"/>
                </a:lnTo>
                <a:close/>
              </a:path>
              <a:path fill="lighten" w="21600" h="71972">
                <a:moveTo>
                  <a:pt x="0" y="71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70572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我会读</a:t>
            </a: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70" name="AutoShape 21">
            <a:hlinkClick r:id="rId11" action="ppaction://hlinksldjump"/>
          </p:cNvPr>
          <p:cNvSpPr/>
          <p:nvPr/>
        </p:nvSpPr>
        <p:spPr>
          <a:xfrm>
            <a:off x="8229600" y="2743200"/>
            <a:ext cx="533520" cy="15238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523880"/>
              <a:gd name="textAreaBottom" fmla="*/ 1489320 h 1523880"/>
            </a:gdLst>
            <a:ahLst/>
            <a:rect l="textAreaLeft" t="textAreaTop" r="textAreaRight" b="textAreaBottom"/>
            <a:pathLst>
              <a:path w="21600" h="61669">
                <a:moveTo>
                  <a:pt x="0" y="0"/>
                </a:moveTo>
                <a:lnTo>
                  <a:pt x="21600" y="0"/>
                </a:lnTo>
                <a:lnTo>
                  <a:pt x="21600" y="61669"/>
                </a:lnTo>
                <a:lnTo>
                  <a:pt x="0" y="61669"/>
                </a:lnTo>
                <a:close/>
              </a:path>
              <a:path fill="lightenLess" w="21600" h="6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1669">
                <a:moveTo>
                  <a:pt x="21600" y="0"/>
                </a:moveTo>
                <a:lnTo>
                  <a:pt x="21600" y="61669"/>
                </a:lnTo>
                <a:lnTo>
                  <a:pt x="20200" y="60269"/>
                </a:lnTo>
                <a:lnTo>
                  <a:pt x="20200" y="1400"/>
                </a:lnTo>
                <a:close/>
              </a:path>
              <a:path fill="darkenLess" w="21600" h="61669">
                <a:moveTo>
                  <a:pt x="21600" y="61669"/>
                </a:moveTo>
                <a:lnTo>
                  <a:pt x="0" y="61669"/>
                </a:lnTo>
                <a:lnTo>
                  <a:pt x="1400" y="60269"/>
                </a:lnTo>
                <a:lnTo>
                  <a:pt x="20200" y="60269"/>
                </a:lnTo>
                <a:close/>
              </a:path>
              <a:path fill="lighten" w="21600" h="61669">
                <a:moveTo>
                  <a:pt x="0" y="6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60269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我会读</a:t>
            </a: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续讲故事：第二年，他又种了一棵葫芦，</a:t>
            </a:r>
            <a:r>
              <a:rPr b="1" lang="en-US" sz="7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……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在邻居的帮助下，种葫芦的人明白了叶子和果实的关系，懂得了事物之间是相互有联系的，改变了过去只盯着葫芦，不管蚜虫的做法，最终种出了他想要的葫芦。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ff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c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7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2340-E3AA-4606-9B54-1F2FB28A84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能朗读课文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我会认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988280" y="2106720"/>
            <a:ext cx="5667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葫  芦  藤  </a:t>
            </a:r>
            <a:endParaRPr b="0" lang="en-US" sz="8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哇  盯  邻</a:t>
            </a:r>
            <a:endParaRPr b="0" lang="en-US" sz="8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朗读比赛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、听录音</a:t>
            </a:r>
            <a:endParaRPr b="0" lang="en-US" sz="4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、自由读</a:t>
            </a:r>
            <a:endParaRPr b="0" lang="en-US" sz="4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、组内读</a:t>
            </a:r>
            <a:endParaRPr b="0" lang="en-US" sz="4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4</a:t>
            </a:r>
            <a:r>
              <a:rPr b="1" lang="zh-CN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、教师指名读，学生评价。</a:t>
            </a:r>
            <a:endParaRPr b="0" lang="en-US" sz="4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8" name="文本框 1"/>
          <p:cNvSpPr/>
          <p:nvPr/>
        </p:nvSpPr>
        <p:spPr>
          <a:xfrm>
            <a:off x="1844640" y="6095880"/>
            <a:ext cx="69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会写</a:t>
            </a:r>
            <a:endParaRPr b="1" lang="en-US" sz="8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09680" y="1828800"/>
          <a:ext cx="457200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1" name="Text Box 53"/>
          <p:cNvSpPr/>
          <p:nvPr/>
        </p:nvSpPr>
        <p:spPr>
          <a:xfrm>
            <a:off x="3488040" y="1828800"/>
            <a:ext cx="2161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言</a:t>
            </a:r>
            <a:endParaRPr b="0" lang="en-US" sz="26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12" name="Text Box 54"/>
          <p:cNvSpPr/>
          <p:nvPr/>
        </p:nvSpPr>
        <p:spPr>
          <a:xfrm>
            <a:off x="1090440" y="1872360"/>
            <a:ext cx="10033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自言自语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13" name="Text Box 55"/>
          <p:cNvSpPr/>
          <p:nvPr/>
        </p:nvSpPr>
        <p:spPr>
          <a:xfrm>
            <a:off x="7253280" y="3016080"/>
            <a:ext cx="10033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语言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14" name="AutoShape 56">
            <a:hlinkClick r:id="" action="ppaction://hlinkshowjump?jump=lastslide"/>
            <a:hlinkClick r:id="rId2"/>
          </p:cNvPr>
          <p:cNvSpPr/>
          <p:nvPr/>
        </p:nvSpPr>
        <p:spPr>
          <a:xfrm>
            <a:off x="6248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鼓掌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会写</a:t>
            </a:r>
            <a:endParaRPr b="0" lang="en-US" sz="8000" spc="-1" strike="noStrike">
              <a:solidFill>
                <a:srgbClr val="ffccff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209680" y="1828800"/>
          <a:ext cx="457200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14"/>
          <p:cNvSpPr/>
          <p:nvPr/>
        </p:nvSpPr>
        <p:spPr>
          <a:xfrm>
            <a:off x="3488040" y="1828800"/>
            <a:ext cx="2161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每</a:t>
            </a:r>
            <a:endParaRPr b="0" lang="en-US" sz="26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993600" y="2711160"/>
            <a:ext cx="10033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每天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013520" y="2863440"/>
            <a:ext cx="10033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每人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0" name="AutoShape 17">
            <a:hlinkClick r:id="" action="ppaction://hlinkshowjump?jump=lastslide"/>
            <a:hlinkClick r:id="rId2"/>
          </p:cNvPr>
          <p:cNvSpPr/>
          <p:nvPr/>
        </p:nvSpPr>
        <p:spPr>
          <a:xfrm>
            <a:off x="6248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鼓掌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会写</a:t>
            </a:r>
            <a:endParaRPr b="0" lang="en-US" sz="8000" spc="-1" strike="noStrike">
              <a:solidFill>
                <a:srgbClr val="ffcc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209680" y="1828800"/>
          <a:ext cx="457200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3" name="Text Box 14"/>
          <p:cNvSpPr/>
          <p:nvPr/>
        </p:nvSpPr>
        <p:spPr>
          <a:xfrm>
            <a:off x="3488040" y="1828800"/>
            <a:ext cx="2161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治</a:t>
            </a:r>
            <a:endParaRPr b="0" lang="en-US" sz="26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995400" y="2502360"/>
            <a:ext cx="1185840" cy="23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治虫</a:t>
            </a:r>
            <a:endParaRPr b="0" lang="en-US" sz="66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6939000" y="2730960"/>
            <a:ext cx="1185840" cy="23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治病</a:t>
            </a:r>
            <a:endParaRPr b="0" lang="en-US" sz="66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6" name="AutoShape 17">
            <a:hlinkClick r:id="" action="ppaction://hlinkshowjump?jump=lastslide"/>
            <a:hlinkClick r:id="rId2"/>
          </p:cNvPr>
          <p:cNvSpPr/>
          <p:nvPr/>
        </p:nvSpPr>
        <p:spPr>
          <a:xfrm>
            <a:off x="6248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鼓掌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会写</a:t>
            </a:r>
            <a:endParaRPr b="0" lang="en-US" sz="8000" spc="-1" strike="noStrike">
              <a:solidFill>
                <a:srgbClr val="ffcc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9680" y="1828800"/>
          <a:ext cx="457200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9" name="Text Box 14"/>
          <p:cNvSpPr/>
          <p:nvPr/>
        </p:nvSpPr>
        <p:spPr>
          <a:xfrm>
            <a:off x="3488040" y="1828800"/>
            <a:ext cx="2161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棵</a:t>
            </a:r>
            <a:endParaRPr b="0" lang="en-US" sz="26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090440" y="3339000"/>
            <a:ext cx="10033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一棵葫芦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7089840" y="2505240"/>
            <a:ext cx="10033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两棵树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2" name="AutoShape 17">
            <a:hlinkClick r:id="" action="ppaction://hlinkshowjump?jump=lastslide"/>
            <a:hlinkClick r:id="rId2"/>
          </p:cNvPr>
          <p:cNvSpPr/>
          <p:nvPr/>
        </p:nvSpPr>
        <p:spPr>
          <a:xfrm>
            <a:off x="6248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鼓掌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会写</a:t>
            </a:r>
            <a:endParaRPr b="0" lang="en-US" sz="8000" spc="-1" strike="noStrike">
              <a:solidFill>
                <a:srgbClr val="ffcc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09680" y="1828800"/>
          <a:ext cx="457200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3488040" y="1828800"/>
            <a:ext cx="2161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挂</a:t>
            </a:r>
            <a:endParaRPr b="0" lang="en-US" sz="26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1090440" y="2001960"/>
            <a:ext cx="10033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挂衣服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7013520" y="2787480"/>
            <a:ext cx="10033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挂着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8" name="AutoShape 17">
            <a:hlinkClick r:id="" action="ppaction://hlinkshowjump?jump=lastslide"/>
            <a:hlinkClick r:id="rId2"/>
          </p:cNvPr>
          <p:cNvSpPr/>
          <p:nvPr/>
        </p:nvSpPr>
        <p:spPr>
          <a:xfrm>
            <a:off x="6248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鼓掌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0:16:25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52:54Z</dcterms:modified>
  <cp:revision>14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