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8B8-52A3-4520-B033-6FDBEBE6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000-4ACF-44EB-B660-34F4F58D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C80-906E-446C-A2D1-CFFF9003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5D2-140C-47EB-911A-82737438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B06-2398-462F-AE3B-10DE6706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F7B-55D2-4C7F-A959-4BA908DB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170-56D5-4869-AD63-C51EA8F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0A5-D6AE-49B8-90A7-82655419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87E-778B-4BBA-88BF-6D3877AA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CA6-362B-4ABA-9B6E-28B1C308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648-DEDE-44EE-B5E1-AC9CD432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D0A-5377-47E4-8EA1-7A8E3E3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9280-84AD-40E6-8114-CEAB338A3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692360" y="4365720"/>
            <a:ext cx="561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968400" y="1484280"/>
            <a:ext cx="6985080" cy="255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多种方法解答小数加减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25800" y="414972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八册教材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39940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4802-DCA6-4EDD-BD65-E2E3A8730E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50920" y="333360"/>
            <a:ext cx="83534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看谁算得又对又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28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5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9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1-3.5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-2.7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95280" y="40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环城自行车赛各赛段资料一览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赛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里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里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40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今天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赛段的比赛已经结束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完成比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行车运动员还要骑多少千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试一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有几种方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42920" y="2014560"/>
            <a:ext cx="712800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3.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9.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8.8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19120" y="3789360"/>
            <a:ext cx="41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3.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8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40360" y="4581360"/>
            <a:ext cx="19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5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49520" y="2492280"/>
            <a:ext cx="433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45.7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9.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65720" y="3500280"/>
            <a:ext cx="23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 45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00000" y="189000"/>
            <a:ext cx="6842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5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0.7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9.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71640" y="620640"/>
            <a:ext cx="6264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83.4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9.8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8.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55640" y="278136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43.9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8.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8360" y="3933720"/>
            <a:ext cx="38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26920" y="4076640"/>
            <a:ext cx="40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45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1052640"/>
            <a:ext cx="56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250920" y="907920"/>
            <a:ext cx="8642160" cy="298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种方法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最喜欢哪一种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为什么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833400" y="5324400"/>
            <a:ext cx="59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404640"/>
            <a:ext cx="8209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练一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球表面面积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亿平方千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其中陆地面积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亿平方千米。海洋面积比陆地面积多多少亿平方千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84360" y="1197000"/>
            <a:ext cx="48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24000" y="260280"/>
            <a:ext cx="82087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比一比：谁算得又队又快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8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3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8.7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1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7.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6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6.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6.7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9.5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5.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547640" y="537372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你用了什么好方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15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16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