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8E6-A295-42B9-B56D-140D305F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006-49BF-4D2A-B91B-41C6AFB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84D-5583-4B18-B46B-9D440A39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F36-D211-4431-B86E-42D8FA4A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F33-B30E-4F6A-BFBB-2E4F5670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1E2-A5E0-4215-9B43-6D12660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922-5228-4D1B-A061-5FCA13C8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D3B-B18F-4975-8F22-E774A880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DEE-3720-4E5A-B40C-C5F32C46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979-5E6A-4757-AE1F-394C38E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1E7-F6BE-462A-90B1-3883B60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307-3191-4CDF-B2DE-4AB5989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0733-F912-4AA2-9BA6-ACB392120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42920" y="1865160"/>
            <a:ext cx="72946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66"/>
                </a:solidFill>
                <a:latin typeface="Times New Roman"/>
                <a:ea typeface="方正水柱简体"/>
              </a:rPr>
              <a:t>圆 的 面 积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510640" y="59626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362880" y="1311480"/>
            <a:ext cx="7674480" cy="2747160"/>
            <a:chOff x="362880" y="1311480"/>
            <a:chExt cx="7674480" cy="2747160"/>
          </a:xfrm>
        </p:grpSpPr>
        <p:sp>
          <p:nvSpPr>
            <p:cNvPr id="150" name="Freeform 3"/>
            <p:cNvSpPr/>
            <p:nvPr/>
          </p:nvSpPr>
          <p:spPr>
            <a:xfrm rot="4428600">
              <a:off x="60480" y="20721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4"/>
            <p:cNvSpPr/>
            <p:nvPr/>
          </p:nvSpPr>
          <p:spPr>
            <a:xfrm rot="4482000">
              <a:off x="1279800" y="20754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5"/>
            <p:cNvSpPr/>
            <p:nvPr/>
          </p:nvSpPr>
          <p:spPr>
            <a:xfrm rot="921000">
              <a:off x="2625120" y="1443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6"/>
            <p:cNvSpPr/>
            <p:nvPr/>
          </p:nvSpPr>
          <p:spPr>
            <a:xfrm flipH="1" rot="17172000">
              <a:off x="5851440" y="20592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 flipH="1" rot="17055600">
              <a:off x="4556880" y="20707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 flipH="1" rot="20733600">
              <a:off x="4460040" y="1449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6"/>
          <p:cNvGrpSpPr/>
          <p:nvPr/>
        </p:nvGrpSpPr>
        <p:grpSpPr>
          <a:xfrm>
            <a:off x="992160" y="2579760"/>
            <a:ext cx="7674120" cy="2747520"/>
            <a:chOff x="992160" y="2579760"/>
            <a:chExt cx="7674120" cy="2747520"/>
          </a:xfrm>
        </p:grpSpPr>
        <p:sp>
          <p:nvSpPr>
            <p:cNvPr id="157" name="Freeform 10"/>
            <p:cNvSpPr/>
            <p:nvPr/>
          </p:nvSpPr>
          <p:spPr>
            <a:xfrm flipV="1" rot="17171400">
              <a:off x="689400" y="33271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 flipV="1" rot="17118000">
              <a:off x="1908720" y="33242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 flipV="1" rot="20654400">
              <a:off x="3288960" y="270792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3"/>
            <p:cNvSpPr/>
            <p:nvPr/>
          </p:nvSpPr>
          <p:spPr>
            <a:xfrm flipH="1" flipV="1" rot="4428000">
              <a:off x="6480360" y="33404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 flipH="1" flipV="1" rot="4544400">
              <a:off x="5184360" y="332964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 flipH="1" flipV="1" rot="866400">
              <a:off x="5088960" y="270288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362880" y="1311480"/>
            <a:ext cx="7674480" cy="2747160"/>
            <a:chOff x="362880" y="1311480"/>
            <a:chExt cx="7674480" cy="2747160"/>
          </a:xfrm>
        </p:grpSpPr>
        <p:sp>
          <p:nvSpPr>
            <p:cNvPr id="164" name="Freeform 3"/>
            <p:cNvSpPr/>
            <p:nvPr/>
          </p:nvSpPr>
          <p:spPr>
            <a:xfrm rot="4428600">
              <a:off x="60480" y="20721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 rot="4482000">
              <a:off x="1279800" y="20754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 rot="921000">
              <a:off x="2625120" y="1443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flipH="1" rot="17172000">
              <a:off x="5851440" y="20592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 flipH="1" rot="17055600">
              <a:off x="4556880" y="20707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 flipH="1" rot="20733600">
              <a:off x="4460040" y="1449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9"/>
          <p:cNvGrpSpPr/>
          <p:nvPr/>
        </p:nvGrpSpPr>
        <p:grpSpPr>
          <a:xfrm>
            <a:off x="992160" y="2236680"/>
            <a:ext cx="7674120" cy="2747520"/>
            <a:chOff x="992160" y="2236680"/>
            <a:chExt cx="7674120" cy="2747520"/>
          </a:xfrm>
        </p:grpSpPr>
        <p:sp>
          <p:nvSpPr>
            <p:cNvPr id="171" name="Freeform 10"/>
            <p:cNvSpPr/>
            <p:nvPr/>
          </p:nvSpPr>
          <p:spPr>
            <a:xfrm flipV="1" rot="17171400">
              <a:off x="689400" y="29840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 flipV="1" rot="17118000">
              <a:off x="1908720" y="29811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 flipV="1" rot="20654400">
              <a:off x="3288960" y="236484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 flipH="1" flipV="1" rot="4428000">
              <a:off x="6480360" y="29973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 flipH="1" flipV="1" rot="4544400">
              <a:off x="5184360" y="29865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 flipH="1" flipV="1" rot="866400">
              <a:off x="5088960" y="235980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362880" y="1311480"/>
            <a:ext cx="7674480" cy="2747160"/>
            <a:chOff x="362880" y="1311480"/>
            <a:chExt cx="7674480" cy="2747160"/>
          </a:xfrm>
        </p:grpSpPr>
        <p:sp>
          <p:nvSpPr>
            <p:cNvPr id="178" name="Freeform 3"/>
            <p:cNvSpPr/>
            <p:nvPr/>
          </p:nvSpPr>
          <p:spPr>
            <a:xfrm rot="4428600">
              <a:off x="60480" y="20721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4"/>
            <p:cNvSpPr/>
            <p:nvPr/>
          </p:nvSpPr>
          <p:spPr>
            <a:xfrm rot="4482000">
              <a:off x="1279800" y="20754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 rot="921000">
              <a:off x="2625120" y="1443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 flipH="1" rot="17172000">
              <a:off x="5851440" y="20592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 flipH="1" rot="17055600">
              <a:off x="4556880" y="20707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 flipH="1" rot="20733600">
              <a:off x="4460040" y="1449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992160" y="1951200"/>
            <a:ext cx="7674120" cy="2747520"/>
            <a:chOff x="992160" y="1951200"/>
            <a:chExt cx="7674120" cy="2747520"/>
          </a:xfrm>
        </p:grpSpPr>
        <p:sp>
          <p:nvSpPr>
            <p:cNvPr id="185" name="Freeform 10"/>
            <p:cNvSpPr/>
            <p:nvPr/>
          </p:nvSpPr>
          <p:spPr>
            <a:xfrm flipV="1" rot="17171400">
              <a:off x="689400" y="26985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 flipV="1" rot="17118000">
              <a:off x="1908720" y="26956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 flipV="1" rot="20654400">
              <a:off x="3288960" y="20793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 flipH="1" flipV="1" rot="4428000">
              <a:off x="6480360" y="27118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 flipH="1" flipV="1" rot="4544400">
              <a:off x="5184360" y="270108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 flipH="1" flipV="1" rot="866400">
              <a:off x="5088960" y="20743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7"/>
          <p:cNvGrpSpPr/>
          <p:nvPr/>
        </p:nvGrpSpPr>
        <p:grpSpPr>
          <a:xfrm>
            <a:off x="371160" y="1311480"/>
            <a:ext cx="7666200" cy="2746440"/>
            <a:chOff x="371160" y="1311480"/>
            <a:chExt cx="7666200" cy="2746440"/>
          </a:xfrm>
        </p:grpSpPr>
        <p:sp>
          <p:nvSpPr>
            <p:cNvPr id="192" name="Freeform 3"/>
            <p:cNvSpPr/>
            <p:nvPr/>
          </p:nvSpPr>
          <p:spPr>
            <a:xfrm rot="4455000">
              <a:off x="60480" y="20721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4"/>
            <p:cNvSpPr/>
            <p:nvPr/>
          </p:nvSpPr>
          <p:spPr>
            <a:xfrm rot="4482000">
              <a:off x="1279800" y="20754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 rot="921000">
              <a:off x="2625120" y="1443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 flipH="1" rot="17172000">
              <a:off x="5851440" y="20592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 flipH="1" rot="17055600">
              <a:off x="4556880" y="20707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 flipH="1" rot="20733600">
              <a:off x="4460040" y="1449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3"/>
          <p:cNvGrpSpPr/>
          <p:nvPr/>
        </p:nvGrpSpPr>
        <p:grpSpPr>
          <a:xfrm>
            <a:off x="1023840" y="1695240"/>
            <a:ext cx="7606800" cy="2736720"/>
            <a:chOff x="1023840" y="1695240"/>
            <a:chExt cx="7606800" cy="2736720"/>
          </a:xfrm>
        </p:grpSpPr>
        <p:sp>
          <p:nvSpPr>
            <p:cNvPr id="199" name="Freeform 10"/>
            <p:cNvSpPr/>
            <p:nvPr/>
          </p:nvSpPr>
          <p:spPr>
            <a:xfrm flipV="1" rot="17065800">
              <a:off x="689040" y="24415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 flipV="1" rot="17118000">
              <a:off x="1908360" y="243900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 flipV="1" rot="20654400">
              <a:off x="3288960" y="1821600"/>
              <a:ext cx="123156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 flipH="1" flipV="1" rot="4542600">
              <a:off x="6479640" y="2454480"/>
              <a:ext cx="2487600" cy="12376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 flipH="1" flipV="1" rot="4544400">
              <a:off x="5185440" y="24436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 flipH="1" flipV="1" rot="866400">
              <a:off x="5088600" y="18169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Line 18"/>
          <p:cNvSpPr/>
          <p:nvPr/>
        </p:nvSpPr>
        <p:spPr>
          <a:xfrm>
            <a:off x="314280" y="1577880"/>
            <a:ext cx="7765920" cy="158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9"/>
          <p:cNvSpPr/>
          <p:nvPr/>
        </p:nvSpPr>
        <p:spPr>
          <a:xfrm>
            <a:off x="942840" y="4172040"/>
            <a:ext cx="7766280" cy="158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7994520" y="1593720"/>
            <a:ext cx="0" cy="259416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0E2C-9A39-4053-B942-8B1FC18691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4238640" y="22399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2092320" y="32767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15"/>
          <p:cNvSpPr/>
          <p:nvPr/>
        </p:nvSpPr>
        <p:spPr>
          <a:xfrm>
            <a:off x="2048040" y="790560"/>
            <a:ext cx="5025960" cy="502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47680" y="6224760"/>
            <a:ext cx="10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41"/>
          <p:cNvSpPr/>
          <p:nvPr/>
        </p:nvSpPr>
        <p:spPr>
          <a:xfrm>
            <a:off x="2048040" y="790560"/>
            <a:ext cx="5025960" cy="502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Object 7" descr=""/>
          <p:cNvPicPr/>
          <p:nvPr/>
        </p:nvPicPr>
        <p:blipFill>
          <a:blip r:embed="rId2"/>
          <a:stretch/>
        </p:blipFill>
        <p:spPr>
          <a:xfrm>
            <a:off x="2057400" y="3263760"/>
            <a:ext cx="5052960" cy="26672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 flipH="1">
            <a:off x="2057040" y="3276720"/>
            <a:ext cx="49878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4"/>
          <p:cNvGrpSpPr/>
          <p:nvPr/>
        </p:nvGrpSpPr>
        <p:grpSpPr>
          <a:xfrm>
            <a:off x="2057400" y="771480"/>
            <a:ext cx="5001480" cy="5085360"/>
            <a:chOff x="2057400" y="771480"/>
            <a:chExt cx="5001480" cy="5085360"/>
          </a:xfrm>
        </p:grpSpPr>
        <p:grpSp>
          <p:nvGrpSpPr>
            <p:cNvPr id="51" name="Group 33"/>
            <p:cNvGrpSpPr/>
            <p:nvPr/>
          </p:nvGrpSpPr>
          <p:grpSpPr>
            <a:xfrm>
              <a:off x="2085840" y="771480"/>
              <a:ext cx="4973040" cy="2537640"/>
              <a:chOff x="2085840" y="771480"/>
              <a:chExt cx="4973040" cy="2537640"/>
            </a:xfrm>
          </p:grpSpPr>
          <p:sp>
            <p:nvSpPr>
              <p:cNvPr id="52" name="Freeform 14"/>
              <p:cNvSpPr/>
              <p:nvPr/>
            </p:nvSpPr>
            <p:spPr>
              <a:xfrm>
                <a:off x="2085840" y="205488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8"/>
              <p:cNvSpPr/>
              <p:nvPr/>
            </p:nvSpPr>
            <p:spPr>
              <a:xfrm rot="1807800">
                <a:off x="2562120" y="150444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9"/>
              <p:cNvSpPr/>
              <p:nvPr/>
            </p:nvSpPr>
            <p:spPr>
              <a:xfrm>
                <a:off x="3340440" y="771480"/>
                <a:ext cx="123660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22"/>
              <p:cNvSpPr/>
              <p:nvPr/>
            </p:nvSpPr>
            <p:spPr>
              <a:xfrm flipH="1">
                <a:off x="4561200" y="205488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23"/>
              <p:cNvSpPr/>
              <p:nvPr/>
            </p:nvSpPr>
            <p:spPr>
              <a:xfrm flipH="1" rot="19792200">
                <a:off x="4084200" y="1504800"/>
                <a:ext cx="249804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24"/>
              <p:cNvSpPr/>
              <p:nvPr/>
            </p:nvSpPr>
            <p:spPr>
              <a:xfrm flipH="1">
                <a:off x="4566600" y="771480"/>
                <a:ext cx="123660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Group 32"/>
            <p:cNvGrpSpPr/>
            <p:nvPr/>
          </p:nvGrpSpPr>
          <p:grpSpPr>
            <a:xfrm>
              <a:off x="2057400" y="3319560"/>
              <a:ext cx="4972680" cy="2537280"/>
              <a:chOff x="2057400" y="3319560"/>
              <a:chExt cx="4972680" cy="2537280"/>
            </a:xfrm>
          </p:grpSpPr>
          <p:sp>
            <p:nvSpPr>
              <p:cNvPr id="59" name="Freeform 25"/>
              <p:cNvSpPr/>
              <p:nvPr/>
            </p:nvSpPr>
            <p:spPr>
              <a:xfrm flipV="1">
                <a:off x="2057400" y="331956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26"/>
              <p:cNvSpPr/>
              <p:nvPr/>
            </p:nvSpPr>
            <p:spPr>
              <a:xfrm flipV="1" rot="19792200">
                <a:off x="2533680" y="3869280"/>
                <a:ext cx="249804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 flipV="1">
                <a:off x="3311640" y="3334680"/>
                <a:ext cx="123660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28"/>
              <p:cNvSpPr/>
              <p:nvPr/>
            </p:nvSpPr>
            <p:spPr>
              <a:xfrm flipH="1" flipV="1">
                <a:off x="4532400" y="331956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29"/>
              <p:cNvSpPr/>
              <p:nvPr/>
            </p:nvSpPr>
            <p:spPr>
              <a:xfrm flipH="1" flipV="1" rot="1807800">
                <a:off x="4055760" y="3869280"/>
                <a:ext cx="249804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30"/>
              <p:cNvSpPr/>
              <p:nvPr/>
            </p:nvSpPr>
            <p:spPr>
              <a:xfrm flipH="1" flipV="1">
                <a:off x="4538160" y="3334680"/>
                <a:ext cx="123660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6"/>
          <p:cNvGrpSpPr/>
          <p:nvPr/>
        </p:nvGrpSpPr>
        <p:grpSpPr>
          <a:xfrm>
            <a:off x="1615320" y="383040"/>
            <a:ext cx="6198840" cy="3054960"/>
            <a:chOff x="1615320" y="383040"/>
            <a:chExt cx="6198840" cy="3054960"/>
          </a:xfrm>
        </p:grpSpPr>
        <p:sp>
          <p:nvSpPr>
            <p:cNvPr id="66" name="Freeform 3"/>
            <p:cNvSpPr/>
            <p:nvPr/>
          </p:nvSpPr>
          <p:spPr>
            <a:xfrm rot="1211400">
              <a:off x="1752480" y="17330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4"/>
            <p:cNvSpPr/>
            <p:nvPr/>
          </p:nvSpPr>
          <p:spPr>
            <a:xfrm rot="2385600">
              <a:off x="2437920" y="11995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5"/>
            <p:cNvSpPr/>
            <p:nvPr/>
          </p:nvSpPr>
          <p:spPr>
            <a:xfrm rot="188400">
              <a:off x="3335400" y="4377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6"/>
            <p:cNvSpPr/>
            <p:nvPr/>
          </p:nvSpPr>
          <p:spPr>
            <a:xfrm flipH="1" rot="20106000">
              <a:off x="5181120" y="1733040"/>
              <a:ext cx="24876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7"/>
            <p:cNvSpPr/>
            <p:nvPr/>
          </p:nvSpPr>
          <p:spPr>
            <a:xfrm flipH="1" rot="18993000">
              <a:off x="4419720" y="11995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8"/>
            <p:cNvSpPr/>
            <p:nvPr/>
          </p:nvSpPr>
          <p:spPr>
            <a:xfrm flipH="1" rot="21256800">
              <a:off x="4723920" y="4381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7"/>
          <p:cNvGrpSpPr/>
          <p:nvPr/>
        </p:nvGrpSpPr>
        <p:grpSpPr>
          <a:xfrm>
            <a:off x="1614960" y="3477240"/>
            <a:ext cx="6199560" cy="3054960"/>
            <a:chOff x="1614960" y="3477240"/>
            <a:chExt cx="6199560" cy="3054960"/>
          </a:xfrm>
        </p:grpSpPr>
        <p:sp>
          <p:nvSpPr>
            <p:cNvPr id="73" name="Freeform 18"/>
            <p:cNvSpPr/>
            <p:nvPr/>
          </p:nvSpPr>
          <p:spPr>
            <a:xfrm flipV="1" rot="20388600">
              <a:off x="1752480" y="39430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 flipV="1" rot="19214400">
              <a:off x="2437920" y="44766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 flipV="1" rot="21411600">
              <a:off x="3335400" y="39877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 flipH="1" flipV="1" rot="1494000">
              <a:off x="5181120" y="3943080"/>
              <a:ext cx="24876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 flipH="1" flipV="1" rot="2607000">
              <a:off x="4419720" y="44766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 flipH="1" flipV="1" rot="343200">
              <a:off x="4723920" y="3987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9"/>
          <p:cNvGrpSpPr/>
          <p:nvPr/>
        </p:nvGrpSpPr>
        <p:grpSpPr>
          <a:xfrm>
            <a:off x="982080" y="285120"/>
            <a:ext cx="7337880" cy="3169440"/>
            <a:chOff x="982080" y="285120"/>
            <a:chExt cx="7337880" cy="3169440"/>
          </a:xfrm>
        </p:grpSpPr>
        <p:sp>
          <p:nvSpPr>
            <p:cNvPr id="80" name="Freeform 3"/>
            <p:cNvSpPr/>
            <p:nvPr/>
          </p:nvSpPr>
          <p:spPr>
            <a:xfrm rot="3217200">
              <a:off x="974160" y="1461600"/>
              <a:ext cx="248904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 rot="3763800">
              <a:off x="2041200" y="1156680"/>
              <a:ext cx="248904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 rot="602400">
              <a:off x="3201480" y="380880"/>
              <a:ext cx="123192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flipH="1" rot="18318000">
              <a:off x="5850360" y="1461600"/>
              <a:ext cx="248904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 flipH="1" rot="17936400">
              <a:off x="4784400" y="1156680"/>
              <a:ext cx="24894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 flipH="1" rot="20931000">
              <a:off x="4878000" y="380520"/>
              <a:ext cx="123192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10"/>
          <p:cNvGrpSpPr/>
          <p:nvPr/>
        </p:nvGrpSpPr>
        <p:grpSpPr>
          <a:xfrm>
            <a:off x="1058400" y="3403440"/>
            <a:ext cx="7337880" cy="3169440"/>
            <a:chOff x="1058400" y="3403440"/>
            <a:chExt cx="7337880" cy="3169440"/>
          </a:xfrm>
        </p:grpSpPr>
        <p:sp>
          <p:nvSpPr>
            <p:cNvPr id="87" name="Freeform 11"/>
            <p:cNvSpPr/>
            <p:nvPr/>
          </p:nvSpPr>
          <p:spPr>
            <a:xfrm flipV="1" rot="18382800">
              <a:off x="1050480" y="4158000"/>
              <a:ext cx="248904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2"/>
            <p:cNvSpPr/>
            <p:nvPr/>
          </p:nvSpPr>
          <p:spPr>
            <a:xfrm flipV="1" rot="17836200">
              <a:off x="2117520" y="4462200"/>
              <a:ext cx="248904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 flipV="1" rot="20997600">
              <a:off x="3278160" y="3985920"/>
              <a:ext cx="123192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4"/>
            <p:cNvSpPr/>
            <p:nvPr/>
          </p:nvSpPr>
          <p:spPr>
            <a:xfrm flipH="1" flipV="1" rot="3282000">
              <a:off x="5926680" y="4157280"/>
              <a:ext cx="248904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5"/>
            <p:cNvSpPr/>
            <p:nvPr/>
          </p:nvSpPr>
          <p:spPr>
            <a:xfrm flipH="1" flipV="1" rot="3663600">
              <a:off x="4860360" y="4461840"/>
              <a:ext cx="24894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 flipH="1" flipV="1" rot="669000">
              <a:off x="4954320" y="3986280"/>
              <a:ext cx="123192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591480" y="397080"/>
            <a:ext cx="7674480" cy="2747160"/>
            <a:chOff x="591480" y="397080"/>
            <a:chExt cx="7674480" cy="2747160"/>
          </a:xfrm>
        </p:grpSpPr>
        <p:sp>
          <p:nvSpPr>
            <p:cNvPr id="94" name="Freeform 3"/>
            <p:cNvSpPr/>
            <p:nvPr/>
          </p:nvSpPr>
          <p:spPr>
            <a:xfrm rot="4428600">
              <a:off x="289080" y="11577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4"/>
            <p:cNvSpPr/>
            <p:nvPr/>
          </p:nvSpPr>
          <p:spPr>
            <a:xfrm rot="4482000">
              <a:off x="1508400" y="11610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 rot="921000">
              <a:off x="2853720" y="5295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6"/>
            <p:cNvSpPr/>
            <p:nvPr/>
          </p:nvSpPr>
          <p:spPr>
            <a:xfrm flipH="1" rot="17172000">
              <a:off x="6080040" y="11448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 flipH="1" rot="17055600">
              <a:off x="4785480" y="11563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 flipH="1" rot="20733600">
              <a:off x="4688640" y="5349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591840" y="3551760"/>
            <a:ext cx="7674120" cy="2747160"/>
            <a:chOff x="591840" y="3551760"/>
            <a:chExt cx="7674120" cy="2747160"/>
          </a:xfrm>
        </p:grpSpPr>
        <p:sp>
          <p:nvSpPr>
            <p:cNvPr id="101" name="Freeform 12"/>
            <p:cNvSpPr/>
            <p:nvPr/>
          </p:nvSpPr>
          <p:spPr>
            <a:xfrm flipV="1" rot="17171400">
              <a:off x="289080" y="42991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 flipV="1" rot="17118000">
              <a:off x="1508400" y="42958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 flipV="1" rot="20679000">
              <a:off x="2853720" y="367668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 flipH="1" flipV="1" rot="4428000">
              <a:off x="6080040" y="43120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 flipH="1" flipV="1" rot="4544400">
              <a:off x="4785480" y="43012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 flipH="1" flipV="1" rot="866400">
              <a:off x="4688640" y="367128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448560" y="597240"/>
            <a:ext cx="7674480" cy="2747160"/>
            <a:chOff x="448560" y="597240"/>
            <a:chExt cx="7674480" cy="2747160"/>
          </a:xfrm>
        </p:grpSpPr>
        <p:sp>
          <p:nvSpPr>
            <p:cNvPr id="108" name="Freeform 3"/>
            <p:cNvSpPr/>
            <p:nvPr/>
          </p:nvSpPr>
          <p:spPr>
            <a:xfrm rot="4428600">
              <a:off x="146160" y="13579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 rot="4482000">
              <a:off x="1365480" y="13611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 rot="921000">
              <a:off x="2710800" y="72972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 flipH="1" rot="17172000">
              <a:off x="5937120" y="13449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 flipH="1" rot="17055600">
              <a:off x="4642560" y="13564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 flipH="1" rot="20733600">
              <a:off x="4545720" y="7351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848880" y="3380040"/>
            <a:ext cx="7674120" cy="2747160"/>
            <a:chOff x="848880" y="3380040"/>
            <a:chExt cx="7674120" cy="2747160"/>
          </a:xfrm>
        </p:grpSpPr>
        <p:sp>
          <p:nvSpPr>
            <p:cNvPr id="115" name="Freeform 10"/>
            <p:cNvSpPr/>
            <p:nvPr/>
          </p:nvSpPr>
          <p:spPr>
            <a:xfrm flipV="1" rot="17171400">
              <a:off x="546120" y="412740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 flipV="1" rot="17118000">
              <a:off x="1765440" y="41241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 flipV="1" rot="20679000">
              <a:off x="3110760" y="3504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 flipH="1" flipV="1" rot="4428000">
              <a:off x="6337080" y="41403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 flipH="1" flipV="1" rot="4544400">
              <a:off x="5042520" y="41295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 flipH="1" flipV="1" rot="866400">
              <a:off x="4945680" y="34995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62880" y="883080"/>
            <a:ext cx="7674480" cy="2747160"/>
            <a:chOff x="362880" y="883080"/>
            <a:chExt cx="7674480" cy="2747160"/>
          </a:xfrm>
        </p:grpSpPr>
        <p:sp>
          <p:nvSpPr>
            <p:cNvPr id="122" name="Freeform 3"/>
            <p:cNvSpPr/>
            <p:nvPr/>
          </p:nvSpPr>
          <p:spPr>
            <a:xfrm rot="4428600">
              <a:off x="60480" y="16437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 rot="4482000">
              <a:off x="1279800" y="16470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 rot="921000">
              <a:off x="2625120" y="10155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flipH="1" rot="17172000">
              <a:off x="5851440" y="16308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 flipH="1" rot="17055600">
              <a:off x="4556880" y="16423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 flipH="1" rot="20733600">
              <a:off x="4460040" y="10209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9"/>
          <p:cNvGrpSpPr/>
          <p:nvPr/>
        </p:nvGrpSpPr>
        <p:grpSpPr>
          <a:xfrm>
            <a:off x="963360" y="3094560"/>
            <a:ext cx="7674120" cy="2747160"/>
            <a:chOff x="963360" y="3094560"/>
            <a:chExt cx="7674120" cy="2747160"/>
          </a:xfrm>
        </p:grpSpPr>
        <p:sp>
          <p:nvSpPr>
            <p:cNvPr id="129" name="Freeform 10"/>
            <p:cNvSpPr/>
            <p:nvPr/>
          </p:nvSpPr>
          <p:spPr>
            <a:xfrm flipV="1" rot="17171400">
              <a:off x="660600" y="38419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 flipV="1" rot="17118000">
              <a:off x="1879920" y="38386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 flipV="1" rot="20679000">
              <a:off x="3225240" y="321948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 flipH="1" flipV="1" rot="4428000">
              <a:off x="6451560" y="38548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 flipH="1" flipV="1" rot="4544400">
              <a:off x="5157000" y="38440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 flipH="1" flipV="1" rot="866400">
              <a:off x="5060160" y="321408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62880" y="1168920"/>
            <a:ext cx="7674480" cy="2747160"/>
            <a:chOff x="362880" y="1168920"/>
            <a:chExt cx="7674480" cy="2747160"/>
          </a:xfrm>
        </p:grpSpPr>
        <p:sp>
          <p:nvSpPr>
            <p:cNvPr id="136" name="Freeform 3"/>
            <p:cNvSpPr/>
            <p:nvPr/>
          </p:nvSpPr>
          <p:spPr>
            <a:xfrm rot="4428600">
              <a:off x="60480" y="192960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 rot="4482000">
              <a:off x="1279800" y="19328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 rot="921000">
              <a:off x="2625120" y="130140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 flipH="1" rot="17172000">
              <a:off x="5851440" y="19166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7"/>
            <p:cNvSpPr/>
            <p:nvPr/>
          </p:nvSpPr>
          <p:spPr>
            <a:xfrm flipH="1" rot="17055600">
              <a:off x="4556880" y="19281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8"/>
            <p:cNvSpPr/>
            <p:nvPr/>
          </p:nvSpPr>
          <p:spPr>
            <a:xfrm flipH="1" rot="20733600">
              <a:off x="4460040" y="130680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9"/>
          <p:cNvGrpSpPr/>
          <p:nvPr/>
        </p:nvGrpSpPr>
        <p:grpSpPr>
          <a:xfrm>
            <a:off x="934920" y="2837160"/>
            <a:ext cx="7674120" cy="2747160"/>
            <a:chOff x="934920" y="2837160"/>
            <a:chExt cx="7674120" cy="2747160"/>
          </a:xfrm>
        </p:grpSpPr>
        <p:sp>
          <p:nvSpPr>
            <p:cNvPr id="143" name="Freeform 10"/>
            <p:cNvSpPr/>
            <p:nvPr/>
          </p:nvSpPr>
          <p:spPr>
            <a:xfrm flipV="1" rot="17171400">
              <a:off x="632160" y="35845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1"/>
            <p:cNvSpPr/>
            <p:nvPr/>
          </p:nvSpPr>
          <p:spPr>
            <a:xfrm flipV="1" rot="17118000">
              <a:off x="1851480" y="35812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 flipV="1" rot="20679000">
              <a:off x="3196800" y="296208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 flipH="1" flipV="1" rot="4428000">
              <a:off x="6423120" y="35974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 flipH="1" flipV="1" rot="4544400">
              <a:off x="5128560" y="35866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 flipH="1" flipV="1" rot="866400">
              <a:off x="5031720" y="295668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3:38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31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