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EEA2-73B6-483B-A2EE-1A57F336F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EB2-7FD7-4C29-A5E6-A9983F5B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899D-9F32-4888-9AAB-0C0733C2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7F7-1145-4C9D-BE62-1E2B664C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D1D-5948-4CD8-89BE-4B1E54D3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FDF-FB34-4E8F-9F1E-357A3C65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780A-CDD7-4ED5-8861-881FE6F8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997F-9B23-4C2F-8F9E-97DFF327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A220-D9AC-45A8-8436-36DF9164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6556-2AE0-4155-9FC7-355234A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6582-8BC1-4B26-BCA8-1A196B9C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1202-085C-4204-A4F8-4D4C9D36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F5DF-FB1C-461D-8518-0FF83AB9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49A-3907-421E-835A-A09628A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DC1C-C008-4E22-B9CB-4F548E6E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973F-D06B-4FD7-9DE3-E759C6A7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7A57-9DC0-4F55-9A7F-A4119796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85E5-9124-40A3-9BC9-D16085CD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E01E-F04B-447A-A8CC-09F160E2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C91-F5BF-4F69-8EA7-B044808F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190-B240-4522-803E-87ACB4DD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37A-DB3F-4C21-8836-ED197438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977-F5CC-4E71-B598-ED547F47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7EC-96FB-4B50-B806-A4F2DC8D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979-3C4C-4ADA-A120-C36D5354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2DC-47B3-4BA2-BBBF-3C69112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84F1-3FA9-4964-A023-648903C85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AC24-2EAC-4A8F-99A5-6ABC7F026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7"/>
          <p:cNvSpPr/>
          <p:nvPr/>
        </p:nvSpPr>
        <p:spPr>
          <a:xfrm>
            <a:off x="6804000" y="4149720"/>
            <a:ext cx="6494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765828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40000"/>
                </a:solidFill>
                <a:latin typeface="方正楷体简体"/>
                <a:ea typeface="方正楷体简体"/>
              </a:rPr>
              <a:t>《</a:t>
            </a:r>
            <a:r>
              <a:rPr b="1" lang="zh-CN" sz="11500" spc="-1" strike="noStrike">
                <a:solidFill>
                  <a:srgbClr val="e40000"/>
                </a:solidFill>
                <a:latin typeface="方正楷体简体"/>
                <a:ea typeface="方正楷体简体"/>
              </a:rPr>
              <a:t>有 的 人</a:t>
            </a:r>
            <a:r>
              <a:rPr b="1" lang="en-US" sz="11500" spc="-1" strike="noStrike">
                <a:solidFill>
                  <a:srgbClr val="e40000"/>
                </a:solidFill>
                <a:latin typeface="方正楷体简体"/>
                <a:ea typeface="方正楷体简体"/>
              </a:rPr>
              <a:t>》</a:t>
            </a:r>
            <a:endParaRPr b="0" lang="en-US" sz="115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AutoShape 4">
            <a:hlinkClick r:id="" action="ppaction://hlinkshowjump?jump=nextslide"/>
          </p:cNvPr>
          <p:cNvSpPr/>
          <p:nvPr/>
        </p:nvSpPr>
        <p:spPr>
          <a:xfrm>
            <a:off x="7020000" y="5445000"/>
            <a:ext cx="73080" cy="7164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2032" h="21600">
                <a:moveTo>
                  <a:pt x="0" y="0"/>
                </a:moveTo>
                <a:lnTo>
                  <a:pt x="22032" y="0"/>
                </a:lnTo>
                <a:lnTo>
                  <a:pt x="22032" y="21600"/>
                </a:lnTo>
                <a:lnTo>
                  <a:pt x="0" y="21600"/>
                </a:lnTo>
                <a:close/>
              </a:path>
              <a:path fill="lightenLess" w="22032" h="21600">
                <a:moveTo>
                  <a:pt x="0" y="0"/>
                </a:moveTo>
                <a:lnTo>
                  <a:pt x="22032" y="0"/>
                </a:lnTo>
                <a:lnTo>
                  <a:pt x="20632" y="1400"/>
                </a:lnTo>
                <a:lnTo>
                  <a:pt x="1400" y="1400"/>
                </a:lnTo>
                <a:close/>
              </a:path>
              <a:path fill="darken" w="22032" h="21600">
                <a:moveTo>
                  <a:pt x="22032" y="0"/>
                </a:moveTo>
                <a:lnTo>
                  <a:pt x="22032" y="21600"/>
                </a:lnTo>
                <a:lnTo>
                  <a:pt x="20632" y="20200"/>
                </a:lnTo>
                <a:lnTo>
                  <a:pt x="20632" y="1400"/>
                </a:lnTo>
                <a:close/>
              </a:path>
              <a:path fill="darkenLess" w="22032" h="21600">
                <a:moveTo>
                  <a:pt x="22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32" y="20200"/>
                </a:lnTo>
                <a:close/>
              </a:path>
              <a:path fill="lighten" w="22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32" h="21600">
                <a:moveTo>
                  <a:pt x="4010" y="3794"/>
                </a:moveTo>
                <a:lnTo>
                  <a:pt x="18022" y="10800"/>
                </a:lnTo>
                <a:lnTo>
                  <a:pt x="4010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">
            <a:hlinkClick r:id="" action="ppaction://hlinkshowjump?jump=nextslide"/>
          </p:cNvPr>
          <p:cNvSpPr/>
          <p:nvPr/>
        </p:nvSpPr>
        <p:spPr>
          <a:xfrm>
            <a:off x="6372360" y="3357720"/>
            <a:ext cx="2160360" cy="2232000"/>
          </a:xfrm>
          <a:custGeom>
            <a:avLst/>
            <a:gdLst>
              <a:gd name="textAreaLeft" fmla="*/ 140040 w 2160360"/>
              <a:gd name="textAreaRight" fmla="*/ 2020320 w 2160360"/>
              <a:gd name="textAreaTop" fmla="*/ 140040 h 2232000"/>
              <a:gd name="textAreaBottom" fmla="*/ 2091960 h 2232000"/>
            </a:gdLst>
            <a:ahLst/>
            <a:rect l="textAreaLeft" t="textAreaTop" r="textAreaRight" b="textAreaBottom"/>
            <a:pathLst>
              <a:path w="21600" h="22316">
                <a:moveTo>
                  <a:pt x="0" y="0"/>
                </a:moveTo>
                <a:lnTo>
                  <a:pt x="21600" y="0"/>
                </a:lnTo>
                <a:lnTo>
                  <a:pt x="21600" y="22316"/>
                </a:lnTo>
                <a:lnTo>
                  <a:pt x="0" y="22316"/>
                </a:lnTo>
                <a:close/>
              </a:path>
              <a:path fill="lightenLess" w="21600" h="223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16">
                <a:moveTo>
                  <a:pt x="21600" y="0"/>
                </a:moveTo>
                <a:lnTo>
                  <a:pt x="21600" y="22316"/>
                </a:lnTo>
                <a:lnTo>
                  <a:pt x="20200" y="20916"/>
                </a:lnTo>
                <a:lnTo>
                  <a:pt x="20200" y="1400"/>
                </a:lnTo>
                <a:close/>
              </a:path>
              <a:path fill="darkenLess" w="21600" h="22316">
                <a:moveTo>
                  <a:pt x="21600" y="22316"/>
                </a:moveTo>
                <a:lnTo>
                  <a:pt x="0" y="22316"/>
                </a:lnTo>
                <a:lnTo>
                  <a:pt x="1400" y="20916"/>
                </a:lnTo>
                <a:lnTo>
                  <a:pt x="20200" y="20916"/>
                </a:lnTo>
                <a:close/>
              </a:path>
              <a:path fill="lighten" w="21600" h="22316">
                <a:moveTo>
                  <a:pt x="0" y="223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16"/>
                </a:lnTo>
                <a:close/>
              </a:path>
              <a:path fill="darken" w="21600" h="22316">
                <a:moveTo>
                  <a:pt x="3794" y="4152"/>
                </a:moveTo>
                <a:lnTo>
                  <a:pt x="17806" y="11158"/>
                </a:lnTo>
                <a:lnTo>
                  <a:pt x="3794" y="18165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9"/>
          <p:cNvSpPr/>
          <p:nvPr/>
        </p:nvSpPr>
        <p:spPr>
          <a:xfrm>
            <a:off x="232632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 的 人 活 着     他 已 经 死 了；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 的 人 死 了     他 还 活 着。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的人   骑在人民头上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楷体简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啊，我多伟大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楷体简体"/>
              </a:rPr>
              <a:t>”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的人   俯下身子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给人民当牛马</a:t>
            </a: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692000" y="2346480"/>
            <a:ext cx="14292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 rot="4983600">
            <a:off x="1953720" y="-65052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7">
            <a:hlinkClick r:id="" action="ppaction://hlinkshowjump?jump=nextslide"/>
          </p:cNvPr>
          <p:cNvSpPr/>
          <p:nvPr/>
        </p:nvSpPr>
        <p:spPr>
          <a:xfrm>
            <a:off x="7236000" y="5516640"/>
            <a:ext cx="936360" cy="93672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08">
                <a:moveTo>
                  <a:pt x="0" y="0"/>
                </a:moveTo>
                <a:lnTo>
                  <a:pt x="21600" y="0"/>
                </a:lnTo>
                <a:lnTo>
                  <a:pt x="21600" y="21608"/>
                </a:lnTo>
                <a:lnTo>
                  <a:pt x="0" y="21608"/>
                </a:lnTo>
                <a:close/>
              </a:path>
              <a:path fill="lightenLess" w="21600" h="216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8">
                <a:moveTo>
                  <a:pt x="21600" y="0"/>
                </a:moveTo>
                <a:lnTo>
                  <a:pt x="21600" y="21608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8">
                <a:moveTo>
                  <a:pt x="21600" y="21608"/>
                </a:moveTo>
                <a:lnTo>
                  <a:pt x="0" y="21608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8">
                <a:moveTo>
                  <a:pt x="0" y="216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  <a:path fill="darken" w="21600" h="21608">
                <a:moveTo>
                  <a:pt x="3794" y="3798"/>
                </a:moveTo>
                <a:lnTo>
                  <a:pt x="17806" y="10804"/>
                </a:lnTo>
                <a:lnTo>
                  <a:pt x="3794" y="17811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8">
            <a:hlinkClick r:id="" action="ppaction://hlinkshowjump?jump=previousslide"/>
          </p:cNvPr>
          <p:cNvSpPr/>
          <p:nvPr/>
        </p:nvSpPr>
        <p:spPr>
          <a:xfrm>
            <a:off x="6084720" y="5516640"/>
            <a:ext cx="935280" cy="936720"/>
          </a:xfrm>
          <a:custGeom>
            <a:avLst/>
            <a:gdLst>
              <a:gd name="textAreaLeft" fmla="*/ 60480 w 935280"/>
              <a:gd name="textAreaRight" fmla="*/ 874800 w 935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1600" h="21633">
                <a:moveTo>
                  <a:pt x="0" y="0"/>
                </a:moveTo>
                <a:lnTo>
                  <a:pt x="21600" y="0"/>
                </a:lnTo>
                <a:lnTo>
                  <a:pt x="21600" y="21633"/>
                </a:lnTo>
                <a:lnTo>
                  <a:pt x="0" y="21633"/>
                </a:lnTo>
                <a:close/>
              </a:path>
              <a:path fill="lightenLess" w="21600" h="216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3">
                <a:moveTo>
                  <a:pt x="21600" y="0"/>
                </a:moveTo>
                <a:lnTo>
                  <a:pt x="21600" y="21633"/>
                </a:lnTo>
                <a:lnTo>
                  <a:pt x="20200" y="20233"/>
                </a:lnTo>
                <a:lnTo>
                  <a:pt x="20200" y="1400"/>
                </a:lnTo>
                <a:close/>
              </a:path>
              <a:path fill="darkenLess" w="21600" h="21633">
                <a:moveTo>
                  <a:pt x="21600" y="21633"/>
                </a:moveTo>
                <a:lnTo>
                  <a:pt x="0" y="21633"/>
                </a:lnTo>
                <a:lnTo>
                  <a:pt x="1400" y="20233"/>
                </a:lnTo>
                <a:lnTo>
                  <a:pt x="20200" y="20233"/>
                </a:lnTo>
                <a:close/>
              </a:path>
              <a:path fill="lighten" w="21600" h="21633">
                <a:moveTo>
                  <a:pt x="0" y="216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3"/>
                </a:lnTo>
                <a:close/>
              </a:path>
              <a:path fill="darken" w="21600" h="21633">
                <a:moveTo>
                  <a:pt x="3794" y="10817"/>
                </a:moveTo>
                <a:lnTo>
                  <a:pt x="17806" y="3810"/>
                </a:lnTo>
                <a:lnTo>
                  <a:pt x="17806" y="17823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-54183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09120" y="475920"/>
            <a:ext cx="8153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 的 人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活 着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他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 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已 经 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死 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了；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有 的 人 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死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了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他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还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活</a:t>
            </a:r>
            <a:r>
              <a:rPr b="0" lang="zh-CN" sz="54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">
            <a:hlinkClick r:id="" action="ppaction://hlinkshowjump?jump=nextslide"/>
          </p:cNvPr>
          <p:cNvSpPr/>
          <p:nvPr/>
        </p:nvSpPr>
        <p:spPr>
          <a:xfrm>
            <a:off x="7740720" y="537372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5">
            <a:hlinkClick r:id="" action="ppaction://hlinkshowjump?jump=previousslide"/>
          </p:cNvPr>
          <p:cNvSpPr/>
          <p:nvPr/>
        </p:nvSpPr>
        <p:spPr>
          <a:xfrm>
            <a:off x="6588000" y="5373720"/>
            <a:ext cx="936720" cy="9349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42" h="21600">
                <a:moveTo>
                  <a:pt x="0" y="0"/>
                </a:moveTo>
                <a:lnTo>
                  <a:pt x="21642" y="0"/>
                </a:lnTo>
                <a:lnTo>
                  <a:pt x="21642" y="21600"/>
                </a:lnTo>
                <a:lnTo>
                  <a:pt x="0" y="21600"/>
                </a:lnTo>
                <a:close/>
              </a:path>
              <a:path fill="lightenLess" w="21642" h="21600">
                <a:moveTo>
                  <a:pt x="0" y="0"/>
                </a:moveTo>
                <a:lnTo>
                  <a:pt x="21642" y="0"/>
                </a:lnTo>
                <a:lnTo>
                  <a:pt x="20242" y="1400"/>
                </a:lnTo>
                <a:lnTo>
                  <a:pt x="1400" y="1400"/>
                </a:lnTo>
                <a:close/>
              </a:path>
              <a:path fill="darken" w="21642" h="21600">
                <a:moveTo>
                  <a:pt x="21642" y="0"/>
                </a:moveTo>
                <a:lnTo>
                  <a:pt x="21642" y="21600"/>
                </a:lnTo>
                <a:lnTo>
                  <a:pt x="20242" y="20200"/>
                </a:lnTo>
                <a:lnTo>
                  <a:pt x="20242" y="1400"/>
                </a:lnTo>
                <a:close/>
              </a:path>
              <a:path fill="darkenLess" w="21642" h="21600">
                <a:moveTo>
                  <a:pt x="2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2" y="20200"/>
                </a:lnTo>
                <a:close/>
              </a:path>
              <a:path fill="lighten" w="2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2" h="21600">
                <a:moveTo>
                  <a:pt x="3814" y="10800"/>
                </a:moveTo>
                <a:lnTo>
                  <a:pt x="17827" y="3794"/>
                </a:lnTo>
                <a:lnTo>
                  <a:pt x="17827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2120" y="-5331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476000" y="404640"/>
            <a:ext cx="76676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的人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骑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在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人民头上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啊，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我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多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伟大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有的人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俯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下身子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给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人民</a:t>
            </a:r>
            <a:r>
              <a:rPr b="0" lang="en-US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/</a:t>
            </a:r>
            <a:r>
              <a:rPr b="0" lang="zh-CN" sz="4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当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牛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5">
            <a:hlinkClick r:id="" action="ppaction://hlinkshowjump?jump=nextslide"/>
          </p:cNvPr>
          <p:cNvSpPr/>
          <p:nvPr/>
        </p:nvSpPr>
        <p:spPr>
          <a:xfrm>
            <a:off x="7740720" y="537372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>
            <a:hlinkClick r:id="" action="ppaction://hlinkshowjump?jump=previousslide"/>
          </p:cNvPr>
          <p:cNvSpPr/>
          <p:nvPr/>
        </p:nvSpPr>
        <p:spPr>
          <a:xfrm>
            <a:off x="6588000" y="5373720"/>
            <a:ext cx="936720" cy="9349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42" h="21600">
                <a:moveTo>
                  <a:pt x="0" y="0"/>
                </a:moveTo>
                <a:lnTo>
                  <a:pt x="21642" y="0"/>
                </a:lnTo>
                <a:lnTo>
                  <a:pt x="21642" y="21600"/>
                </a:lnTo>
                <a:lnTo>
                  <a:pt x="0" y="21600"/>
                </a:lnTo>
                <a:close/>
              </a:path>
              <a:path fill="lightenLess" w="21642" h="21600">
                <a:moveTo>
                  <a:pt x="0" y="0"/>
                </a:moveTo>
                <a:lnTo>
                  <a:pt x="21642" y="0"/>
                </a:lnTo>
                <a:lnTo>
                  <a:pt x="20242" y="1400"/>
                </a:lnTo>
                <a:lnTo>
                  <a:pt x="1400" y="1400"/>
                </a:lnTo>
                <a:close/>
              </a:path>
              <a:path fill="darken" w="21642" h="21600">
                <a:moveTo>
                  <a:pt x="21642" y="0"/>
                </a:moveTo>
                <a:lnTo>
                  <a:pt x="21642" y="21600"/>
                </a:lnTo>
                <a:lnTo>
                  <a:pt x="20242" y="20200"/>
                </a:lnTo>
                <a:lnTo>
                  <a:pt x="20242" y="1400"/>
                </a:lnTo>
                <a:close/>
              </a:path>
              <a:path fill="darkenLess" w="21642" h="21600">
                <a:moveTo>
                  <a:pt x="2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2" y="20200"/>
                </a:lnTo>
                <a:close/>
              </a:path>
              <a:path fill="lighten" w="2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2" h="21600">
                <a:moveTo>
                  <a:pt x="3814" y="10800"/>
                </a:moveTo>
                <a:lnTo>
                  <a:pt x="17827" y="3794"/>
                </a:lnTo>
                <a:lnTo>
                  <a:pt x="17827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1"/>
          <p:cNvSpPr/>
          <p:nvPr/>
        </p:nvSpPr>
        <p:spPr>
          <a:xfrm>
            <a:off x="703440" y="6308640"/>
            <a:ext cx="68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609480" y="476280"/>
            <a:ext cx="8283600" cy="69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方正楷体简体"/>
              </a:rPr>
              <a:t>改后的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死了      他还活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活着      他已经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说：“啊，我多伟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人却给人民当牛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4">
            <a:hlinkClick r:id="" action="ppaction://hlinkshowjump?jump=nextslide"/>
          </p:cNvPr>
          <p:cNvSpPr/>
          <p:nvPr/>
        </p:nvSpPr>
        <p:spPr>
          <a:xfrm>
            <a:off x="7740720" y="5373720"/>
            <a:ext cx="934920" cy="9349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">
            <a:hlinkClick r:id="" action="ppaction://hlinkshowjump?jump=previousslide"/>
          </p:cNvPr>
          <p:cNvSpPr/>
          <p:nvPr/>
        </p:nvSpPr>
        <p:spPr>
          <a:xfrm>
            <a:off x="6588000" y="5373720"/>
            <a:ext cx="936720" cy="9349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1642" h="21600">
                <a:moveTo>
                  <a:pt x="0" y="0"/>
                </a:moveTo>
                <a:lnTo>
                  <a:pt x="21642" y="0"/>
                </a:lnTo>
                <a:lnTo>
                  <a:pt x="21642" y="21600"/>
                </a:lnTo>
                <a:lnTo>
                  <a:pt x="0" y="21600"/>
                </a:lnTo>
                <a:close/>
              </a:path>
              <a:path fill="lightenLess" w="21642" h="21600">
                <a:moveTo>
                  <a:pt x="0" y="0"/>
                </a:moveTo>
                <a:lnTo>
                  <a:pt x="21642" y="0"/>
                </a:lnTo>
                <a:lnTo>
                  <a:pt x="20242" y="1400"/>
                </a:lnTo>
                <a:lnTo>
                  <a:pt x="1400" y="1400"/>
                </a:lnTo>
                <a:close/>
              </a:path>
              <a:path fill="darken" w="21642" h="21600">
                <a:moveTo>
                  <a:pt x="21642" y="0"/>
                </a:moveTo>
                <a:lnTo>
                  <a:pt x="21642" y="21600"/>
                </a:lnTo>
                <a:lnTo>
                  <a:pt x="20242" y="20200"/>
                </a:lnTo>
                <a:lnTo>
                  <a:pt x="20242" y="1400"/>
                </a:lnTo>
                <a:close/>
              </a:path>
              <a:path fill="darkenLess" w="21642" h="21600">
                <a:moveTo>
                  <a:pt x="21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2" y="20200"/>
                </a:lnTo>
                <a:close/>
              </a:path>
              <a:path fill="lighten" w="21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2" h="21600">
                <a:moveTo>
                  <a:pt x="3814" y="10800"/>
                </a:moveTo>
                <a:lnTo>
                  <a:pt x="17827" y="3794"/>
                </a:lnTo>
                <a:lnTo>
                  <a:pt x="17827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404B-7F1A-4288-9452-BC74DB51F0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1:44:32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5:57:20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