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2C8-5B2D-45E6-B206-1161A3DC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E99-5A89-4800-A46C-898B949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B90-EEF5-48D7-AD75-4F2F43EA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D8E-3586-40C2-9BF4-86A37806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711-4A3C-4C5E-A30C-EE4B1932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CDC-57F9-4D7F-82A9-53DF531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39BA-D11A-47EC-8B63-F1B59F0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37C7-A371-4EF2-A920-BF8F6BA9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4545-7B45-44F2-A396-49429C5F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28A-8103-4C9D-939D-2C30AAA2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C88-B17A-4F00-83E2-B3369E6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7E2-E4BE-4F36-9FDF-8981DF7F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B71-570B-4E5C-9F08-ED961107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EE5-0C4C-4008-8708-47E5CF9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8A6-16B9-4EE6-B703-7E4B1FF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90A-4AA5-4253-AB73-21964CB7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450-C5CF-41AF-B2DB-E7AB812C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F4D-B88E-47B1-AA52-1F5E406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DC6-91D2-4B18-A9B3-1F1A8D3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003-D117-43A7-8CF9-9950841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B65-F1E5-46DD-94F5-03F04790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6A8-512C-4123-8826-2429AAE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3A0-05B1-4157-8FE4-9C36EB8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5B4-85E8-4F91-832E-0B31DF9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DE9-EA9A-4FFB-994D-9F45D514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40B-D4F7-45FB-A115-D0A7094CF91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826920" y="1700280"/>
            <a:ext cx="7705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一个数乘小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45720" y="5784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4"/>
          <p:cNvSpPr/>
          <p:nvPr/>
        </p:nvSpPr>
        <p:spPr>
          <a:xfrm>
            <a:off x="5738760" y="438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838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花布每米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元，求买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和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82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各用多少元？怎样列式？</a:t>
            </a:r>
            <a:r>
              <a:rPr b="1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0" name="Group 43"/>
          <p:cNvGrpSpPr/>
          <p:nvPr/>
        </p:nvGrpSpPr>
        <p:grpSpPr>
          <a:xfrm>
            <a:off x="1600200" y="2940120"/>
            <a:ext cx="6555600" cy="1328040"/>
            <a:chOff x="1600200" y="2940120"/>
            <a:chExt cx="6555600" cy="1328040"/>
          </a:xfrm>
        </p:grpSpPr>
        <p:sp>
          <p:nvSpPr>
            <p:cNvPr id="141" name="Text Box 3"/>
            <p:cNvSpPr/>
            <p:nvPr/>
          </p:nvSpPr>
          <p:spPr>
            <a:xfrm>
              <a:off x="1600200" y="362556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2" name="Group 23"/>
            <p:cNvGrpSpPr/>
            <p:nvPr/>
          </p:nvGrpSpPr>
          <p:grpSpPr>
            <a:xfrm>
              <a:off x="2743200" y="4006800"/>
              <a:ext cx="5410080" cy="75600"/>
              <a:chOff x="2743200" y="4006800"/>
              <a:chExt cx="5410080" cy="75600"/>
            </a:xfrm>
          </p:grpSpPr>
          <p:sp>
            <p:nvSpPr>
              <p:cNvPr id="143" name="Line 4"/>
              <p:cNvSpPr/>
              <p:nvPr/>
            </p:nvSpPr>
            <p:spPr>
              <a:xfrm>
                <a:off x="2743200" y="4082400"/>
                <a:ext cx="541008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4" name="Line 5"/>
              <p:cNvSpPr/>
              <p:nvPr/>
            </p:nvSpPr>
            <p:spPr>
              <a:xfrm>
                <a:off x="274320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381924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329220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438948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54655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493704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599436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1" name="Line 13"/>
              <p:cNvSpPr/>
              <p:nvPr/>
            </p:nvSpPr>
            <p:spPr>
              <a:xfrm>
                <a:off x="707076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65419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>
                <a:off x="763272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4" name="Line 17"/>
              <p:cNvSpPr/>
              <p:nvPr/>
            </p:nvSpPr>
            <p:spPr>
              <a:xfrm>
                <a:off x="8153280" y="4006800"/>
                <a:ext cx="0" cy="7560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55" name="AutoShape 20"/>
            <p:cNvSpPr/>
            <p:nvPr/>
          </p:nvSpPr>
          <p:spPr>
            <a:xfrm rot="5443800">
              <a:off x="5221080" y="995040"/>
              <a:ext cx="453600" cy="5410080"/>
            </a:xfrm>
            <a:custGeom>
              <a:avLst/>
              <a:gdLst>
                <a:gd name="textAreaLeft" fmla="*/ 289800 w 453600"/>
                <a:gd name="textAreaRight" fmla="*/ 453960 w 453600"/>
                <a:gd name="textAreaTop" fmla="*/ 162000 h 5410080"/>
                <a:gd name="textAreaBottom" fmla="*/ 524808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69"/>
                  </a:cubicBezTo>
                  <a:lnTo>
                    <a:pt x="10800" y="8794"/>
                  </a:lnTo>
                  <a:cubicBezTo>
                    <a:pt x="10800" y="9829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2"/>
                  </a:cubicBezTo>
                  <a:lnTo>
                    <a:pt x="10800" y="19531"/>
                  </a:lnTo>
                  <a:cubicBezTo>
                    <a:pt x="10800" y="2056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4952880" y="294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13.5</a:t>
              </a:r>
              <a:r>
                <a:rPr b="1" lang="zh-CN" sz="32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Group 42"/>
          <p:cNvGrpSpPr/>
          <p:nvPr/>
        </p:nvGrpSpPr>
        <p:grpSpPr>
          <a:xfrm>
            <a:off x="1200240" y="4159080"/>
            <a:ext cx="4343400" cy="1099800"/>
            <a:chOff x="1200240" y="4159080"/>
            <a:chExt cx="4343400" cy="1099800"/>
          </a:xfrm>
        </p:grpSpPr>
        <p:grpSp>
          <p:nvGrpSpPr>
            <p:cNvPr id="158" name="Group 38"/>
            <p:cNvGrpSpPr/>
            <p:nvPr/>
          </p:nvGrpSpPr>
          <p:grpSpPr>
            <a:xfrm>
              <a:off x="2724480" y="4997520"/>
              <a:ext cx="2743200" cy="75960"/>
              <a:chOff x="2724480" y="4997520"/>
              <a:chExt cx="2743200" cy="75960"/>
            </a:xfrm>
          </p:grpSpPr>
          <p:sp>
            <p:nvSpPr>
              <p:cNvPr id="159" name="Line 25"/>
              <p:cNvSpPr/>
              <p:nvPr/>
            </p:nvSpPr>
            <p:spPr>
              <a:xfrm>
                <a:off x="2724480" y="5073480"/>
                <a:ext cx="274320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0" name="Line 26"/>
              <p:cNvSpPr/>
              <p:nvPr/>
            </p:nvSpPr>
            <p:spPr>
              <a:xfrm>
                <a:off x="272448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1" name="Line 27"/>
              <p:cNvSpPr/>
              <p:nvPr/>
            </p:nvSpPr>
            <p:spPr>
              <a:xfrm>
                <a:off x="380052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2" name="Line 28"/>
              <p:cNvSpPr/>
              <p:nvPr/>
            </p:nvSpPr>
            <p:spPr>
              <a:xfrm>
                <a:off x="327348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>
                <a:off x="437076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4" name="Line 30"/>
              <p:cNvSpPr/>
              <p:nvPr/>
            </p:nvSpPr>
            <p:spPr>
              <a:xfrm>
                <a:off x="544680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5" name="Line 31"/>
              <p:cNvSpPr/>
              <p:nvPr/>
            </p:nvSpPr>
            <p:spPr>
              <a:xfrm>
                <a:off x="4918320" y="499752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37"/>
            <p:cNvSpPr/>
            <p:nvPr/>
          </p:nvSpPr>
          <p:spPr>
            <a:xfrm>
              <a:off x="1200240" y="4616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5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AutoShape 39"/>
            <p:cNvSpPr/>
            <p:nvPr/>
          </p:nvSpPr>
          <p:spPr>
            <a:xfrm rot="5443800">
              <a:off x="3868920" y="3395520"/>
              <a:ext cx="453960" cy="2743200"/>
            </a:xfrm>
            <a:custGeom>
              <a:avLst/>
              <a:gdLst>
                <a:gd name="textAreaLeft" fmla="*/ 290160 w 453960"/>
                <a:gd name="textAreaRight" fmla="*/ 454320 w 453960"/>
                <a:gd name="textAreaTop" fmla="*/ 82080 h 2743200"/>
                <a:gd name="textAreaBottom" fmla="*/ 26611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69"/>
                  </a:cubicBezTo>
                  <a:lnTo>
                    <a:pt x="10800" y="8794"/>
                  </a:lnTo>
                  <a:cubicBezTo>
                    <a:pt x="10800" y="9829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2"/>
                  </a:cubicBezTo>
                  <a:lnTo>
                    <a:pt x="10800" y="19531"/>
                  </a:lnTo>
                  <a:cubicBezTo>
                    <a:pt x="10800" y="2056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Text Box 40"/>
            <p:cNvSpPr/>
            <p:nvPr/>
          </p:nvSpPr>
          <p:spPr>
            <a:xfrm>
              <a:off x="3791160" y="4159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5467680" y="4159080"/>
              <a:ext cx="0" cy="8384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0" name="Group 58"/>
          <p:cNvGrpSpPr/>
          <p:nvPr/>
        </p:nvGrpSpPr>
        <p:grpSpPr>
          <a:xfrm>
            <a:off x="1219320" y="4114800"/>
            <a:ext cx="5944680" cy="2065320"/>
            <a:chOff x="1219320" y="4114800"/>
            <a:chExt cx="5944680" cy="2065320"/>
          </a:xfrm>
        </p:grpSpPr>
        <p:sp>
          <p:nvSpPr>
            <p:cNvPr id="171" name="Text Box 53"/>
            <p:cNvSpPr/>
            <p:nvPr/>
          </p:nvSpPr>
          <p:spPr>
            <a:xfrm>
              <a:off x="1219320" y="55375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82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72" name="Group 57"/>
            <p:cNvGrpSpPr/>
            <p:nvPr/>
          </p:nvGrpSpPr>
          <p:grpSpPr>
            <a:xfrm>
              <a:off x="2738520" y="5440320"/>
              <a:ext cx="4425480" cy="570960"/>
              <a:chOff x="2738520" y="5440320"/>
              <a:chExt cx="4425480" cy="570960"/>
            </a:xfrm>
          </p:grpSpPr>
          <p:sp>
            <p:nvSpPr>
              <p:cNvPr id="173" name="Line 46"/>
              <p:cNvSpPr/>
              <p:nvPr/>
            </p:nvSpPr>
            <p:spPr>
              <a:xfrm>
                <a:off x="2743560" y="6011280"/>
                <a:ext cx="441936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4" name="Line 47"/>
              <p:cNvSpPr/>
              <p:nvPr/>
            </p:nvSpPr>
            <p:spPr>
              <a:xfrm>
                <a:off x="274356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5" name="Line 52"/>
              <p:cNvSpPr/>
              <p:nvPr/>
            </p:nvSpPr>
            <p:spPr>
              <a:xfrm>
                <a:off x="716292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6" name="AutoShape 54"/>
              <p:cNvSpPr/>
              <p:nvPr/>
            </p:nvSpPr>
            <p:spPr>
              <a:xfrm rot="5443800">
                <a:off x="4716000" y="3493440"/>
                <a:ext cx="470520" cy="4419720"/>
              </a:xfrm>
              <a:custGeom>
                <a:avLst/>
                <a:gdLst>
                  <a:gd name="textAreaLeft" fmla="*/ 300600 w 470520"/>
                  <a:gd name="textAreaRight" fmla="*/ 470880 w 470520"/>
                  <a:gd name="textAreaTop" fmla="*/ 132480 h 4419720"/>
                  <a:gd name="textAreaBottom" fmla="*/ 428724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035"/>
                      <a:pt x="10800" y="2069"/>
                    </a:cubicBezTo>
                    <a:lnTo>
                      <a:pt x="10800" y="8794"/>
                    </a:lnTo>
                    <a:cubicBezTo>
                      <a:pt x="10800" y="9829"/>
                      <a:pt x="5400" y="10863"/>
                      <a:pt x="0" y="10863"/>
                    </a:cubicBezTo>
                    <a:cubicBezTo>
                      <a:pt x="5400" y="10863"/>
                      <a:pt x="10800" y="11898"/>
                      <a:pt x="10800" y="12932"/>
                    </a:cubicBezTo>
                    <a:lnTo>
                      <a:pt x="10800" y="19531"/>
                    </a:lnTo>
                    <a:cubicBezTo>
                      <a:pt x="10800" y="20566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77" name="Text Box 55"/>
            <p:cNvSpPr/>
            <p:nvPr/>
          </p:nvSpPr>
          <p:spPr>
            <a:xfrm>
              <a:off x="4648320" y="50634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56"/>
            <p:cNvSpPr/>
            <p:nvPr/>
          </p:nvSpPr>
          <p:spPr>
            <a:xfrm>
              <a:off x="7162920" y="4114800"/>
              <a:ext cx="0" cy="18972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68520" y="1143000"/>
            <a:ext cx="33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5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0" name="Group 53"/>
          <p:cNvGrpSpPr/>
          <p:nvPr/>
        </p:nvGrpSpPr>
        <p:grpSpPr>
          <a:xfrm>
            <a:off x="1447920" y="2666880"/>
            <a:ext cx="2133360" cy="1752840"/>
            <a:chOff x="1447920" y="2666880"/>
            <a:chExt cx="2133360" cy="1752840"/>
          </a:xfrm>
        </p:grpSpPr>
        <p:sp>
          <p:nvSpPr>
            <p:cNvPr id="181" name="Text Box 4"/>
            <p:cNvSpPr/>
            <p:nvPr/>
          </p:nvSpPr>
          <p:spPr>
            <a:xfrm>
              <a:off x="1981080" y="2666880"/>
              <a:ext cx="152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Text Box 5"/>
            <p:cNvSpPr/>
            <p:nvPr/>
          </p:nvSpPr>
          <p:spPr>
            <a:xfrm>
              <a:off x="2247840" y="342900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1447920" y="36259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1523880" y="4419720"/>
              <a:ext cx="18288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85" name="Group 54"/>
          <p:cNvGrpSpPr/>
          <p:nvPr/>
        </p:nvGrpSpPr>
        <p:grpSpPr>
          <a:xfrm>
            <a:off x="3733920" y="2666880"/>
            <a:ext cx="2209680" cy="459720"/>
            <a:chOff x="3733920" y="2666880"/>
            <a:chExt cx="2209680" cy="459720"/>
          </a:xfrm>
        </p:grpSpPr>
        <p:sp>
          <p:nvSpPr>
            <p:cNvPr id="186" name="Line 9"/>
            <p:cNvSpPr/>
            <p:nvPr/>
          </p:nvSpPr>
          <p:spPr>
            <a:xfrm>
              <a:off x="3733920" y="312408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Text Box 10"/>
            <p:cNvSpPr/>
            <p:nvPr/>
          </p:nvSpPr>
          <p:spPr>
            <a:xfrm>
              <a:off x="411480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8" name="Text Box 11"/>
          <p:cNvSpPr/>
          <p:nvPr/>
        </p:nvSpPr>
        <p:spPr>
          <a:xfrm>
            <a:off x="6629400" y="2666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3733920" y="3429000"/>
            <a:ext cx="2209680" cy="459720"/>
            <a:chOff x="3733920" y="3429000"/>
            <a:chExt cx="2209680" cy="459720"/>
          </a:xfrm>
        </p:grpSpPr>
        <p:sp>
          <p:nvSpPr>
            <p:cNvPr id="190" name="Line 12"/>
            <p:cNvSpPr/>
            <p:nvPr/>
          </p:nvSpPr>
          <p:spPr>
            <a:xfrm>
              <a:off x="3733920" y="3886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071960" y="3429000"/>
              <a:ext cx="15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7238880" y="3443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6248520" y="35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248520" y="4419720"/>
            <a:ext cx="16002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6629400" y="439596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6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6" name="Group 56"/>
          <p:cNvGrpSpPr/>
          <p:nvPr/>
        </p:nvGrpSpPr>
        <p:grpSpPr>
          <a:xfrm>
            <a:off x="3733920" y="4419720"/>
            <a:ext cx="2438280" cy="459720"/>
            <a:chOff x="3733920" y="4419720"/>
            <a:chExt cx="2438280" cy="459720"/>
          </a:xfrm>
        </p:grpSpPr>
        <p:sp>
          <p:nvSpPr>
            <p:cNvPr id="197" name="Line 18"/>
            <p:cNvSpPr/>
            <p:nvPr/>
          </p:nvSpPr>
          <p:spPr>
            <a:xfrm flipH="1">
              <a:off x="3733920" y="48769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Text Box 19"/>
            <p:cNvSpPr/>
            <p:nvPr/>
          </p:nvSpPr>
          <p:spPr>
            <a:xfrm>
              <a:off x="3852720" y="44197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9" name="Text Box 20"/>
          <p:cNvSpPr/>
          <p:nvPr/>
        </p:nvSpPr>
        <p:spPr>
          <a:xfrm>
            <a:off x="1676520" y="4419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.7 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6.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281160" y="5816520"/>
            <a:ext cx="68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209680" y="1143000"/>
            <a:ext cx="37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82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1219320" y="2286000"/>
            <a:ext cx="2286000" cy="2318400"/>
            <a:chOff x="1219320" y="2286000"/>
            <a:chExt cx="2286000" cy="2318400"/>
          </a:xfrm>
        </p:grpSpPr>
        <p:sp>
          <p:nvSpPr>
            <p:cNvPr id="204" name="Text Box 4"/>
            <p:cNvSpPr/>
            <p:nvPr/>
          </p:nvSpPr>
          <p:spPr>
            <a:xfrm>
              <a:off x="1981080" y="2286000"/>
              <a:ext cx="152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1905120" y="3048120"/>
              <a:ext cx="1562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8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1219320" y="31687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>
              <a:off x="1295280" y="4038480"/>
              <a:ext cx="205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3733920" y="2286000"/>
            <a:ext cx="2209680" cy="459720"/>
            <a:chOff x="3733920" y="2286000"/>
            <a:chExt cx="2209680" cy="459720"/>
          </a:xfrm>
        </p:grpSpPr>
        <p:sp>
          <p:nvSpPr>
            <p:cNvPr id="209" name="Line 9"/>
            <p:cNvSpPr/>
            <p:nvPr/>
          </p:nvSpPr>
          <p:spPr>
            <a:xfrm>
              <a:off x="3733920" y="2743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4114800" y="2286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1" name="Text Box 11"/>
          <p:cNvSpPr/>
          <p:nvPr/>
        </p:nvSpPr>
        <p:spPr>
          <a:xfrm>
            <a:off x="6629400" y="22860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3733920" y="3048120"/>
            <a:ext cx="2209680" cy="459720"/>
            <a:chOff x="3733920" y="3048120"/>
            <a:chExt cx="2209680" cy="459720"/>
          </a:xfrm>
        </p:grpSpPr>
        <p:sp>
          <p:nvSpPr>
            <p:cNvPr id="213" name="Line 13"/>
            <p:cNvSpPr/>
            <p:nvPr/>
          </p:nvSpPr>
          <p:spPr>
            <a:xfrm>
              <a:off x="3733920" y="3505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4071960" y="3048120"/>
              <a:ext cx="15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5" name="Text Box 15"/>
          <p:cNvSpPr/>
          <p:nvPr/>
        </p:nvSpPr>
        <p:spPr>
          <a:xfrm>
            <a:off x="6934320" y="3062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8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2485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172200" y="4038480"/>
            <a:ext cx="17524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19920" y="53341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1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3733920" y="5334120"/>
            <a:ext cx="2438280" cy="459720"/>
            <a:chOff x="3733920" y="5334120"/>
            <a:chExt cx="2438280" cy="459720"/>
          </a:xfrm>
        </p:grpSpPr>
        <p:sp>
          <p:nvSpPr>
            <p:cNvPr id="220" name="Line 20"/>
            <p:cNvSpPr/>
            <p:nvPr/>
          </p:nvSpPr>
          <p:spPr>
            <a:xfrm flipH="1">
              <a:off x="3733920" y="5791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3852720" y="53341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2" name="Text Box 22"/>
          <p:cNvSpPr/>
          <p:nvPr/>
        </p:nvSpPr>
        <p:spPr>
          <a:xfrm>
            <a:off x="1295280" y="533412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1.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11.0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629400" y="38862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2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019920" y="443376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08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6095880" y="5334120"/>
            <a:ext cx="18288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2971800" y="5410080"/>
            <a:ext cx="304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914400" y="144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    </a:t>
            </a:r>
            <a:r>
              <a:rPr b="0" lang="zh-CN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计算小数乘法，先按照整数乘法的法则算出积，再看因数中一共有几位小数，就从积的右边数出几位，点上小数点．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336-191D-4855-9066-56B9E5DFCA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2:36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21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