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7FC7-B77A-43D2-9059-0426F59C115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E0E5-590B-4C3D-AA85-65F3850A603C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7CE-8DFC-473F-B277-EAA1DE40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2E8-6A2A-4727-A600-8FF30F97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F7F-18E4-4776-B193-B15C8AA2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1DA-C821-4316-8358-852AD934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D051-0775-493F-AF2F-A6FA72D1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3D6B-5E1A-457E-891F-874C2F43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BB58-6C82-41BD-B1B2-B6C64DF3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D405-1533-4F19-BBE9-BE33B28D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07B1-5D33-4C37-AE84-B622CFCE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84B7-079E-465F-8DA9-C78BA50B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5CE5-B51E-4EAA-B3F3-B39AD411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0FD-C716-497B-948D-011B5403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0BC3-A955-4E72-A734-60575FF0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F9CD-D6D3-4003-A643-786CBEF8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E403-6A2F-4A7B-87B2-2D8328ED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77CC-5674-40C4-AA9E-4D9A19F4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3B27-56B9-4CA3-A610-EB2E87D6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F35-BBD4-4F13-87F1-3F2ACBA9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F42-7C0B-4D14-AB80-130385AD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9C5-8D73-4FA8-8AAA-0D6D5E0A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E54-394B-455E-B742-19B88B00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D0D-5533-47EA-ADC3-3FE5C31D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82F-4358-4A6D-A03D-77EE6D59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85B-C4AA-4266-817C-D79D7132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5FA6-DDB5-4A72-90DC-7AA961F251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009A-B35F-46E6-9AA0-6E4F5780B0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3" descr=""/>
          <p:cNvPicPr/>
          <p:nvPr/>
        </p:nvPicPr>
        <p:blipFill>
          <a:blip r:embed="rId1"/>
          <a:stretch/>
        </p:blipFill>
        <p:spPr>
          <a:xfrm>
            <a:off x="1177920" y="2276640"/>
            <a:ext cx="6670800" cy="3751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2598840" y="53172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阳光下的影子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2153160" y="616572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79280" y="2081160"/>
            <a:ext cx="8353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古代人们用日晷来计时，其原理是（           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物体的影子会随时间的变化而变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物体的影子不会随着时间的变化而变化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一天中，阳光下物体的影子（       ）最短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早晨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正午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傍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在中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时，阳光下物体的影子（      ）最长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春季和秋季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夏季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冬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地球上的光主要来自于（         ）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太阳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电灯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火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932720" y="22050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143960" y="37893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92076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阳光下的影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646880" y="47973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635640" y="5805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4"/>
          <p:cNvSpPr/>
          <p:nvPr/>
        </p:nvSpPr>
        <p:spPr>
          <a:xfrm>
            <a:off x="179280" y="2081160"/>
            <a:ext cx="8353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一天中阳光下物体影子长度的变化是（           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短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长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长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一天中阳光下物体影子的变化方向是（       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东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东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西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测得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高竿子的影长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0.5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，同时测得一棵树影长是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，则树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（      ）。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无法计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测得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高竿子的影长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0.5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，测得一棵树影长是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，则树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（      ）。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无法计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299200" y="2205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5223240" y="3284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392076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阳光下的影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1335600" y="47973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1338480" y="58770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392076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阳光下的影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8" descr="阳光下的影子1"/>
          <p:cNvPicPr/>
          <p:nvPr/>
        </p:nvPicPr>
        <p:blipFill>
          <a:blip r:embed="rId1"/>
          <a:stretch/>
        </p:blipFill>
        <p:spPr>
          <a:xfrm>
            <a:off x="1332000" y="2492280"/>
            <a:ext cx="1674720" cy="3527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阳光下的影子2"/>
          <p:cNvPicPr/>
          <p:nvPr/>
        </p:nvPicPr>
        <p:blipFill>
          <a:blip r:embed="rId2"/>
          <a:stretch/>
        </p:blipFill>
        <p:spPr>
          <a:xfrm>
            <a:off x="5219640" y="3046320"/>
            <a:ext cx="3673440" cy="290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507680" y="19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画出影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92076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阳光下的影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3" descr="阳光下的影子1"/>
          <p:cNvPicPr/>
          <p:nvPr/>
        </p:nvPicPr>
        <p:blipFill>
          <a:blip r:embed="rId1"/>
          <a:stretch/>
        </p:blipFill>
        <p:spPr>
          <a:xfrm>
            <a:off x="1332000" y="2492280"/>
            <a:ext cx="1674720" cy="3527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阳光下的影子2"/>
          <p:cNvPicPr/>
          <p:nvPr/>
        </p:nvPicPr>
        <p:blipFill>
          <a:blip r:embed="rId2"/>
          <a:stretch/>
        </p:blipFill>
        <p:spPr>
          <a:xfrm>
            <a:off x="5219640" y="3046320"/>
            <a:ext cx="3673440" cy="29037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07680" y="19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画出影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1332000" y="5805360"/>
            <a:ext cx="1655640" cy="5749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Oval 7"/>
          <p:cNvSpPr/>
          <p:nvPr/>
        </p:nvSpPr>
        <p:spPr>
          <a:xfrm rot="338400">
            <a:off x="4140360" y="5589720"/>
            <a:ext cx="1584000" cy="287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426320" y="1773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本节要点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74560" y="2133720"/>
            <a:ext cx="831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阳光下物体影子的方向随着太阳方向的改变而改变，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子总是和太阳的方向相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阳光下物体影子长短的变化是随着太阳在天空中的位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化而变化的，太阳位置最高时影子最短，太阳位置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低时，影子最长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84804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阳光下的影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文本框 1"/>
          <p:cNvSpPr/>
          <p:nvPr/>
        </p:nvSpPr>
        <p:spPr>
          <a:xfrm>
            <a:off x="1730520" y="586260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C305-91CA-460D-94EE-78A4ACE862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0"/>
          <p:cNvSpPr/>
          <p:nvPr/>
        </p:nvSpPr>
        <p:spPr>
          <a:xfrm>
            <a:off x="949320" y="228744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什么叫光源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什么叫投影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91312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自己发光的物体叫光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284720" y="4581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从不同侧面照射得到的物体的影子叫做投影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403280" y="2060640"/>
            <a:ext cx="37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下面哪些是光源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848760" y="2682720"/>
            <a:ext cx="74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白炽灯、点亮的日光灯、太阳光、月光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ahoma"/>
              </a:rPr>
              <a:t>激光、镜子、电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92076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阳光下的影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686680" y="2406600"/>
            <a:ext cx="32623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像电灯这样自己发光的物体叫做               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影子产生需要的条件是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从不同侧面照射得到的物体的影子叫做              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299120" y="37018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32"/>
          <p:cNvSpPr/>
          <p:nvPr/>
        </p:nvSpPr>
        <p:spPr>
          <a:xfrm>
            <a:off x="5522760" y="30542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33"/>
          <p:cNvSpPr/>
          <p:nvPr/>
        </p:nvSpPr>
        <p:spPr>
          <a:xfrm>
            <a:off x="1274760" y="435132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34"/>
          <p:cNvSpPr/>
          <p:nvPr/>
        </p:nvSpPr>
        <p:spPr>
          <a:xfrm>
            <a:off x="6459480" y="50706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35">
            <a:hlinkClick r:id="" action="ppaction://hlinkshowjump?jump=lastslide"/>
          </p:cNvPr>
          <p:cNvSpPr/>
          <p:nvPr/>
        </p:nvSpPr>
        <p:spPr>
          <a:xfrm>
            <a:off x="5595840" y="25970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光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1274760" y="2982960"/>
            <a:ext cx="7993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光源、遮挡物、屏（且遮挡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要在光源和屏之间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6459480" y="46134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投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392076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阳光下的影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8"/>
          <p:cNvSpPr/>
          <p:nvPr/>
        </p:nvSpPr>
        <p:spPr>
          <a:xfrm>
            <a:off x="900000" y="2276640"/>
            <a:ext cx="7524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在阳光下我们看到过影子吗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一天中阳光下的影子有变化吗？是怎样变化的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2076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阳光下的影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9"/>
          <p:cNvSpPr/>
          <p:nvPr/>
        </p:nvSpPr>
        <p:spPr>
          <a:xfrm>
            <a:off x="4421160" y="371628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ject 2" descr=""/>
          <p:cNvPicPr/>
          <p:nvPr/>
        </p:nvPicPr>
        <p:blipFill>
          <a:blip r:embed="rId1"/>
          <a:stretch/>
        </p:blipFill>
        <p:spPr>
          <a:xfrm>
            <a:off x="1620720" y="4925880"/>
            <a:ext cx="3060720" cy="54792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3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1380960" cy="124776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4" descr=""/>
          <p:cNvPicPr/>
          <p:nvPr/>
        </p:nvPicPr>
        <p:blipFill>
          <a:blip r:embed="rId3"/>
          <a:stretch/>
        </p:blipFill>
        <p:spPr>
          <a:xfrm>
            <a:off x="3995640" y="0"/>
            <a:ext cx="1381320" cy="124776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5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381320" cy="1247760"/>
          </a:xfrm>
          <a:prstGeom prst="rect">
            <a:avLst/>
          </a:prstGeom>
          <a:ln w="0">
            <a:noFill/>
          </a:ln>
        </p:spPr>
      </p:pic>
      <p:sp>
        <p:nvSpPr>
          <p:cNvPr id="131" name="Line 6"/>
          <p:cNvSpPr/>
          <p:nvPr/>
        </p:nvSpPr>
        <p:spPr>
          <a:xfrm>
            <a:off x="2484360" y="2276640"/>
            <a:ext cx="1511280" cy="1081080"/>
          </a:xfrm>
          <a:prstGeom prst="line">
            <a:avLst/>
          </a:prstGeom>
          <a:ln w="38160">
            <a:solidFill>
              <a:srgbClr val="ff66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5580000" y="2205000"/>
            <a:ext cx="1656000" cy="1079640"/>
          </a:xfrm>
          <a:prstGeom prst="line">
            <a:avLst/>
          </a:prstGeom>
          <a:ln w="38160">
            <a:solidFill>
              <a:srgbClr val="ff66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788000" y="1628640"/>
            <a:ext cx="0" cy="1584360"/>
          </a:xfrm>
          <a:prstGeom prst="line">
            <a:avLst/>
          </a:prstGeom>
          <a:ln w="38160">
            <a:solidFill>
              <a:srgbClr val="ff66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79280" y="24922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太阳：东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偏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940360" y="227664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太阳：西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偏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11" descr=""/>
          <p:cNvPicPr/>
          <p:nvPr/>
        </p:nvPicPr>
        <p:blipFill>
          <a:blip r:embed="rId5"/>
          <a:stretch/>
        </p:blipFill>
        <p:spPr>
          <a:xfrm>
            <a:off x="3995640" y="3213000"/>
            <a:ext cx="1710000" cy="2176560"/>
          </a:xfrm>
          <a:prstGeom prst="rect">
            <a:avLst/>
          </a:prstGeom>
          <a:ln w="0">
            <a:noFill/>
          </a:ln>
        </p:spPr>
      </p:pic>
      <p:sp>
        <p:nvSpPr>
          <p:cNvPr id="137" name="Line 12"/>
          <p:cNvSpPr/>
          <p:nvPr/>
        </p:nvSpPr>
        <p:spPr>
          <a:xfrm>
            <a:off x="250920" y="5373720"/>
            <a:ext cx="889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Object 13" descr=""/>
          <p:cNvPicPr/>
          <p:nvPr/>
        </p:nvPicPr>
        <p:blipFill>
          <a:blip r:embed="rId6"/>
          <a:stretch/>
        </p:blipFill>
        <p:spPr>
          <a:xfrm>
            <a:off x="4572000" y="5373720"/>
            <a:ext cx="2979720" cy="73980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14" descr=""/>
          <p:cNvPicPr/>
          <p:nvPr/>
        </p:nvPicPr>
        <p:blipFill>
          <a:blip r:embed="rId7"/>
          <a:stretch/>
        </p:blipFill>
        <p:spPr>
          <a:xfrm>
            <a:off x="3995640" y="5373720"/>
            <a:ext cx="1656000" cy="56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KU58IA`7%T70OJC}Z0U4U4H"/>
          <p:cNvPicPr/>
          <p:nvPr/>
        </p:nvPicPr>
        <p:blipFill>
          <a:blip r:embed="rId8"/>
          <a:stretch/>
        </p:blipFill>
        <p:spPr>
          <a:xfrm>
            <a:off x="7029360" y="3357720"/>
            <a:ext cx="2114640" cy="19526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6"/>
          <p:cNvSpPr/>
          <p:nvPr/>
        </p:nvSpPr>
        <p:spPr>
          <a:xfrm>
            <a:off x="2987640" y="98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太阳：上方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偏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782640" y="431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ahoma"/>
              </a:rPr>
              <a:t>影子长短变化：清晨长，逐渐变短，中午最短，然后变长，到太阳偏西快落山时最长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太阳位置最高时影子最短，太阳位置最低时，影子最长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1258920" y="1773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判  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031640" y="2270160"/>
            <a:ext cx="160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天当中，阳光下物体的影子不会发生变化。（   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物体的影子总在阳光背光的一面。（   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影子越短，表示太阳的位置越高。（   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早晨太阳在东方升起，物体的影子就在东方。（   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同一时间，阳光下不同物体的影子方向相同。（     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6340680" y="3362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7954560" y="2630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7954560" y="4862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411960" y="40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7944120" y="5583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392076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阳光下的影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3"/>
          <p:cNvSpPr/>
          <p:nvPr/>
        </p:nvSpPr>
        <p:spPr>
          <a:xfrm>
            <a:off x="1883520" y="1841400"/>
            <a:ext cx="5794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同一时间，阳光下不同物体的影子（        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形状相同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方向相同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长短相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不同时间，阳光下同一物体的影子（        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位置保持不变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方向保持不变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长短、位置和方向都发生变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阳光下旗杆影子长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，一会儿旗杆影子变长了，这种现象发生在（     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上午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中午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下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阳光下一根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厘米的铅笔直立在地上，其影子长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厘米，同时测得旗杆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子长为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。旗杆实际高度约为（    ）米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.5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935960" y="203508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5009400" y="3176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8322840" y="42559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392076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阳光下的影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4506480" y="59119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1:57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52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