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himes.wav" ContentType="audio/x-wav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DBA-1C7C-4E45-AD51-94E5F3C1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893-8104-4B39-AFF1-D770CE4F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040-9EC6-4C04-BA26-B69DBB4C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054-0BDC-459D-B2E0-1FFDBF4D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6625C-3D9E-45E7-80C3-42422017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5B484-B880-4A3E-9AD8-E113CB6A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44F51-5861-4A17-BB81-84950A2F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32A18-7F7B-4D04-862F-4D3765ED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4FEAE-79AA-438E-9918-6A203D94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406E6-5069-4C55-AE73-CF6C6ABE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58F4E-BF64-4DDF-AE62-2F4CBAD0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949-908B-4A7E-A56C-12003903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6CDA1-5FAC-4BD7-B5FD-60D5CA59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67025-FD38-4DD2-A13F-82E9CFF8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438F9-BFCD-4C40-B8C3-F0C83677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D53E8-B857-4080-9BFD-1234F94D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F62F8-8E55-4853-A0B8-A630CFB1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099-2AB0-43D3-820D-866B7479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F57-6008-4C4E-A022-6E0EACD6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ECE-7BF0-4DD6-B9B4-47C2DD86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FD4-8910-4FE4-AF86-4D783DC4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C45-9C08-4558-8F9D-5313ACA8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9FC-E656-49E3-8AA9-C2862BB2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7B4-D3A8-435E-831D-C5FE4013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094F-4FEA-45CE-B5CA-C2E014E92B7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134B-0C67-4051-B425-882E9DB1D7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435B-4A0B-4297-881C-40F240F9EF3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8ADB-3CD0-4E33-A5EF-1EEEA330FA5A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206080" y="1066680"/>
            <a:ext cx="44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人教版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·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数学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·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八年级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上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247760" y="2189160"/>
            <a:ext cx="64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因式分解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免费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3719520" y="40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平方差公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9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990720" y="609480"/>
            <a:ext cx="746748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</a:rPr>
              <a:t>例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6000" spc="-1" strike="noStrike">
                <a:solidFill>
                  <a:srgbClr val="000099"/>
                </a:solidFill>
                <a:latin typeface="Times New Roman"/>
              </a:rPr>
              <a:t>分解因式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6000" spc="-1" strike="noStrike" baseline="30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en-US" sz="6000" spc="-1" strike="noStrike" baseline="30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;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6000" spc="-1" strike="noStrike" baseline="30000">
                <a:solidFill>
                  <a:srgbClr val="000099"/>
                </a:solidFill>
                <a:latin typeface="Times New Roman"/>
              </a:rPr>
              <a:t>3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 – 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ab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文本框 8199"/>
          <p:cNvSpPr/>
          <p:nvPr/>
        </p:nvSpPr>
        <p:spPr>
          <a:xfrm>
            <a:off x="1082520" y="141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990720" y="609480"/>
            <a:ext cx="74674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zh-CN" sz="6000" spc="-1" strike="noStrike">
                <a:solidFill>
                  <a:srgbClr val="000099"/>
                </a:solidFill>
                <a:latin typeface="Times New Roman"/>
              </a:rPr>
              <a:t>分解因式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828800" y="1905120"/>
            <a:ext cx="5638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(1) a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b—     b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     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(2)  a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(x-y)-x+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(3)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–a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+16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762120" y="228600"/>
            <a:ext cx="2361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尝试二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11606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066680" y="228600"/>
            <a:ext cx="655344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分解因式：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）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-4x</a:t>
            </a:r>
            <a:r>
              <a:rPr b="1" lang="en-US" sz="6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1" lang="en-US" sz="6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-6x</a:t>
            </a:r>
            <a:r>
              <a:rPr b="1" lang="en-US" sz="60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1" lang="en-US" sz="6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9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6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(x-1)+b</a:t>
            </a:r>
            <a:r>
              <a:rPr b="1" lang="en-US" sz="6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(1-x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9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lang="en-US" sz="60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-9x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黑体"/>
              </a:rPr>
              <a:t>                     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．如果多项式各项含有公因式，则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第一步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是提出这个公因式．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．如果多项式各项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没有公因式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，则第一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考虑用公式分解因式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．第一步分解因式以后，所含的多项式还可以继续分解，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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则需要进一步分解因式．直到每个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多项式因式都不能分解为止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WordArt 2"/>
          <p:cNvSpPr txBox="1"/>
          <p:nvPr/>
        </p:nvSpPr>
        <p:spPr>
          <a:xfrm>
            <a:off x="228600" y="304920"/>
            <a:ext cx="25146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三、小结</a:t>
            </a:r>
            <a:endParaRPr b="1" lang="en-US" sz="1800" spc="1" strike="noStrike">
              <a:ln w="2844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7AC0-DB35-43A8-BBB7-5B5562311B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80880" y="5335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问题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：你能叙述多项式因式分解的定义吗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黑体"/>
              </a:rPr>
              <a:t>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04920" y="243828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53760"/>
                </a:solidFill>
                <a:latin typeface="Arial"/>
                <a:ea typeface="黑体"/>
              </a:rPr>
              <a:t>        </a:t>
            </a:r>
            <a:r>
              <a:rPr b="1" lang="zh-CN" sz="5400" spc="-1" strike="noStrike">
                <a:solidFill>
                  <a:srgbClr val="f53760"/>
                </a:solidFill>
                <a:latin typeface="Arial"/>
                <a:ea typeface="黑体"/>
              </a:rPr>
              <a:t>多项式的因式分解其实是整式乘法的逆用，</a:t>
            </a:r>
            <a:r>
              <a:rPr b="1" lang="zh-CN" sz="5400" spc="-1" strike="noStrike">
                <a:solidFill>
                  <a:srgbClr val="f53760"/>
                </a:solidFill>
                <a:latin typeface="Arial"/>
                <a:ea typeface="黑体"/>
              </a:rPr>
              <a:t></a:t>
            </a:r>
            <a:r>
              <a:rPr b="1" lang="zh-CN" sz="5400" spc="-1" strike="noStrike">
                <a:solidFill>
                  <a:srgbClr val="f53760"/>
                </a:solidFill>
                <a:latin typeface="Arial"/>
                <a:ea typeface="黑体"/>
              </a:rPr>
              <a:t>也就是把一个多项式化成了几个整式的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黑体"/>
              </a:rPr>
              <a:t>积的形式</a:t>
            </a:r>
            <a:r>
              <a:rPr b="1" lang="zh-CN" sz="5400" spc="-1" strike="noStrike">
                <a:solidFill>
                  <a:srgbClr val="f53760"/>
                </a:solidFill>
                <a:latin typeface="Arial"/>
                <a:ea typeface="黑体"/>
              </a:rPr>
              <a:t>．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8088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问题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：运用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黑体"/>
              </a:rPr>
              <a:t>提公因式法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分解因式的步骤是什么？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2120" y="2057400"/>
            <a:ext cx="83818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分解因式（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）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8m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n+2mn        (2)12xyz-9x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30000">
                <a:solidFill>
                  <a:srgbClr val="000099"/>
                </a:solidFill>
                <a:latin typeface="Arial"/>
              </a:rPr>
              <a:t>(3)2a(y-z)-3b(z-y)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85800" y="4648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(4)a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-b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327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0948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问题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：你能将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a</a:t>
            </a:r>
            <a:r>
              <a:rPr b="1" lang="en-US" sz="54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-b</a:t>
            </a:r>
            <a:r>
              <a:rPr b="1" lang="en-US" sz="54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分解     因式吗？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066680" y="2057400"/>
            <a:ext cx="830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多项式的乘法公式的逆向应用，就是多项式的因式分解公式，如果被分解的多项式符合公式的条件，就可以直接写出因式分解的结果，这种分解因式的方法称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运用公式法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．今天我们就来学习利用平方差公式分解因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457200" y="0"/>
            <a:ext cx="8458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观察平方差公式：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a</a:t>
            </a:r>
            <a:r>
              <a:rPr b="1" lang="en-US" sz="54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-b</a:t>
            </a:r>
            <a:r>
              <a:rPr b="1" lang="en-US" sz="54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=(a+b)(a-b)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的项、指数、符号有什么特点？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380880" y="3124080"/>
            <a:ext cx="82296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f53760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f53760"/>
                </a:solidFill>
                <a:latin typeface="Arial"/>
                <a:ea typeface="黑体"/>
              </a:rPr>
              <a:t>）左边是二项式，每项都是平方的形式，两项的符号相反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376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f53760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f5376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f53760"/>
                </a:solidFill>
                <a:latin typeface="Arial"/>
                <a:ea typeface="黑体"/>
              </a:rPr>
              <a:t>）右边是两个多项式的积，一个因式是两数的和，另一个因式是这两数的差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53760"/>
                </a:solidFill>
                <a:latin typeface="Arial"/>
                <a:ea typeface="黑体"/>
              </a:rPr>
              <a:t>（</a:t>
            </a:r>
            <a:r>
              <a:rPr b="1" lang="en-US" sz="4800" spc="-1" strike="noStrike">
                <a:solidFill>
                  <a:srgbClr val="f53760"/>
                </a:solidFill>
                <a:latin typeface="Arial"/>
                <a:ea typeface="黑体"/>
              </a:rPr>
              <a:t>3</a:t>
            </a:r>
            <a:r>
              <a:rPr b="1" lang="zh-CN" sz="4800" spc="-1" strike="noStrike">
                <a:solidFill>
                  <a:srgbClr val="f53760"/>
                </a:solidFill>
                <a:latin typeface="Arial"/>
                <a:ea typeface="黑体"/>
              </a:rPr>
              <a:t>）在乘法公式中，“平方差”是计算结果，而在分解因式，</a:t>
            </a:r>
            <a:r>
              <a:rPr b="1" lang="zh-CN" sz="4800" spc="-1" strike="noStrike">
                <a:solidFill>
                  <a:srgbClr val="f53760"/>
                </a:solidFill>
                <a:latin typeface="Arial"/>
                <a:ea typeface="黑体"/>
              </a:rPr>
              <a:t>“</a:t>
            </a:r>
            <a:r>
              <a:rPr b="1" lang="zh-CN" sz="4800" spc="-1" strike="noStrike">
                <a:solidFill>
                  <a:srgbClr val="f53760"/>
                </a:solidFill>
                <a:latin typeface="Arial"/>
                <a:ea typeface="黑体"/>
              </a:rPr>
              <a:t>平方差”是得分解因式的多项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228600" y="2438280"/>
            <a:ext cx="8915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由此可知如果多项式是两数差的形式，并且这两个数又都可以写成平方的形式，那么这个多项式可以运用平方差公式分解因式．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文本框 8199"/>
          <p:cNvSpPr/>
          <p:nvPr/>
        </p:nvSpPr>
        <p:spPr>
          <a:xfrm>
            <a:off x="1828800" y="46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0880" y="0"/>
            <a:ext cx="876312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[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例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1]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分解因式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4x</a:t>
            </a:r>
            <a:r>
              <a:rPr b="1" lang="en-US" sz="60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-9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(x+p)</a:t>
            </a:r>
            <a:r>
              <a:rPr b="1" lang="en-US" sz="60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-(x+q)</a:t>
            </a:r>
            <a:r>
              <a:rPr b="1" lang="en-US" sz="60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0" y="-303120"/>
            <a:ext cx="9753480" cy="71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808020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6248520" y="3962520"/>
            <a:ext cx="194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尝试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57200" y="-3960"/>
            <a:ext cx="929628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、下列多项式中，能用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平方差分解因式的是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(    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-xy   B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+xy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-x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+y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   D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+y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、分解因式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）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-144b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                      (2)16(x+y)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-25(x-y)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9:32:56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4:43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1004000000000001024120</vt:lpwstr>
  </property>
  <property fmtid="{D5CDD505-2E9C-101B-9397-08002B2CF9AE}" pid="4" name="Version">
    <vt:r8>1</vt:r8>
  </property>
</Properties>
</file>