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864-E167-4C04-AE14-64AF67C4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D82-062C-4524-881E-7C731A55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A23-4E71-4514-B42A-D3EA9213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AC4-6C90-4507-843D-520229F3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D7A-D25E-43D2-AAC9-2258DB29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8E3-8775-41D6-A37C-61EA2F0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0EC-2F45-4DD9-9B1F-DD72E654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3D0-6A75-450F-A76A-9E2C19F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DB6-604E-4829-822F-09D57A16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D63-CD0D-4EAA-86CC-5CCDA4D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A30-0C33-4EDC-8888-6618739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B7D-13FC-4576-9B13-5CB8F04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B154-5398-443F-8A2B-32E4EC81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1844640"/>
            <a:ext cx="72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圆柱和圆锥整理复习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9148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411280" y="2997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85080" cy="3600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258920" y="69228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填写下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431640" y="60530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250920" y="1557360"/>
            <a:ext cx="871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体积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方厘米的圆柱，削成一个最大的圆锥，这个圆锥的体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  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柱的底面半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，体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.5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方厘米，这个圆柱的高是（       ）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锥的底面半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，体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3.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方厘米，它的高是（         ）厘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16000" y="549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会填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68360" y="33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综合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个圆柱形水桶，底面半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米。 （先思考，再计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这个水桶加个盖，是求哪个部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这个水桶加个箍，是求哪个部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这个水桶的外面涂上油漆，是求哪个部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④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水桶能装多少水，是求哪个部分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50920" y="189000"/>
            <a:ext cx="849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综合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棱长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正方体容器装满水后，倒入一个底面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分米的圆锥体容器里正好装满，这个圆锥体的高是多少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圆柱形钢块，底面半径和高都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，把它熔铸成一个等高的圆锥，这个圆锥的底面积是多少平方分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圆锥形谷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底面周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立方米谷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堆稻谷重多少千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8360" y="69228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实践拓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工厂买来一块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的铁皮准备做一个烟囱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头处忽略不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设计一下烟囱的形状，你能设计几种款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你是厂长，你会选择哪种款式的烟囱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D82A-32CD-44B9-83B2-9215F48BE8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0:24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14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