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369-5A70-49FC-B9F6-2DCEADF0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E63-CCE6-4339-9679-125DEBA1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43E-B240-4FE1-9755-F2E3F925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2B7-242A-4BBC-8E1F-CAF1D04B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BEE-8531-4D39-AC66-15F418AF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AA04-85A1-48FE-A378-804AC28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B0C-DFE4-483F-8581-03108578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562-6D43-4DAC-94AF-62D4212E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6DC-ECE2-4AB2-89BC-7AB0D81F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DD3-D935-4E4A-996A-EBEDB8B2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FE6-2B87-4BEF-918D-8D0B2DE9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6E6-F4E5-4408-829C-6C315018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D8DB-CFF5-4EB5-BADC-DFCF2A239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26240" y="611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教版小学数学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042920" y="2276640"/>
            <a:ext cx="70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《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轴对称图形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》</a:t>
            </a:r>
            <a:endParaRPr b="0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296440" y="61531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1752480"/>
            <a:ext cx="60948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447920" y="2286000"/>
            <a:ext cx="990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2743200" y="1981080"/>
            <a:ext cx="12952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" name="Oval 5"/>
          <p:cNvSpPr/>
          <p:nvPr/>
        </p:nvSpPr>
        <p:spPr>
          <a:xfrm>
            <a:off x="4191120" y="1905120"/>
            <a:ext cx="137160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7772400" y="1981080"/>
            <a:ext cx="1143000" cy="121932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638680" y="2438280"/>
            <a:ext cx="1905120" cy="762120"/>
          </a:xfrm>
          <a:prstGeom prst="triangle">
            <a:avLst>
              <a:gd name="adj" fmla="val 7591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57200" y="4038480"/>
            <a:ext cx="914400" cy="1447920"/>
          </a:xfrm>
          <a:prstGeom prst="flowChartDe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1600200" y="4114800"/>
            <a:ext cx="68580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590920" y="4495680"/>
            <a:ext cx="1295280" cy="990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4267080" y="3886200"/>
            <a:ext cx="1067040" cy="1600200"/>
          </a:xfrm>
          <a:prstGeom prst="diamond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5562720" y="4572000"/>
            <a:ext cx="14475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6934320" y="4648320"/>
            <a:ext cx="2057400" cy="838080"/>
          </a:xfrm>
          <a:prstGeom prst="parallelogram">
            <a:avLst>
              <a:gd name="adj" fmla="val 6137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559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7542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32022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47707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64789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8155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6215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60213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457344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049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1754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611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666880" y="533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下列图形中哪些是轴对称图形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143000" y="2133720"/>
            <a:ext cx="1828800" cy="8380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5638680" y="1905120"/>
            <a:ext cx="1219320" cy="1752480"/>
          </a:xfrm>
          <a:prstGeom prst="upDownArrow">
            <a:avLst>
              <a:gd name="adj1" fmla="val 50000"/>
              <a:gd name="adj2" fmla="val 286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685800" y="4038480"/>
            <a:ext cx="2133720" cy="2057400"/>
          </a:xfrm>
          <a:custGeom>
            <a:avLst/>
            <a:gdLst>
              <a:gd name="textAreaLeft" fmla="*/ 879120 w 2133720"/>
              <a:gd name="textAreaRight" fmla="*/ 1254600 w 2133720"/>
              <a:gd name="textAreaTop" fmla="*/ 847800 h 2057400"/>
              <a:gd name="textAreaBottom" fmla="*/ 12096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3581280" y="4038480"/>
            <a:ext cx="1676520" cy="1600200"/>
          </a:xfrm>
          <a:custGeom>
            <a:avLst/>
            <a:gdLst/>
            <a:ahLst/>
            <a:rect l="l" t="t" r="r" b="b"/>
            <a:pathLst>
              <a:path w="1676400" h="1600200">
                <a:moveTo>
                  <a:pt x="1" y="611220"/>
                </a:moveTo>
                <a:lnTo>
                  <a:pt x="640331" y="611224"/>
                </a:lnTo>
                <a:lnTo>
                  <a:pt x="838200" y="0"/>
                </a:lnTo>
                <a:lnTo>
                  <a:pt x="1036068" y="611224"/>
                </a:lnTo>
                <a:lnTo>
                  <a:pt x="1676398" y="611220"/>
                </a:lnTo>
                <a:lnTo>
                  <a:pt x="1158358" y="988973"/>
                </a:lnTo>
                <a:lnTo>
                  <a:pt x="1356234" y="1600195"/>
                </a:lnTo>
                <a:lnTo>
                  <a:pt x="838200" y="1222435"/>
                </a:lnTo>
                <a:lnTo>
                  <a:pt x="320165" y="1600195"/>
                </a:lnTo>
                <a:lnTo>
                  <a:pt x="518041" y="98897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6553080" y="4267080"/>
            <a:ext cx="1524240" cy="175284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2666880" y="5335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指出下列轴对称图形的对称轴，每个轴对称图形的对称轴有几条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Line 2"/>
          <p:cNvSpPr/>
          <p:nvPr/>
        </p:nvSpPr>
        <p:spPr>
          <a:xfrm>
            <a:off x="762120" y="2590920"/>
            <a:ext cx="2361960" cy="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5029200" y="2743200"/>
            <a:ext cx="2362320" cy="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 flipV="1">
            <a:off x="6246720" y="1598400"/>
            <a:ext cx="1800" cy="236196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143000" y="4419720"/>
            <a:ext cx="1143000" cy="121896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752480" y="3657600"/>
            <a:ext cx="0" cy="297180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419720" y="3657600"/>
            <a:ext cx="0" cy="213372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7315200" y="3886200"/>
            <a:ext cx="0" cy="297180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5881320" y="4494240"/>
            <a:ext cx="2635560" cy="137304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1143000" y="2133720"/>
            <a:ext cx="1828800" cy="8380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5638680" y="1905120"/>
            <a:ext cx="1219320" cy="1752480"/>
          </a:xfrm>
          <a:prstGeom prst="upDownArrow">
            <a:avLst>
              <a:gd name="adj1" fmla="val 50000"/>
              <a:gd name="adj2" fmla="val 286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685800" y="4038480"/>
            <a:ext cx="2133720" cy="2057400"/>
          </a:xfrm>
          <a:custGeom>
            <a:avLst/>
            <a:gdLst>
              <a:gd name="textAreaLeft" fmla="*/ 879120 w 2133720"/>
              <a:gd name="textAreaRight" fmla="*/ 1254600 w 2133720"/>
              <a:gd name="textAreaTop" fmla="*/ 847800 h 2057400"/>
              <a:gd name="textAreaBottom" fmla="*/ 12096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3581280" y="4038480"/>
            <a:ext cx="1676520" cy="1600200"/>
          </a:xfrm>
          <a:custGeom>
            <a:avLst/>
            <a:gdLst/>
            <a:ahLst/>
            <a:rect l="l" t="t" r="r" b="b"/>
            <a:pathLst>
              <a:path w="1676400" h="1600200">
                <a:moveTo>
                  <a:pt x="1" y="611220"/>
                </a:moveTo>
                <a:lnTo>
                  <a:pt x="640331" y="611224"/>
                </a:lnTo>
                <a:lnTo>
                  <a:pt x="838200" y="0"/>
                </a:lnTo>
                <a:lnTo>
                  <a:pt x="1036068" y="611224"/>
                </a:lnTo>
                <a:lnTo>
                  <a:pt x="1676398" y="611220"/>
                </a:lnTo>
                <a:lnTo>
                  <a:pt x="1158358" y="988973"/>
                </a:lnTo>
                <a:lnTo>
                  <a:pt x="1356234" y="1600195"/>
                </a:lnTo>
                <a:lnTo>
                  <a:pt x="838200" y="1222435"/>
                </a:lnTo>
                <a:lnTo>
                  <a:pt x="320165" y="1600195"/>
                </a:lnTo>
                <a:lnTo>
                  <a:pt x="518041" y="98897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6553080" y="4267080"/>
            <a:ext cx="1524240" cy="175284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2666880" y="5335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指出下列轴对称图形的对称轴，每个轴对称图形的对称轴有几条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16002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你生活周围有哪些物体的面是轴对称图形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189080" y="577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202200" y="5335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4680" y="5335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478920" y="5335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697880" y="609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2112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12588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95468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478920" y="36259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77420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600200" y="60948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 flipH="1">
            <a:off x="6021000" y="4417920"/>
            <a:ext cx="1676520" cy="32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Line 15"/>
          <p:cNvSpPr/>
          <p:nvPr/>
        </p:nvSpPr>
        <p:spPr>
          <a:xfrm flipH="1">
            <a:off x="684360" y="1370160"/>
            <a:ext cx="1676160" cy="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858000" y="358128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474840" y="5257800"/>
            <a:ext cx="62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更多免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PPT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模板尽在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eppt.com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33520" y="609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小结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09480" y="16765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你学到了什么？还有什么疑问？还想了解什么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5800" y="2819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1371600" y="182880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敬请指导！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D7E9-98DB-49D8-B397-7A262D7A3F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52200" y="1752480"/>
            <a:ext cx="126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学习任务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82720" y="3252960"/>
            <a:ext cx="1399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资源要求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782720" y="2490840"/>
            <a:ext cx="1400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课前知识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852200" y="4038480"/>
            <a:ext cx="126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课的准备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华文行楷"/>
                <a:hlinkClick r:id="rId8" action="ppaction://hlinksldjump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82720" y="4776840"/>
            <a:ext cx="1399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正课学习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09480" y="15238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学生将：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构建对称的空间概念，理解轴对称图形、对称轴的意义；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学会判断一个图形是否是轴对称图形并能找出它的对称轴；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操作并观察一个物体在对称轴周围移动的情况，知道对称轴左右的距离相同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2" name="Picture 3" descr="26.gif (471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334120"/>
            <a:ext cx="85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09480" y="15238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学生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﹕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知道前、后、左、右的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</a:rPr>
              <a:t>概念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懂得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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度、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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度等角的度数的方位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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能熟练地操控计算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5" name="Picture 3" descr="26.gif (471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105520"/>
            <a:ext cx="85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609480" y="15238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学校已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校园网络系统，能提供给每个学生一台计算机，最好能以小组围坐的形式便于学生小组学习和讨论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每个学生有一张练习纸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8" name="Picture 3" descr="26.gif (471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105520"/>
            <a:ext cx="85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2"/>
          <p:cNvSpPr/>
          <p:nvPr/>
        </p:nvSpPr>
        <p:spPr>
          <a:xfrm>
            <a:off x="3059280" y="2492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1387440" cy="14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6934320" y="2133720"/>
            <a:ext cx="1295280" cy="1177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4"/>
          <p:cNvSpPr/>
          <p:nvPr/>
        </p:nvSpPr>
        <p:spPr>
          <a:xfrm>
            <a:off x="2743200" y="2133720"/>
            <a:ext cx="129528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5181480" y="3962520"/>
            <a:ext cx="2133720" cy="160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1523880" y="4191120"/>
            <a:ext cx="2463840" cy="135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BS00975_"/>
          <p:cNvPicPr/>
          <p:nvPr/>
        </p:nvPicPr>
        <p:blipFill>
          <a:blip r:embed="rId6"/>
          <a:stretch/>
        </p:blipFill>
        <p:spPr>
          <a:xfrm>
            <a:off x="4495680" y="2057400"/>
            <a:ext cx="2057400" cy="1268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看一看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666880" y="533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下列物体有什么特点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说一说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90720" y="16765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组内交流自己的发现，用自己的话描述一下这些图形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04920" y="1676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如果一个图形沿着一条线对折，两侧的图形能够完全重合，这样的图形就是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轴对称图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0880" y="1523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折痕所在的直线就是轴对称图形的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对称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00:41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4:58Z</dcterms:modified>
  <cp:revision>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