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BF8-896E-4CF7-BF11-C88E3640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180-08EA-4A7E-8CB9-95620933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45B-3866-42E2-9B78-4B5EDC71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EEF-76E7-4700-9B60-0644A8C1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0885-67A0-44EE-99C3-555FF299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BBF3-A6D3-4499-A959-11555AC5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3B27-1E23-4EA0-9108-620F9237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944E-4302-48F0-BAC5-6FBDA980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4EE5-C62A-45FE-9BD3-1FF4A967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F065-03CB-41AF-94B7-53A4B3F7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80DA-36E9-49B6-B191-70861F85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8D8-A09F-4AEF-90ED-268C8D17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9EDB-8472-4F69-A584-830978AE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DECC-1AE8-4F8C-AEF6-21CC8D00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5454-A9B6-4B0D-865D-7253683C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FB3B-C239-4586-BE8A-63EE4596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5920-6A09-465A-B1BA-203FD870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BF002-B47E-4043-A5A4-83450C19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49AA-3E86-4837-9379-B5569D16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2224-2522-47AF-A16C-2371B2CA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C69D-26ED-4C90-818D-52DC55FD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81C8-0DED-4EC9-9F07-6405F647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949-9728-4B64-9C4E-531DE53C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24796-2A63-4B55-AA65-1EC4F611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28035-2BC4-444A-91D1-9795376A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C990-CFFD-4DE5-8020-03C92BAA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71A2-7E56-4D61-B5CC-F3D52D2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63FC-0EEB-4BCB-9F9B-1C6D09E4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3D0B-17C3-42E4-A18C-A9DEBE12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683F-0EA8-48EE-8916-993F843F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822-2568-42EA-A885-B9907086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AA3-3EA6-4C08-9284-3F496248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914-9045-43EB-8C73-FE2F337C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93E-1112-4C22-AF66-A530C154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5A5-B89E-4B12-8332-C9B4E239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C02-201C-42D5-A392-F2B0E9A2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44385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矩形 144386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组合 144387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椭圆 144388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椭圆 144389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椭圆 144390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椭圆 144391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椭圆 144392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椭圆 144393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椭圆 144394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椭圆 144395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矩形 144396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椭圆 144397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椭圆 144398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椭圆 144399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E9D4-2B98-45BA-B750-2D3B3E153D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3720-AB24-4E56-AE79-E41E3773294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691E-E929-4DF3-862D-42ADCD58855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145409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98" name="矩形 145410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矩形 145411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椭圆 145412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椭圆 145413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椭圆 145414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椭圆 145415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椭圆 145416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椭圆 145417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椭圆 145418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椭圆 145419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椭圆 145420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组合 145421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10" name="椭圆 145422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椭圆 145423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椭圆 145424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椭圆 145425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椭圆 145426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椭圆 145427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椭圆 145428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椭圆 145429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椭圆 145430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组合 145431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20" name="任意多边形 145432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任意多边形 145433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任意多边形 145434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3ED3-0B2D-4FDC-844E-A7EA6B25B77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5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中学科学教育之我见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79280" y="3836880"/>
            <a:ext cx="8640720" cy="24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XX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XX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大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七、探究式学习仍然是教改的突破口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263664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科学探究活动中最重要的阶段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观察（观察是一种习惯，也是一种能力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测量    记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提出理论或假设（归纳法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验证并找出理论或假设中的不确定性</a:t>
            </a:r>
            <a:r>
              <a:rPr b="1" lang="zh-CN" sz="44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矩形 206851"/>
          <p:cNvSpPr/>
          <p:nvPr/>
        </p:nvSpPr>
        <p:spPr>
          <a:xfrm>
            <a:off x="466560" y="1386000"/>
            <a:ext cx="806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1.  Pimental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教授的科学素养观与方案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8—12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岁）简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矩形 206852"/>
          <p:cNvSpPr/>
          <p:nvPr/>
        </p:nvSpPr>
        <p:spPr>
          <a:xfrm>
            <a:off x="468360" y="508464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2.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介绍一个培养方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矩形 206853"/>
          <p:cNvSpPr/>
          <p:nvPr/>
        </p:nvSpPr>
        <p:spPr>
          <a:xfrm>
            <a:off x="468360" y="566100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3.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套值得参考的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264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9933"/>
              </a:solidFill>
              <a:latin typeface="Times New Roman"/>
              <a:ea typeface="华文琥珀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493120" cy="5761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不仅限于实验探究，思考、求证；再思考、再求证也是一种探究性学习活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应当注意的问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●</a:t>
            </a:r>
            <a:r>
              <a:rPr b="1" lang="en-US" sz="1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着重于科学方法和科学精神的培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尊重学生的兴趣，符合学生的认知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教师的作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*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帮助学生把握探究问题的难度和范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*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导学生按照科学探究的步骤有序地前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*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关心初学者在探究时容易出现的普遍问题，如安全、数据和信息的质量、综合和分析中的遗漏、无序的工作方式、合理的评价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815328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八、素质教育任重道远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2491920"/>
            <a:ext cx="8064360" cy="34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由一堂小学英语课引发的思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由一章科学教材课引发的思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学科综合问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次关于蜘蛛的讨论引发的联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矩形 207876"/>
          <p:cNvSpPr/>
          <p:nvPr/>
        </p:nvSpPr>
        <p:spPr>
          <a:xfrm>
            <a:off x="685800" y="5302080"/>
            <a:ext cx="8153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九、向法拉第学习些什么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拉法第在</a:t>
            </a:r>
            <a:r>
              <a:rPr b="1" lang="en-US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圣诞科学讲座</a:t>
            </a:r>
            <a:r>
              <a:rPr b="1" lang="en-US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中以蜡烛的故事为题，成功地进行了</a:t>
            </a:r>
            <a:r>
              <a:rPr b="1" lang="en-US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6</a:t>
            </a: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次连续讲座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用最常见的自然现象与事物来引导公众进入“自然哲学”之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尽量避免用生僻的科学术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九、向法拉第学习些什么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60128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潜移默化地进行热爱科学的教育。“蜡烛的火焰能把暗处照亮，而金刚石的璀璨在没有火焰照亮时却什么都没有”；在讲到华丽的色彩和像长笛一样的蜡烛时，“不要做美丽的奴隶”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;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所有这些知识才是有意义的，而美丽并没有什么用处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“在任何环境下，我们绝不要落后于你的时间，这对我来说是一个教训。应当更加牢固地去把握事物的哲学，而不是把过多的时间用于这些解释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632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谢谢大家！</a:t>
            </a:r>
            <a:endParaRPr b="0" lang="en-US" sz="7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5127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bcbcb"/>
                </a:solidFill>
                <a:latin typeface="Times New Roman"/>
                <a:ea typeface="华文隶书"/>
              </a:rPr>
              <a:t>应试教育必不可取</a:t>
            </a:r>
            <a:endParaRPr b="0" lang="en-US" sz="7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割裂了学科知识体系的内在系统性，对可持续发展极为有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使学生能力结构严重失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对学生品德（诚信）有可能造成损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有违“十年树木，百年树人”的教育目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8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一、教育理念问题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矩形 143363"/>
          <p:cNvSpPr/>
          <p:nvPr/>
        </p:nvSpPr>
        <p:spPr>
          <a:xfrm>
            <a:off x="3975120" y="1092240"/>
            <a:ext cx="391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对“以学生为本”的认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4200" y="22669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从学生是某种专业人才的“毛坯”到具有独立人格的公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师在教学工作中应当把握的“感觉”：园丁还是泥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学目标从着眼于少数“拔尖人才”到绝大多数学生的素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公民受教育是权利还是义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二、国家与社会的可持续发展</a:t>
            </a:r>
            <a:br>
              <a:rPr sz="4800"/>
            </a:br>
            <a:r>
              <a:rPr b="0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        需要什么样的人才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33744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素质的公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水平的科技人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优秀的企业经营管理人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水平的政治领导干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矩形 200709"/>
          <p:cNvSpPr/>
          <p:nvPr/>
        </p:nvSpPr>
        <p:spPr>
          <a:xfrm>
            <a:off x="576360" y="4854600"/>
            <a:ext cx="838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社会所需人才的多样性要求教育与教学过程和目标的多样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3840" y="406080"/>
            <a:ext cx="855180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三、如何正确评价我国基础教</a:t>
            </a:r>
            <a:br>
              <a:rPr sz="4800"/>
            </a:br>
            <a:r>
              <a:rPr b="0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        育的质量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41120" y="2637000"/>
            <a:ext cx="77785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和外国学生相比，我国学生的基础扎实。因此基础教育是成功的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田单赛马故事的启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和外国学生相比，我国学生的基础更扎实，只是创新能力较差而已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矩形 201732"/>
          <p:cNvSpPr/>
          <p:nvPr/>
        </p:nvSpPr>
        <p:spPr>
          <a:xfrm>
            <a:off x="2674800" y="18129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两个值得讨论的认识误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矩形 201735"/>
          <p:cNvSpPr/>
          <p:nvPr/>
        </p:nvSpPr>
        <p:spPr>
          <a:xfrm>
            <a:off x="1116000" y="5300640"/>
            <a:ext cx="7777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一位清华化学系三年级学生的体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路涌祥院长再创新工程验收会上的讲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6560" y="333360"/>
            <a:ext cx="88390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四、关于“基础性和时代性”的关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例如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对原子的认识，元素的具体知识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外语教学重点的改变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投影几何课程的消失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计算技术功能的变化</a:t>
            </a:r>
            <a:r>
              <a:rPr b="1" lang="zh-CN" sz="44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矩形 202755"/>
          <p:cNvSpPr/>
          <p:nvPr/>
        </p:nvSpPr>
        <p:spPr>
          <a:xfrm>
            <a:off x="34920" y="1628640"/>
            <a:ext cx="889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1.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学科基础的陈述方式和教育价值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是可变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6560" y="333360"/>
            <a:ext cx="88390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四、关于“基础性和时代性”的关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矩形 203780"/>
          <p:cNvSpPr/>
          <p:nvPr/>
        </p:nvSpPr>
        <p:spPr>
          <a:xfrm>
            <a:off x="611280" y="2781360"/>
            <a:ext cx="83534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1001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与学科的发展现况和趋势的关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真正体现贴近生活、贴近社会，可   持续发展和终身学习的理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与社会的发展现况和趋势的关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京剧演变的启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矩形 203781"/>
          <p:cNvSpPr/>
          <p:nvPr/>
        </p:nvSpPr>
        <p:spPr>
          <a:xfrm>
            <a:off x="395280" y="1700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2.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课程内容与呈现方式的改变问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81532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五、教育目标问题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61840" y="2491920"/>
            <a:ext cx="525780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知识技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过程方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情感态度价值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六、科学素养问题是科学教育 </a:t>
            </a:r>
            <a:br>
              <a:rPr sz="4800"/>
            </a:br>
            <a:r>
              <a:rPr b="0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        的核心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640" y="2203200"/>
            <a:ext cx="633744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两种学习理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蚂蚁的智慧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非智力因素不可忽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并非寓言的寓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科学史教育中的问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27:12Z</dcterms:created>
  <dc:creator/>
  <dc:description/>
  <cp:keywords>科学 教育</cp:keywords>
  <dc:language>en-US</dc:language>
  <cp:lastModifiedBy>An</cp:lastModifiedBy>
  <dcterms:modified xsi:type="dcterms:W3CDTF">2016-05-01T00:27:1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