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chimes.wav" ContentType="audio/x-wav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AC3-E512-4E51-B812-83264C05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FF5-C4F6-43DA-848B-3DBB3E41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92B-747C-4204-A190-FB3EC75C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9DF-9323-4E59-9EF9-57737775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B2A-94CE-436B-90B9-D42718AC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F39-31B7-4230-B091-CC3CDE44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7C9-CE27-412D-8E4D-F887D884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869-49BA-4C63-9FF1-C48F9694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03D-29A3-4AE0-A0B4-DE87D4E0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837-3708-460A-8D05-F0236585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FB7-CA00-40F7-8036-CD70A581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209-E0E9-4AFB-9BB2-5721319D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2CF1-FEFB-41EA-A834-38107CE839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3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971640" y="1916280"/>
            <a:ext cx="489564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1584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  <a:solidFill>
                  <a:srgbClr val="ffff00"/>
                </a:solidFill>
                <a:latin typeface="华文琥珀"/>
              </a:rPr>
              <a:t>自选商场</a:t>
            </a:r>
            <a:endParaRPr b="0" lang="en-US" sz="1800" spc="1" strike="noStrike">
              <a:ln cap="rnd" w="15840">
                <a:solidFill>
                  <a:srgbClr val="000000"/>
                </a:solidFill>
                <a:custDash>
                  <a:ds d="100000" sp="1000"/>
                </a:custDash>
                <a:round/>
              </a:ln>
              <a:solidFill>
                <a:srgbClr val="ffff00"/>
              </a:solidFill>
              <a:latin typeface="华文琥珀"/>
              <a:ea typeface="华文琥珀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46080" y="5873760"/>
            <a:ext cx="48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900000" y="1268280"/>
            <a:ext cx="804384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华文楷体"/>
                <a:ea typeface="华文楷体"/>
              </a:rPr>
              <a:t>商  场  包  牙 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华文楷体"/>
                <a:ea typeface="华文楷体"/>
              </a:rPr>
              <a:t>毛  巾  笔  尺  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华文楷体"/>
                <a:ea typeface="华文楷体"/>
              </a:rPr>
              <a:t>作  业  本  奶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华文楷体"/>
                <a:ea typeface="华文楷体"/>
              </a:rPr>
              <a:t>东  西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48276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　考题三：你能记住他们吗？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两只小耳朵.mp3" descr=""/>
          <p:cNvPicPr/>
          <p:nvPr/>
        </p:nvPicPr>
        <p:blipFill>
          <a:blip r:embed="rId2"/>
          <a:stretch/>
        </p:blipFill>
        <p:spPr>
          <a:xfrm>
            <a:off x="7812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6068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0" y="2141640"/>
            <a:ext cx="864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</a:t>
            </a:r>
            <a:r>
              <a:rPr b="1" lang="zh-CN" sz="6600" spc="-1" strike="noStrike">
                <a:solidFill>
                  <a:srgbClr val="cc00cc"/>
                </a:solidFill>
                <a:latin typeface="Arial"/>
              </a:rPr>
              <a:t>在自选商场买东西真方便。</a:t>
            </a: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79280" y="1341360"/>
          <a:ext cx="4200480" cy="4064040"/>
        </p:xfrm>
        <a:graphic>
          <a:graphicData uri="http://schemas.openxmlformats.org/drawingml/2006/table">
            <a:tbl>
              <a:tblPr/>
              <a:tblGrid>
                <a:gridCol w="2100240"/>
                <a:gridCol w="2100240"/>
              </a:tblGrid>
              <a:tr h="20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716360" y="1341360"/>
          <a:ext cx="4200480" cy="4064040"/>
        </p:xfrm>
        <a:graphic>
          <a:graphicData uri="http://schemas.openxmlformats.org/drawingml/2006/table">
            <a:tbl>
              <a:tblPr/>
              <a:tblGrid>
                <a:gridCol w="2100240"/>
                <a:gridCol w="2100240"/>
              </a:tblGrid>
              <a:tr h="20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Text Box 24"/>
          <p:cNvSpPr/>
          <p:nvPr/>
        </p:nvSpPr>
        <p:spPr>
          <a:xfrm>
            <a:off x="826920" y="1484280"/>
            <a:ext cx="41752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000000"/>
                </a:solidFill>
                <a:latin typeface="Times New Roman"/>
              </a:rPr>
              <a:t>毛</a:t>
            </a:r>
            <a:endParaRPr b="0" lang="en-US" sz="26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5219640" y="1125360"/>
            <a:ext cx="41752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000000"/>
                </a:solidFill>
                <a:latin typeface="Times New Roman"/>
              </a:rPr>
              <a:t>巾</a:t>
            </a:r>
            <a:endParaRPr b="0" lang="en-US" sz="260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908000" y="1844640"/>
            <a:ext cx="4680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3366ff"/>
                  </a:solidFill>
                  <a:custDash>
                    <a:ds d="100000" sp="1000"/>
                  </a:custDash>
                  <a:round/>
                </a:ln>
                <a:solidFill>
                  <a:srgbClr val="ff00ff"/>
                </a:solidFill>
                <a:latin typeface="楷体_GB2312"/>
              </a:rPr>
              <a:t>谢谢指导</a:t>
            </a:r>
            <a:endParaRPr b="0" lang="en-US" sz="1800" spc="1" strike="noStrike">
              <a:ln cap="rnd" w="9360">
                <a:solidFill>
                  <a:srgbClr val="3366ff"/>
                </a:solidFill>
                <a:custDash>
                  <a:ds d="100000" sp="1000"/>
                </a:custDash>
                <a:round/>
              </a:ln>
              <a:solidFill>
                <a:srgbClr val="ff00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CC84-456A-43E1-94A5-D58F4DE5524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5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www.1ppt.com/sucai/</a:t>
            </a:r>
            <a:endParaRPr b="0" lang="en-US" sz="4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</a:t>
            </a:r>
            <a:endParaRPr b="0" lang="en-US" sz="4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</a:t>
            </a:r>
            <a:endParaRPr b="0" lang="en-US" sz="4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</a:t>
            </a:r>
            <a:endParaRPr b="0" lang="en-US" sz="4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/>
              </a:rPr>
              <a:t>www.1ppt.com/ziliao/</a:t>
            </a:r>
            <a:endParaRPr b="0" lang="en-US" sz="4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   </a:t>
            </a:r>
            <a:endParaRPr b="0" lang="en-US" sz="4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44" name="Picture 4" descr="5555"/>
          <p:cNvPicPr/>
          <p:nvPr/>
        </p:nvPicPr>
        <p:blipFill>
          <a:blip r:embed="rId15"/>
          <a:stretch/>
        </p:blipFill>
        <p:spPr>
          <a:xfrm>
            <a:off x="0" y="0"/>
            <a:ext cx="4618080" cy="365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6666"/>
          <p:cNvPicPr/>
          <p:nvPr/>
        </p:nvPicPr>
        <p:blipFill>
          <a:blip r:embed="rId16"/>
          <a:stretch/>
        </p:blipFill>
        <p:spPr>
          <a:xfrm>
            <a:off x="4140360" y="3135240"/>
            <a:ext cx="500364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627280" y="141300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340000" y="836640"/>
            <a:ext cx="37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403280" y="249228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00cc"/>
                </a:solidFill>
                <a:latin typeface="楷体_GB2312"/>
              </a:rPr>
              <a:t>商  场</a:t>
            </a:r>
            <a:endParaRPr b="0" lang="en-US" sz="8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10160" y="1484280"/>
            <a:ext cx="437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sh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ɡ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 ch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ǎ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ɡ</a:t>
            </a:r>
            <a:endParaRPr b="0" lang="en-US" sz="5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171360" y="5859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0" y="19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cc"/>
                </a:solidFill>
                <a:latin typeface="Arial"/>
                <a:ea typeface="华文楷体"/>
              </a:rPr>
              <a:t>  </a:t>
            </a:r>
            <a:r>
              <a:rPr b="1" lang="zh-CN" sz="6000" spc="-1" strike="noStrike">
                <a:solidFill>
                  <a:srgbClr val="cc00cc"/>
                </a:solidFill>
                <a:latin typeface="Arial"/>
              </a:rPr>
              <a:t>自选商场里的</a:t>
            </a: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东西</a:t>
            </a:r>
            <a:r>
              <a:rPr b="1" lang="zh-CN" sz="6000" spc="-1" strike="noStrike">
                <a:solidFill>
                  <a:srgbClr val="cc00cc"/>
                </a:solidFill>
                <a:latin typeface="Arial"/>
              </a:rPr>
              <a:t>真多。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7432560" y="1562040"/>
            <a:ext cx="124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123880" y="1557360"/>
            <a:ext cx="178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宋体"/>
              </a:rPr>
              <a:t>dōnɡ  xi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68360" y="404640"/>
            <a:ext cx="792144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行楷"/>
              </a:rPr>
              <a:t>　</a:t>
            </a: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华文行楷"/>
              </a:rPr>
              <a:t>好消息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“小天使”自选商场开张了，特在一（一）班招聘小小营业员。小朋友赶快来报名哦。</a:t>
            </a:r>
            <a:endParaRPr b="0" lang="en-US" sz="48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557880" y="333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考题一：你能读出我们的名称吗？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56" name="Picture 5" descr="1"/>
          <p:cNvPicPr/>
          <p:nvPr/>
        </p:nvPicPr>
        <p:blipFill>
          <a:blip r:embed="rId1"/>
          <a:stretch/>
        </p:blipFill>
        <p:spPr>
          <a:xfrm>
            <a:off x="250920" y="1125360"/>
            <a:ext cx="1657080" cy="146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u=1188004060,2521189002&amp;gp=30"/>
          <p:cNvPicPr/>
          <p:nvPr/>
        </p:nvPicPr>
        <p:blipFill>
          <a:blip r:embed="rId2"/>
          <a:stretch/>
        </p:blipFill>
        <p:spPr>
          <a:xfrm>
            <a:off x="2843280" y="1125360"/>
            <a:ext cx="1257120" cy="176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u=1261258168,2543355648&amp;gp=20"/>
          <p:cNvPicPr/>
          <p:nvPr/>
        </p:nvPicPr>
        <p:blipFill>
          <a:blip r:embed="rId3"/>
          <a:stretch/>
        </p:blipFill>
        <p:spPr>
          <a:xfrm>
            <a:off x="4716360" y="1413000"/>
            <a:ext cx="1778040" cy="1092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u=1412752744,3839127450&amp;gp=-14"/>
          <p:cNvPicPr/>
          <p:nvPr/>
        </p:nvPicPr>
        <p:blipFill>
          <a:blip r:embed="rId4"/>
          <a:stretch/>
        </p:blipFill>
        <p:spPr>
          <a:xfrm>
            <a:off x="324000" y="3068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u=3210108133,3409579027&amp;gp=22"/>
          <p:cNvPicPr/>
          <p:nvPr/>
        </p:nvPicPr>
        <p:blipFill>
          <a:blip r:embed="rId5"/>
          <a:stretch/>
        </p:blipFill>
        <p:spPr>
          <a:xfrm>
            <a:off x="2556000" y="3141720"/>
            <a:ext cx="1684080" cy="1324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u=3229229734,3034318337&amp;gp=24"/>
          <p:cNvPicPr/>
          <p:nvPr/>
        </p:nvPicPr>
        <p:blipFill>
          <a:blip r:embed="rId6"/>
          <a:stretch/>
        </p:blipFill>
        <p:spPr>
          <a:xfrm>
            <a:off x="4572000" y="3141720"/>
            <a:ext cx="1944720" cy="1292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u=3303139266,1221849821&amp;gp=20"/>
          <p:cNvPicPr/>
          <p:nvPr/>
        </p:nvPicPr>
        <p:blipFill>
          <a:blip r:embed="rId7"/>
          <a:stretch/>
        </p:blipFill>
        <p:spPr>
          <a:xfrm>
            <a:off x="5076720" y="5084640"/>
            <a:ext cx="1778040" cy="1333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u=3544960918,919508574&amp;gp=-6"/>
          <p:cNvPicPr/>
          <p:nvPr/>
        </p:nvPicPr>
        <p:blipFill>
          <a:blip r:embed="rId8"/>
          <a:stretch/>
        </p:blipFill>
        <p:spPr>
          <a:xfrm>
            <a:off x="468360" y="5013360"/>
            <a:ext cx="1333440" cy="136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u=4041284499,2177008700&amp;gp=40"/>
          <p:cNvPicPr/>
          <p:nvPr/>
        </p:nvPicPr>
        <p:blipFill>
          <a:blip r:embed="rId9"/>
          <a:stretch/>
        </p:blipFill>
        <p:spPr>
          <a:xfrm>
            <a:off x="2627280" y="4869000"/>
            <a:ext cx="16574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395280" y="549360"/>
            <a:ext cx="8748720" cy="73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miàn bāo  niú nǎi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　 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huǒ tuǐ chánɡ 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cc"/>
                </a:solidFill>
                <a:latin typeface="楷体_GB2312"/>
              </a:rPr>
              <a:t>面 包 牛奶  火 腿 肠</a:t>
            </a: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yá ɡāo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　 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máo jīn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　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ǐ yī  fěn</a:t>
            </a:r>
            <a:r>
              <a:rPr b="0" lang="zh-CN" sz="6600" spc="-1" strike="noStrike">
                <a:solidFill>
                  <a:srgbClr val="cc00cc"/>
                </a:solidFill>
                <a:latin typeface="Arial"/>
              </a:rPr>
              <a:t>牙膏   毛 巾    洗 衣 粉</a:t>
            </a: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qiān bǐ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ǐ  zi        zuò  yè   běn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cc"/>
                </a:solidFill>
                <a:latin typeface="Arial"/>
              </a:rPr>
              <a:t>铅笔   尺 子　 作 业 本</a:t>
            </a: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782640" y="477720"/>
            <a:ext cx="72216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Arial"/>
              </a:rPr>
              <a:t>面包    牛奶  洗衣粉</a:t>
            </a: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Arial"/>
              </a:rPr>
              <a:t>牙膏    毛巾  火腿肠</a:t>
            </a: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Arial"/>
              </a:rPr>
              <a:t>铅笔     尺子  作业本</a:t>
            </a:r>
            <a:endParaRPr b="0" lang="en-US" sz="6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900000" y="1268280"/>
            <a:ext cx="804384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华文楷体"/>
                <a:ea typeface="华文楷体"/>
              </a:rPr>
              <a:t>商  场  包  牙 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华文楷体"/>
                <a:ea typeface="华文楷体"/>
              </a:rPr>
              <a:t>毛  巾  笔  尺  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华文楷体"/>
                <a:ea typeface="华文楷体"/>
              </a:rPr>
              <a:t>作  业  本  奶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华文楷体"/>
                <a:ea typeface="华文楷体"/>
              </a:rPr>
              <a:t>东  西</a:t>
            </a: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48276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　考题二：你能把这些生字读准吗？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02:53:16Z</dcterms:created>
  <dc:creator>六十铺中小学教育网http://www.lspjy.com</dc:creator>
  <dc:description/>
  <cp:keywords/>
  <dc:language>en-US</dc:language>
  <cp:lastModifiedBy>xinxing</cp:lastModifiedBy>
  <dcterms:modified xsi:type="dcterms:W3CDTF">2017-04-16T16:07:48Z</dcterms:modified>
  <cp:revision>20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